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6256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2438280"/>
            <a:ext cx="609624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Arial"/>
              </a:rPr>
              <a:t>The Software 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Roberto Pol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MINE, 29 Ja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2. Software products are continuously evolv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No software is error-free, and errors must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oftware technological environment is in continuous, rapid evolution, and software must be kept compatible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r needs are continuously changing, and software must ada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itself transforms the us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The “task-artifact” cyc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1981080"/>
          <a:ext cx="579132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79132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2. Software products are continuously evolv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No software is error-free, and errors must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oftware technological environment is in continuous, rapid evolution, and software must be kept compatible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r needs are continuously changing, and software must adap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oftware itself transforms the us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vendors push new release to sidestep competition and market sat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5105520"/>
            <a:ext cx="5486400" cy="459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The user dilemma: “update or lea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oftware evolution: types of chang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5080" y="3222720"/>
            <a:ext cx="119160" cy="774720"/>
          </a:xfrm>
          <a:custGeom>
            <a:avLst/>
            <a:gdLst/>
            <a:ahLst/>
            <a:rect l="l" t="t" r="r" b="b"/>
            <a:pathLst>
              <a:path w="75" h="488">
                <a:moveTo>
                  <a:pt x="75" y="0"/>
                </a:moveTo>
                <a:lnTo>
                  <a:pt x="75" y="12"/>
                </a:lnTo>
                <a:lnTo>
                  <a:pt x="65" y="23"/>
                </a:lnTo>
                <a:lnTo>
                  <a:pt x="65" y="47"/>
                </a:lnTo>
                <a:lnTo>
                  <a:pt x="54" y="59"/>
                </a:lnTo>
                <a:lnTo>
                  <a:pt x="54" y="71"/>
                </a:lnTo>
                <a:lnTo>
                  <a:pt x="43" y="83"/>
                </a:lnTo>
                <a:lnTo>
                  <a:pt x="21" y="95"/>
                </a:lnTo>
                <a:lnTo>
                  <a:pt x="11" y="107"/>
                </a:lnTo>
                <a:lnTo>
                  <a:pt x="0" y="119"/>
                </a:lnTo>
                <a:lnTo>
                  <a:pt x="0" y="488"/>
                </a:lnTo>
                <a:lnTo>
                  <a:pt x="11" y="476"/>
                </a:lnTo>
                <a:lnTo>
                  <a:pt x="21" y="464"/>
                </a:lnTo>
                <a:lnTo>
                  <a:pt x="43" y="452"/>
                </a:lnTo>
                <a:lnTo>
                  <a:pt x="54" y="440"/>
                </a:lnTo>
                <a:lnTo>
                  <a:pt x="54" y="429"/>
                </a:lnTo>
                <a:lnTo>
                  <a:pt x="65" y="417"/>
                </a:lnTo>
                <a:lnTo>
                  <a:pt x="65" y="393"/>
                </a:lnTo>
                <a:lnTo>
                  <a:pt x="75" y="381"/>
                </a:lnTo>
                <a:lnTo>
                  <a:pt x="75" y="369"/>
                </a:lnTo>
                <a:lnTo>
                  <a:pt x="75" y="0"/>
                </a:lnTo>
                <a:close/>
              </a:path>
            </a:pathLst>
          </a:custGeom>
          <a:solidFill>
            <a:srgbClr val="1a4d1a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7440" y="2673360"/>
            <a:ext cx="1936800" cy="738000"/>
          </a:xfrm>
          <a:custGeom>
            <a:avLst/>
            <a:gdLst/>
            <a:ahLst/>
            <a:rect l="l" t="t" r="r" b="b"/>
            <a:pathLst>
              <a:path w="1220" h="465">
                <a:moveTo>
                  <a:pt x="0" y="0"/>
                </a:moveTo>
                <a:lnTo>
                  <a:pt x="44" y="0"/>
                </a:lnTo>
                <a:lnTo>
                  <a:pt x="108" y="0"/>
                </a:lnTo>
                <a:lnTo>
                  <a:pt x="152" y="0"/>
                </a:lnTo>
                <a:lnTo>
                  <a:pt x="184" y="0"/>
                </a:lnTo>
                <a:lnTo>
                  <a:pt x="227" y="0"/>
                </a:lnTo>
                <a:lnTo>
                  <a:pt x="292" y="12"/>
                </a:lnTo>
                <a:lnTo>
                  <a:pt x="335" y="12"/>
                </a:lnTo>
                <a:lnTo>
                  <a:pt x="378" y="12"/>
                </a:lnTo>
                <a:lnTo>
                  <a:pt x="432" y="24"/>
                </a:lnTo>
                <a:lnTo>
                  <a:pt x="475" y="24"/>
                </a:lnTo>
                <a:lnTo>
                  <a:pt x="519" y="36"/>
                </a:lnTo>
                <a:lnTo>
                  <a:pt x="573" y="36"/>
                </a:lnTo>
                <a:lnTo>
                  <a:pt x="605" y="48"/>
                </a:lnTo>
                <a:lnTo>
                  <a:pt x="648" y="48"/>
                </a:lnTo>
                <a:lnTo>
                  <a:pt x="681" y="60"/>
                </a:lnTo>
                <a:lnTo>
                  <a:pt x="735" y="72"/>
                </a:lnTo>
                <a:lnTo>
                  <a:pt x="767" y="72"/>
                </a:lnTo>
                <a:lnTo>
                  <a:pt x="799" y="83"/>
                </a:lnTo>
                <a:lnTo>
                  <a:pt x="843" y="95"/>
                </a:lnTo>
                <a:lnTo>
                  <a:pt x="875" y="107"/>
                </a:lnTo>
                <a:lnTo>
                  <a:pt x="907" y="119"/>
                </a:lnTo>
                <a:lnTo>
                  <a:pt x="929" y="119"/>
                </a:lnTo>
                <a:lnTo>
                  <a:pt x="972" y="131"/>
                </a:lnTo>
                <a:lnTo>
                  <a:pt x="994" y="143"/>
                </a:lnTo>
                <a:lnTo>
                  <a:pt x="1026" y="155"/>
                </a:lnTo>
                <a:lnTo>
                  <a:pt x="1059" y="167"/>
                </a:lnTo>
                <a:lnTo>
                  <a:pt x="1080" y="179"/>
                </a:lnTo>
                <a:lnTo>
                  <a:pt x="1091" y="191"/>
                </a:lnTo>
                <a:lnTo>
                  <a:pt x="1112" y="203"/>
                </a:lnTo>
                <a:lnTo>
                  <a:pt x="1134" y="226"/>
                </a:lnTo>
                <a:lnTo>
                  <a:pt x="1156" y="238"/>
                </a:lnTo>
                <a:lnTo>
                  <a:pt x="1166" y="250"/>
                </a:lnTo>
                <a:lnTo>
                  <a:pt x="1177" y="262"/>
                </a:lnTo>
                <a:lnTo>
                  <a:pt x="1188" y="274"/>
                </a:lnTo>
                <a:lnTo>
                  <a:pt x="1199" y="286"/>
                </a:lnTo>
                <a:lnTo>
                  <a:pt x="1210" y="310"/>
                </a:lnTo>
                <a:lnTo>
                  <a:pt x="1210" y="322"/>
                </a:lnTo>
                <a:lnTo>
                  <a:pt x="1220" y="334"/>
                </a:lnTo>
                <a:lnTo>
                  <a:pt x="1220" y="346"/>
                </a:lnTo>
                <a:lnTo>
                  <a:pt x="1220" y="358"/>
                </a:lnTo>
                <a:lnTo>
                  <a:pt x="1210" y="369"/>
                </a:lnTo>
                <a:lnTo>
                  <a:pt x="1210" y="381"/>
                </a:lnTo>
                <a:lnTo>
                  <a:pt x="1199" y="405"/>
                </a:lnTo>
                <a:lnTo>
                  <a:pt x="1199" y="417"/>
                </a:lnTo>
                <a:lnTo>
                  <a:pt x="1188" y="429"/>
                </a:lnTo>
                <a:lnTo>
                  <a:pt x="1177" y="441"/>
                </a:lnTo>
                <a:lnTo>
                  <a:pt x="1156" y="453"/>
                </a:lnTo>
                <a:lnTo>
                  <a:pt x="1145" y="465"/>
                </a:lnTo>
                <a:lnTo>
                  <a:pt x="0" y="346"/>
                </a:lnTo>
                <a:lnTo>
                  <a:pt x="0" y="0"/>
                </a:lnTo>
                <a:close/>
              </a:path>
            </a:pathLst>
          </a:custGeom>
          <a:solidFill>
            <a:srgbClr val="339933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90640" y="3222720"/>
            <a:ext cx="635040" cy="1001520"/>
          </a:xfrm>
          <a:custGeom>
            <a:avLst/>
            <a:gdLst/>
            <a:ahLst/>
            <a:rect l="l" t="t" r="r" b="b"/>
            <a:pathLst>
              <a:path w="400" h="631">
                <a:moveTo>
                  <a:pt x="400" y="262"/>
                </a:moveTo>
                <a:lnTo>
                  <a:pt x="367" y="250"/>
                </a:lnTo>
                <a:lnTo>
                  <a:pt x="324" y="238"/>
                </a:lnTo>
                <a:lnTo>
                  <a:pt x="292" y="238"/>
                </a:lnTo>
                <a:lnTo>
                  <a:pt x="270" y="226"/>
                </a:lnTo>
                <a:lnTo>
                  <a:pt x="249" y="214"/>
                </a:lnTo>
                <a:lnTo>
                  <a:pt x="206" y="202"/>
                </a:lnTo>
                <a:lnTo>
                  <a:pt x="184" y="190"/>
                </a:lnTo>
                <a:lnTo>
                  <a:pt x="162" y="178"/>
                </a:lnTo>
                <a:lnTo>
                  <a:pt x="130" y="166"/>
                </a:lnTo>
                <a:lnTo>
                  <a:pt x="108" y="155"/>
                </a:lnTo>
                <a:lnTo>
                  <a:pt x="98" y="143"/>
                </a:lnTo>
                <a:lnTo>
                  <a:pt x="76" y="131"/>
                </a:lnTo>
                <a:lnTo>
                  <a:pt x="54" y="107"/>
                </a:lnTo>
                <a:lnTo>
                  <a:pt x="44" y="95"/>
                </a:lnTo>
                <a:lnTo>
                  <a:pt x="33" y="83"/>
                </a:lnTo>
                <a:lnTo>
                  <a:pt x="22" y="71"/>
                </a:lnTo>
                <a:lnTo>
                  <a:pt x="11" y="59"/>
                </a:lnTo>
                <a:lnTo>
                  <a:pt x="11" y="47"/>
                </a:lnTo>
                <a:lnTo>
                  <a:pt x="0" y="35"/>
                </a:lnTo>
                <a:lnTo>
                  <a:pt x="0" y="12"/>
                </a:lnTo>
                <a:lnTo>
                  <a:pt x="0" y="0"/>
                </a:lnTo>
                <a:lnTo>
                  <a:pt x="0" y="369"/>
                </a:lnTo>
                <a:lnTo>
                  <a:pt x="0" y="381"/>
                </a:lnTo>
                <a:lnTo>
                  <a:pt x="0" y="405"/>
                </a:lnTo>
                <a:lnTo>
                  <a:pt x="11" y="417"/>
                </a:lnTo>
                <a:lnTo>
                  <a:pt x="11" y="429"/>
                </a:lnTo>
                <a:lnTo>
                  <a:pt x="22" y="440"/>
                </a:lnTo>
                <a:lnTo>
                  <a:pt x="33" y="452"/>
                </a:lnTo>
                <a:lnTo>
                  <a:pt x="44" y="464"/>
                </a:lnTo>
                <a:lnTo>
                  <a:pt x="54" y="476"/>
                </a:lnTo>
                <a:lnTo>
                  <a:pt x="76" y="500"/>
                </a:lnTo>
                <a:lnTo>
                  <a:pt x="98" y="512"/>
                </a:lnTo>
                <a:lnTo>
                  <a:pt x="108" y="524"/>
                </a:lnTo>
                <a:lnTo>
                  <a:pt x="130" y="536"/>
                </a:lnTo>
                <a:lnTo>
                  <a:pt x="162" y="548"/>
                </a:lnTo>
                <a:lnTo>
                  <a:pt x="184" y="560"/>
                </a:lnTo>
                <a:lnTo>
                  <a:pt x="206" y="572"/>
                </a:lnTo>
                <a:lnTo>
                  <a:pt x="249" y="583"/>
                </a:lnTo>
                <a:lnTo>
                  <a:pt x="270" y="595"/>
                </a:lnTo>
                <a:lnTo>
                  <a:pt x="292" y="607"/>
                </a:lnTo>
                <a:lnTo>
                  <a:pt x="324" y="607"/>
                </a:lnTo>
                <a:lnTo>
                  <a:pt x="367" y="619"/>
                </a:lnTo>
                <a:lnTo>
                  <a:pt x="400" y="631"/>
                </a:lnTo>
                <a:lnTo>
                  <a:pt x="400" y="262"/>
                </a:lnTo>
                <a:close/>
              </a:path>
            </a:pathLst>
          </a:custGeom>
          <a:solidFill>
            <a:srgbClr val="001a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90640" y="2673360"/>
            <a:ext cx="1936800" cy="965160"/>
          </a:xfrm>
          <a:custGeom>
            <a:avLst/>
            <a:gdLst/>
            <a:ahLst/>
            <a:rect l="l" t="t" r="r" b="b"/>
            <a:pathLst>
              <a:path w="1220" h="608">
                <a:moveTo>
                  <a:pt x="400" y="608"/>
                </a:moveTo>
                <a:lnTo>
                  <a:pt x="367" y="596"/>
                </a:lnTo>
                <a:lnTo>
                  <a:pt x="324" y="584"/>
                </a:lnTo>
                <a:lnTo>
                  <a:pt x="292" y="584"/>
                </a:lnTo>
                <a:lnTo>
                  <a:pt x="270" y="572"/>
                </a:lnTo>
                <a:lnTo>
                  <a:pt x="227" y="560"/>
                </a:lnTo>
                <a:lnTo>
                  <a:pt x="206" y="548"/>
                </a:lnTo>
                <a:lnTo>
                  <a:pt x="184" y="536"/>
                </a:lnTo>
                <a:lnTo>
                  <a:pt x="162" y="524"/>
                </a:lnTo>
                <a:lnTo>
                  <a:pt x="130" y="512"/>
                </a:lnTo>
                <a:lnTo>
                  <a:pt x="108" y="501"/>
                </a:lnTo>
                <a:lnTo>
                  <a:pt x="98" y="489"/>
                </a:lnTo>
                <a:lnTo>
                  <a:pt x="76" y="465"/>
                </a:lnTo>
                <a:lnTo>
                  <a:pt x="54" y="453"/>
                </a:lnTo>
                <a:lnTo>
                  <a:pt x="44" y="441"/>
                </a:lnTo>
                <a:lnTo>
                  <a:pt x="33" y="429"/>
                </a:lnTo>
                <a:lnTo>
                  <a:pt x="22" y="417"/>
                </a:lnTo>
                <a:lnTo>
                  <a:pt x="11" y="405"/>
                </a:lnTo>
                <a:lnTo>
                  <a:pt x="11" y="393"/>
                </a:lnTo>
                <a:lnTo>
                  <a:pt x="0" y="369"/>
                </a:lnTo>
                <a:lnTo>
                  <a:pt x="0" y="358"/>
                </a:lnTo>
                <a:lnTo>
                  <a:pt x="0" y="346"/>
                </a:lnTo>
                <a:lnTo>
                  <a:pt x="0" y="334"/>
                </a:lnTo>
                <a:lnTo>
                  <a:pt x="0" y="322"/>
                </a:lnTo>
                <a:lnTo>
                  <a:pt x="11" y="310"/>
                </a:lnTo>
                <a:lnTo>
                  <a:pt x="11" y="286"/>
                </a:lnTo>
                <a:lnTo>
                  <a:pt x="22" y="274"/>
                </a:lnTo>
                <a:lnTo>
                  <a:pt x="33" y="262"/>
                </a:lnTo>
                <a:lnTo>
                  <a:pt x="44" y="250"/>
                </a:lnTo>
                <a:lnTo>
                  <a:pt x="65" y="238"/>
                </a:lnTo>
                <a:lnTo>
                  <a:pt x="76" y="226"/>
                </a:lnTo>
                <a:lnTo>
                  <a:pt x="98" y="215"/>
                </a:lnTo>
                <a:lnTo>
                  <a:pt x="119" y="191"/>
                </a:lnTo>
                <a:lnTo>
                  <a:pt x="141" y="179"/>
                </a:lnTo>
                <a:lnTo>
                  <a:pt x="162" y="167"/>
                </a:lnTo>
                <a:lnTo>
                  <a:pt x="195" y="155"/>
                </a:lnTo>
                <a:lnTo>
                  <a:pt x="216" y="143"/>
                </a:lnTo>
                <a:lnTo>
                  <a:pt x="249" y="131"/>
                </a:lnTo>
                <a:lnTo>
                  <a:pt x="270" y="131"/>
                </a:lnTo>
                <a:lnTo>
                  <a:pt x="313" y="119"/>
                </a:lnTo>
                <a:lnTo>
                  <a:pt x="335" y="107"/>
                </a:lnTo>
                <a:lnTo>
                  <a:pt x="367" y="95"/>
                </a:lnTo>
                <a:lnTo>
                  <a:pt x="421" y="83"/>
                </a:lnTo>
                <a:lnTo>
                  <a:pt x="454" y="72"/>
                </a:lnTo>
                <a:lnTo>
                  <a:pt x="486" y="72"/>
                </a:lnTo>
                <a:lnTo>
                  <a:pt x="540" y="60"/>
                </a:lnTo>
                <a:lnTo>
                  <a:pt x="573" y="48"/>
                </a:lnTo>
                <a:lnTo>
                  <a:pt x="605" y="48"/>
                </a:lnTo>
                <a:lnTo>
                  <a:pt x="648" y="36"/>
                </a:lnTo>
                <a:lnTo>
                  <a:pt x="702" y="36"/>
                </a:lnTo>
                <a:lnTo>
                  <a:pt x="745" y="24"/>
                </a:lnTo>
                <a:lnTo>
                  <a:pt x="778" y="24"/>
                </a:lnTo>
                <a:lnTo>
                  <a:pt x="843" y="12"/>
                </a:lnTo>
                <a:lnTo>
                  <a:pt x="886" y="12"/>
                </a:lnTo>
                <a:lnTo>
                  <a:pt x="918" y="12"/>
                </a:lnTo>
                <a:lnTo>
                  <a:pt x="983" y="0"/>
                </a:lnTo>
                <a:lnTo>
                  <a:pt x="1026" y="0"/>
                </a:lnTo>
                <a:lnTo>
                  <a:pt x="1069" y="0"/>
                </a:lnTo>
                <a:lnTo>
                  <a:pt x="1112" y="0"/>
                </a:lnTo>
                <a:lnTo>
                  <a:pt x="1177" y="0"/>
                </a:lnTo>
                <a:lnTo>
                  <a:pt x="1220" y="0"/>
                </a:lnTo>
                <a:lnTo>
                  <a:pt x="1220" y="346"/>
                </a:lnTo>
                <a:lnTo>
                  <a:pt x="400" y="608"/>
                </a:lnTo>
                <a:close/>
              </a:path>
            </a:pathLst>
          </a:custGeom>
          <a:solidFill>
            <a:srgbClr val="0033cc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25680" y="3411360"/>
            <a:ext cx="3119400" cy="963720"/>
          </a:xfrm>
          <a:custGeom>
            <a:avLst/>
            <a:gdLst/>
            <a:ahLst/>
            <a:rect l="l" t="t" r="r" b="b"/>
            <a:pathLst>
              <a:path w="1965" h="607">
                <a:moveTo>
                  <a:pt x="1965" y="0"/>
                </a:moveTo>
                <a:lnTo>
                  <a:pt x="1954" y="12"/>
                </a:lnTo>
                <a:lnTo>
                  <a:pt x="1922" y="36"/>
                </a:lnTo>
                <a:lnTo>
                  <a:pt x="1900" y="47"/>
                </a:lnTo>
                <a:lnTo>
                  <a:pt x="1889" y="59"/>
                </a:lnTo>
                <a:lnTo>
                  <a:pt x="1857" y="71"/>
                </a:lnTo>
                <a:lnTo>
                  <a:pt x="1825" y="83"/>
                </a:lnTo>
                <a:lnTo>
                  <a:pt x="1803" y="95"/>
                </a:lnTo>
                <a:lnTo>
                  <a:pt x="1771" y="107"/>
                </a:lnTo>
                <a:lnTo>
                  <a:pt x="1738" y="119"/>
                </a:lnTo>
                <a:lnTo>
                  <a:pt x="1706" y="119"/>
                </a:lnTo>
                <a:lnTo>
                  <a:pt x="1663" y="131"/>
                </a:lnTo>
                <a:lnTo>
                  <a:pt x="1630" y="143"/>
                </a:lnTo>
                <a:lnTo>
                  <a:pt x="1598" y="155"/>
                </a:lnTo>
                <a:lnTo>
                  <a:pt x="1555" y="167"/>
                </a:lnTo>
                <a:lnTo>
                  <a:pt x="1522" y="167"/>
                </a:lnTo>
                <a:lnTo>
                  <a:pt x="1479" y="178"/>
                </a:lnTo>
                <a:lnTo>
                  <a:pt x="1425" y="190"/>
                </a:lnTo>
                <a:lnTo>
                  <a:pt x="1393" y="190"/>
                </a:lnTo>
                <a:lnTo>
                  <a:pt x="1349" y="202"/>
                </a:lnTo>
                <a:lnTo>
                  <a:pt x="1295" y="202"/>
                </a:lnTo>
                <a:lnTo>
                  <a:pt x="1252" y="214"/>
                </a:lnTo>
                <a:lnTo>
                  <a:pt x="1220" y="214"/>
                </a:lnTo>
                <a:lnTo>
                  <a:pt x="1155" y="226"/>
                </a:lnTo>
                <a:lnTo>
                  <a:pt x="1112" y="226"/>
                </a:lnTo>
                <a:lnTo>
                  <a:pt x="1069" y="226"/>
                </a:lnTo>
                <a:lnTo>
                  <a:pt x="1004" y="226"/>
                </a:lnTo>
                <a:lnTo>
                  <a:pt x="972" y="238"/>
                </a:lnTo>
                <a:lnTo>
                  <a:pt x="928" y="238"/>
                </a:lnTo>
                <a:lnTo>
                  <a:pt x="864" y="238"/>
                </a:lnTo>
                <a:lnTo>
                  <a:pt x="820" y="238"/>
                </a:lnTo>
                <a:lnTo>
                  <a:pt x="777" y="238"/>
                </a:lnTo>
                <a:lnTo>
                  <a:pt x="712" y="238"/>
                </a:lnTo>
                <a:lnTo>
                  <a:pt x="669" y="238"/>
                </a:lnTo>
                <a:lnTo>
                  <a:pt x="626" y="226"/>
                </a:lnTo>
                <a:lnTo>
                  <a:pt x="561" y="226"/>
                </a:lnTo>
                <a:lnTo>
                  <a:pt x="518" y="226"/>
                </a:lnTo>
                <a:lnTo>
                  <a:pt x="486" y="226"/>
                </a:lnTo>
                <a:lnTo>
                  <a:pt x="421" y="214"/>
                </a:lnTo>
                <a:lnTo>
                  <a:pt x="378" y="214"/>
                </a:lnTo>
                <a:lnTo>
                  <a:pt x="345" y="202"/>
                </a:lnTo>
                <a:lnTo>
                  <a:pt x="281" y="202"/>
                </a:lnTo>
                <a:lnTo>
                  <a:pt x="248" y="190"/>
                </a:lnTo>
                <a:lnTo>
                  <a:pt x="205" y="190"/>
                </a:lnTo>
                <a:lnTo>
                  <a:pt x="151" y="178"/>
                </a:lnTo>
                <a:lnTo>
                  <a:pt x="119" y="167"/>
                </a:lnTo>
                <a:lnTo>
                  <a:pt x="86" y="167"/>
                </a:lnTo>
                <a:lnTo>
                  <a:pt x="32" y="155"/>
                </a:lnTo>
                <a:lnTo>
                  <a:pt x="0" y="143"/>
                </a:lnTo>
                <a:lnTo>
                  <a:pt x="0" y="512"/>
                </a:lnTo>
                <a:lnTo>
                  <a:pt x="32" y="524"/>
                </a:lnTo>
                <a:lnTo>
                  <a:pt x="86" y="536"/>
                </a:lnTo>
                <a:lnTo>
                  <a:pt x="119" y="536"/>
                </a:lnTo>
                <a:lnTo>
                  <a:pt x="151" y="548"/>
                </a:lnTo>
                <a:lnTo>
                  <a:pt x="205" y="560"/>
                </a:lnTo>
                <a:lnTo>
                  <a:pt x="248" y="560"/>
                </a:lnTo>
                <a:lnTo>
                  <a:pt x="281" y="572"/>
                </a:lnTo>
                <a:lnTo>
                  <a:pt x="345" y="572"/>
                </a:lnTo>
                <a:lnTo>
                  <a:pt x="378" y="584"/>
                </a:lnTo>
                <a:lnTo>
                  <a:pt x="421" y="584"/>
                </a:lnTo>
                <a:lnTo>
                  <a:pt x="486" y="596"/>
                </a:lnTo>
                <a:lnTo>
                  <a:pt x="518" y="596"/>
                </a:lnTo>
                <a:lnTo>
                  <a:pt x="561" y="596"/>
                </a:lnTo>
                <a:lnTo>
                  <a:pt x="626" y="596"/>
                </a:lnTo>
                <a:lnTo>
                  <a:pt x="669" y="607"/>
                </a:lnTo>
                <a:lnTo>
                  <a:pt x="712" y="607"/>
                </a:lnTo>
                <a:lnTo>
                  <a:pt x="777" y="607"/>
                </a:lnTo>
                <a:lnTo>
                  <a:pt x="820" y="607"/>
                </a:lnTo>
                <a:lnTo>
                  <a:pt x="864" y="607"/>
                </a:lnTo>
                <a:lnTo>
                  <a:pt x="928" y="607"/>
                </a:lnTo>
                <a:lnTo>
                  <a:pt x="972" y="607"/>
                </a:lnTo>
                <a:lnTo>
                  <a:pt x="1004" y="596"/>
                </a:lnTo>
                <a:lnTo>
                  <a:pt x="1069" y="596"/>
                </a:lnTo>
                <a:lnTo>
                  <a:pt x="1112" y="596"/>
                </a:lnTo>
                <a:lnTo>
                  <a:pt x="1155" y="596"/>
                </a:lnTo>
                <a:lnTo>
                  <a:pt x="1220" y="584"/>
                </a:lnTo>
                <a:lnTo>
                  <a:pt x="1252" y="584"/>
                </a:lnTo>
                <a:lnTo>
                  <a:pt x="1295" y="572"/>
                </a:lnTo>
                <a:lnTo>
                  <a:pt x="1349" y="572"/>
                </a:lnTo>
                <a:lnTo>
                  <a:pt x="1393" y="560"/>
                </a:lnTo>
                <a:lnTo>
                  <a:pt x="1425" y="560"/>
                </a:lnTo>
                <a:lnTo>
                  <a:pt x="1479" y="548"/>
                </a:lnTo>
                <a:lnTo>
                  <a:pt x="1522" y="536"/>
                </a:lnTo>
                <a:lnTo>
                  <a:pt x="1555" y="536"/>
                </a:lnTo>
                <a:lnTo>
                  <a:pt x="1598" y="524"/>
                </a:lnTo>
                <a:lnTo>
                  <a:pt x="1630" y="512"/>
                </a:lnTo>
                <a:lnTo>
                  <a:pt x="1663" y="500"/>
                </a:lnTo>
                <a:lnTo>
                  <a:pt x="1706" y="488"/>
                </a:lnTo>
                <a:lnTo>
                  <a:pt x="1738" y="488"/>
                </a:lnTo>
                <a:lnTo>
                  <a:pt x="1771" y="476"/>
                </a:lnTo>
                <a:lnTo>
                  <a:pt x="1803" y="464"/>
                </a:lnTo>
                <a:lnTo>
                  <a:pt x="1825" y="453"/>
                </a:lnTo>
                <a:lnTo>
                  <a:pt x="1857" y="441"/>
                </a:lnTo>
                <a:lnTo>
                  <a:pt x="1889" y="429"/>
                </a:lnTo>
                <a:lnTo>
                  <a:pt x="1900" y="417"/>
                </a:lnTo>
                <a:lnTo>
                  <a:pt x="1922" y="405"/>
                </a:lnTo>
                <a:lnTo>
                  <a:pt x="1954" y="381"/>
                </a:lnTo>
                <a:lnTo>
                  <a:pt x="1965" y="369"/>
                </a:lnTo>
                <a:lnTo>
                  <a:pt x="1965" y="0"/>
                </a:lnTo>
                <a:close/>
              </a:path>
            </a:pathLst>
          </a:custGeom>
          <a:solidFill>
            <a:srgbClr val="4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5680" y="3222720"/>
            <a:ext cx="3119400" cy="566640"/>
          </a:xfrm>
          <a:custGeom>
            <a:avLst/>
            <a:gdLst/>
            <a:ahLst/>
            <a:rect l="l" t="t" r="r" b="b"/>
            <a:pathLst>
              <a:path w="1965" h="357">
                <a:moveTo>
                  <a:pt x="1965" y="119"/>
                </a:moveTo>
                <a:lnTo>
                  <a:pt x="1954" y="131"/>
                </a:lnTo>
                <a:lnTo>
                  <a:pt x="1922" y="155"/>
                </a:lnTo>
                <a:lnTo>
                  <a:pt x="1900" y="166"/>
                </a:lnTo>
                <a:lnTo>
                  <a:pt x="1889" y="178"/>
                </a:lnTo>
                <a:lnTo>
                  <a:pt x="1857" y="190"/>
                </a:lnTo>
                <a:lnTo>
                  <a:pt x="1825" y="202"/>
                </a:lnTo>
                <a:lnTo>
                  <a:pt x="1803" y="214"/>
                </a:lnTo>
                <a:lnTo>
                  <a:pt x="1771" y="226"/>
                </a:lnTo>
                <a:lnTo>
                  <a:pt x="1738" y="238"/>
                </a:lnTo>
                <a:lnTo>
                  <a:pt x="1706" y="238"/>
                </a:lnTo>
                <a:lnTo>
                  <a:pt x="1663" y="250"/>
                </a:lnTo>
                <a:lnTo>
                  <a:pt x="1630" y="262"/>
                </a:lnTo>
                <a:lnTo>
                  <a:pt x="1598" y="274"/>
                </a:lnTo>
                <a:lnTo>
                  <a:pt x="1555" y="286"/>
                </a:lnTo>
                <a:lnTo>
                  <a:pt x="1522" y="286"/>
                </a:lnTo>
                <a:lnTo>
                  <a:pt x="1479" y="297"/>
                </a:lnTo>
                <a:lnTo>
                  <a:pt x="1425" y="309"/>
                </a:lnTo>
                <a:lnTo>
                  <a:pt x="1393" y="309"/>
                </a:lnTo>
                <a:lnTo>
                  <a:pt x="1349" y="321"/>
                </a:lnTo>
                <a:lnTo>
                  <a:pt x="1295" y="321"/>
                </a:lnTo>
                <a:lnTo>
                  <a:pt x="1252" y="333"/>
                </a:lnTo>
                <a:lnTo>
                  <a:pt x="1220" y="333"/>
                </a:lnTo>
                <a:lnTo>
                  <a:pt x="1155" y="345"/>
                </a:lnTo>
                <a:lnTo>
                  <a:pt x="1112" y="345"/>
                </a:lnTo>
                <a:lnTo>
                  <a:pt x="1069" y="345"/>
                </a:lnTo>
                <a:lnTo>
                  <a:pt x="1004" y="345"/>
                </a:lnTo>
                <a:lnTo>
                  <a:pt x="972" y="357"/>
                </a:lnTo>
                <a:lnTo>
                  <a:pt x="928" y="357"/>
                </a:lnTo>
                <a:lnTo>
                  <a:pt x="864" y="357"/>
                </a:lnTo>
                <a:lnTo>
                  <a:pt x="820" y="357"/>
                </a:lnTo>
                <a:lnTo>
                  <a:pt x="777" y="357"/>
                </a:lnTo>
                <a:lnTo>
                  <a:pt x="712" y="357"/>
                </a:lnTo>
                <a:lnTo>
                  <a:pt x="669" y="357"/>
                </a:lnTo>
                <a:lnTo>
                  <a:pt x="626" y="345"/>
                </a:lnTo>
                <a:lnTo>
                  <a:pt x="561" y="345"/>
                </a:lnTo>
                <a:lnTo>
                  <a:pt x="518" y="345"/>
                </a:lnTo>
                <a:lnTo>
                  <a:pt x="486" y="345"/>
                </a:lnTo>
                <a:lnTo>
                  <a:pt x="421" y="333"/>
                </a:lnTo>
                <a:lnTo>
                  <a:pt x="378" y="333"/>
                </a:lnTo>
                <a:lnTo>
                  <a:pt x="345" y="321"/>
                </a:lnTo>
                <a:lnTo>
                  <a:pt x="281" y="321"/>
                </a:lnTo>
                <a:lnTo>
                  <a:pt x="248" y="309"/>
                </a:lnTo>
                <a:lnTo>
                  <a:pt x="205" y="309"/>
                </a:lnTo>
                <a:lnTo>
                  <a:pt x="151" y="297"/>
                </a:lnTo>
                <a:lnTo>
                  <a:pt x="119" y="286"/>
                </a:lnTo>
                <a:lnTo>
                  <a:pt x="86" y="286"/>
                </a:lnTo>
                <a:lnTo>
                  <a:pt x="32" y="274"/>
                </a:lnTo>
                <a:lnTo>
                  <a:pt x="0" y="262"/>
                </a:lnTo>
                <a:lnTo>
                  <a:pt x="820" y="0"/>
                </a:lnTo>
                <a:lnTo>
                  <a:pt x="1965" y="119"/>
                </a:lnTo>
                <a:close/>
              </a:path>
            </a:pathLst>
          </a:custGeom>
          <a:solidFill>
            <a:srgbClr val="8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5040" y="23335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5120" y="2635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6920" y="439416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cor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5240" y="46972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4320" y="23893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17400" y="2692440"/>
            <a:ext cx="145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91160" y="2995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1120" y="5778360"/>
            <a:ext cx="24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300" spc="-1" strike="noStrike">
                <a:solidFill>
                  <a:srgbClr val="808000"/>
                </a:solidFill>
                <a:latin typeface="Arial"/>
              </a:rPr>
              <a:t>Source: IT Metrics, March 19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3. Software has a peculiar cost structur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ftware development is extremely cos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ftware reproduction costs are practically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eeping a software alive is very cos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2895480"/>
            <a:ext cx="5486400" cy="3205440"/>
            <a:chOff x="1295280" y="2895480"/>
            <a:chExt cx="5486400" cy="3205440"/>
          </a:xfrm>
        </p:grpSpPr>
        <p:graphicFrame>
          <p:nvGraphicFramePr>
            <p:cNvPr id="126" name=""/>
            <p:cNvGraphicFramePr/>
            <p:nvPr/>
          </p:nvGraphicFramePr>
          <p:xfrm>
            <a:off x="1295280" y="2895480"/>
            <a:ext cx="5486400" cy="3205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95480"/>
                      <a:ext cx="5486400" cy="320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2819520" y="3554280"/>
              <a:ext cx="3962160" cy="916920"/>
            </a:xfrm>
            <a:prstGeom prst="rect">
              <a:avLst/>
            </a:prstGeom>
            <a:noFill/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5f5f5f"/>
                  </a:solidFill>
                  <a:latin typeface="Arial"/>
                </a:rPr>
                <a:t>Software marginal costs of a software release tend to zero as the number of copies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4. Software is a “systemic” produc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y software product requires a complex system of other products and services, in order to be 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0384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is has far reaching consequences, which need to be well understoo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etition between two “traditional” products of “same quality”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9480" y="1371600"/>
            <a:ext cx="3346560" cy="4038480"/>
            <a:chOff x="609480" y="1371600"/>
            <a:chExt cx="3346560" cy="4038480"/>
          </a:xfrm>
        </p:grpSpPr>
        <p:pic>
          <p:nvPicPr>
            <p:cNvPr id="134" name="bottle" descr="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157500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cokebottle" descr=""/>
            <p:cNvPicPr/>
            <p:nvPr/>
          </p:nvPicPr>
          <p:blipFill>
            <a:blip r:embed="rId2"/>
            <a:srcRect l="16667" t="0" r="19997" b="0"/>
            <a:stretch/>
          </p:blipFill>
          <p:spPr>
            <a:xfrm>
              <a:off x="2438280" y="1371600"/>
              <a:ext cx="1517760" cy="4038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136" name=""/>
          <p:cNvSpPr/>
          <p:nvPr/>
        </p:nvSpPr>
        <p:spPr>
          <a:xfrm>
            <a:off x="4267080" y="1447920"/>
            <a:ext cx="4343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pric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market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352680"/>
            <a:ext cx="2971800" cy="1739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Law of decreasing retu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Systemic products behave differently…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cannot be easily substitute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y a competing products, un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the competing product mantains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compatibil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ith   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all other products i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we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substitute the whole product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The more widespread they are, the more they are difficult to substit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Law of Increasing Retur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duct surpasses “by chance” the market sh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mpeting products, it will gain increasing mark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up to 100%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ly from its pric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ts quality relative to competition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962520"/>
            <a:ext cx="4724640" cy="70344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Winner takes all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8053" r="0" b="0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990720"/>
          <a:ext cx="8686800" cy="47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934320" y="1600200"/>
            <a:ext cx="0" cy="4343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rce: IDC, Sep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Size &amp; growth of the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nsequenc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first mo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s a strong  competitive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uccess of a technology may depend on small accidental events, which cause it to win a small market advantage at the beginning, which starts the “avalanche effect”,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y not be related to its tech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3581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ftware industry, “de iure” standards fail, while “de facto” standards 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uter industry is now characterized by a number of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self-enforcing monopol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creates an ecosystem wìth very strong barriers to ent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cosystems tend to cluster geograph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2. The software industry eco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19520" y="3429000"/>
            <a:ext cx="2666880" cy="914400"/>
            <a:chOff x="2819520" y="3429000"/>
            <a:chExt cx="2666880" cy="914400"/>
          </a:xfrm>
        </p:grpSpPr>
        <p:sp>
          <p:nvSpPr>
            <p:cNvPr id="150" name=""/>
            <p:cNvSpPr/>
            <p:nvPr/>
          </p:nvSpPr>
          <p:spPr>
            <a:xfrm>
              <a:off x="3581280" y="3429000"/>
              <a:ext cx="1905120" cy="9144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19520" y="3886200"/>
              <a:ext cx="761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86400" y="3429000"/>
            <a:ext cx="2743200" cy="914400"/>
            <a:chOff x="5486400" y="3429000"/>
            <a:chExt cx="2743200" cy="914400"/>
          </a:xfrm>
        </p:grpSpPr>
        <p:sp>
          <p:nvSpPr>
            <p:cNvPr id="153" name=""/>
            <p:cNvSpPr/>
            <p:nvPr/>
          </p:nvSpPr>
          <p:spPr>
            <a:xfrm>
              <a:off x="6324480" y="3429000"/>
              <a:ext cx="1905120" cy="9144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Outsour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3886200"/>
              <a:ext cx="83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819520" y="2133720"/>
            <a:ext cx="167616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3429000"/>
            <a:ext cx="1905120" cy="1447920"/>
            <a:chOff x="914400" y="3429000"/>
            <a:chExt cx="1905120" cy="1447920"/>
          </a:xfrm>
        </p:grpSpPr>
        <p:sp>
          <p:nvSpPr>
            <p:cNvPr id="158" name=""/>
            <p:cNvSpPr/>
            <p:nvPr/>
          </p:nvSpPr>
          <p:spPr>
            <a:xfrm>
              <a:off x="914400" y="3429000"/>
              <a:ext cx="1905120" cy="91440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oftware 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Ve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8800" y="434340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19520" y="3429000"/>
            <a:ext cx="2666880" cy="914400"/>
            <a:chOff x="2819520" y="3429000"/>
            <a:chExt cx="2666880" cy="914400"/>
          </a:xfrm>
        </p:grpSpPr>
        <p:sp>
          <p:nvSpPr>
            <p:cNvPr id="165" name=""/>
            <p:cNvSpPr/>
            <p:nvPr/>
          </p:nvSpPr>
          <p:spPr>
            <a:xfrm>
              <a:off x="3581280" y="3429000"/>
              <a:ext cx="1905120" cy="9144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9520" y="3886200"/>
              <a:ext cx="761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486400" y="3429000"/>
            <a:ext cx="2743200" cy="914400"/>
            <a:chOff x="5486400" y="3429000"/>
            <a:chExt cx="2743200" cy="914400"/>
          </a:xfrm>
        </p:grpSpPr>
        <p:sp>
          <p:nvSpPr>
            <p:cNvPr id="168" name=""/>
            <p:cNvSpPr/>
            <p:nvPr/>
          </p:nvSpPr>
          <p:spPr>
            <a:xfrm>
              <a:off x="6324480" y="3429000"/>
              <a:ext cx="1905120" cy="9144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Outsour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3886200"/>
              <a:ext cx="83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00400" y="1600200"/>
            <a:ext cx="1905120" cy="1828800"/>
            <a:chOff x="3200400" y="1600200"/>
            <a:chExt cx="1905120" cy="1828800"/>
          </a:xfrm>
        </p:grpSpPr>
        <p:sp>
          <p:nvSpPr>
            <p:cNvPr id="171" name=""/>
            <p:cNvSpPr/>
            <p:nvPr/>
          </p:nvSpPr>
          <p:spPr>
            <a:xfrm>
              <a:off x="4191120" y="2514600"/>
              <a:ext cx="30456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solidFill>
              <a:srgbClr val="00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14400" y="1600200"/>
            <a:ext cx="2286000" cy="914400"/>
            <a:chOff x="914400" y="1600200"/>
            <a:chExt cx="2286000" cy="914400"/>
          </a:xfrm>
        </p:grpSpPr>
        <p:sp>
          <p:nvSpPr>
            <p:cNvPr id="174" name=""/>
            <p:cNvSpPr/>
            <p:nvPr/>
          </p:nvSpPr>
          <p:spPr>
            <a:xfrm>
              <a:off x="914400" y="1600200"/>
              <a:ext cx="1905120" cy="9144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3429000"/>
            <a:ext cx="1905120" cy="1447920"/>
            <a:chOff x="914400" y="3429000"/>
            <a:chExt cx="1905120" cy="1447920"/>
          </a:xfrm>
        </p:grpSpPr>
        <p:sp>
          <p:nvSpPr>
            <p:cNvPr id="178" name=""/>
            <p:cNvSpPr/>
            <p:nvPr/>
          </p:nvSpPr>
          <p:spPr>
            <a:xfrm>
              <a:off x="914400" y="3429000"/>
              <a:ext cx="1905120" cy="91440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oftware 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Ve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828800" y="434340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187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190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192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198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solidFill>
              <a:srgbClr val="00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3429000"/>
            <a:ext cx="1905120" cy="1447920"/>
            <a:chOff x="914400" y="3429000"/>
            <a:chExt cx="1905120" cy="1447920"/>
          </a:xfrm>
        </p:grpSpPr>
        <p:sp>
          <p:nvSpPr>
            <p:cNvPr id="202" name=""/>
            <p:cNvSpPr/>
            <p:nvPr/>
          </p:nvSpPr>
          <p:spPr>
            <a:xfrm>
              <a:off x="914400" y="3429000"/>
              <a:ext cx="1905120" cy="91440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oftware 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Ve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28800" y="434340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211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214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216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222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solidFill>
              <a:srgbClr val="00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233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236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238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244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66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255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258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0000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260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266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66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277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280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282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288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66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299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302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304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310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66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ftware as an industri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software industry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321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324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326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ff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332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66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19920" y="2057400"/>
            <a:ext cx="2514600" cy="36576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sour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The value network of software indust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3429000"/>
            <a:ext cx="19051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34290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ft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324480" y="2438280"/>
            <a:ext cx="1905120" cy="1981440"/>
            <a:chOff x="6324480" y="2438280"/>
            <a:chExt cx="1905120" cy="1981440"/>
          </a:xfrm>
        </p:grpSpPr>
        <p:sp>
          <p:nvSpPr>
            <p:cNvPr id="343" name=""/>
            <p:cNvSpPr/>
            <p:nvPr/>
          </p:nvSpPr>
          <p:spPr>
            <a:xfrm>
              <a:off x="6324480" y="243828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238880" y="3352680"/>
              <a:ext cx="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486400" y="3886200"/>
            <a:ext cx="2743200" cy="1447920"/>
            <a:chOff x="5486400" y="3886200"/>
            <a:chExt cx="2743200" cy="1447920"/>
          </a:xfrm>
        </p:grpSpPr>
        <p:sp>
          <p:nvSpPr>
            <p:cNvPr id="346" name=""/>
            <p:cNvSpPr/>
            <p:nvPr/>
          </p:nvSpPr>
          <p:spPr>
            <a:xfrm>
              <a:off x="6324480" y="441972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86400" y="3886200"/>
              <a:ext cx="838080" cy="1066680"/>
              <a:chOff x="5486400" y="3886200"/>
              <a:chExt cx="838080" cy="1066680"/>
            </a:xfrm>
          </p:grpSpPr>
          <p:sp>
            <p:nvSpPr>
              <p:cNvPr id="348" name=""/>
              <p:cNvSpPr/>
              <p:nvPr/>
            </p:nvSpPr>
            <p:spPr>
              <a:xfrm>
                <a:off x="5486400" y="3886200"/>
                <a:ext cx="83808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86400" y="3886200"/>
                <a:ext cx="5335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762120" y="1295280"/>
            <a:ext cx="4572000" cy="18288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60020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ff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1120" y="2514600"/>
            <a:ext cx="30456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819520" y="1600200"/>
            <a:ext cx="2286000" cy="914400"/>
            <a:chOff x="2819520" y="1600200"/>
            <a:chExt cx="2286000" cy="914400"/>
          </a:xfrm>
        </p:grpSpPr>
        <p:sp>
          <p:nvSpPr>
            <p:cNvPr id="354" name=""/>
            <p:cNvSpPr/>
            <p:nvPr/>
          </p:nvSpPr>
          <p:spPr>
            <a:xfrm>
              <a:off x="3200400" y="1600200"/>
              <a:ext cx="190512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3366"/>
                </a:gs>
              </a:gsLst>
              <a:lin ang="135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olution/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19520" y="20574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19920" y="1371600"/>
            <a:ext cx="2590560" cy="213372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8511200">
            <a:off x="3888360" y="1293120"/>
            <a:ext cx="2286000" cy="472932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609480"/>
            <a:ext cx="2590920" cy="213372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2362320"/>
            <a:ext cx="8140680" cy="3797280"/>
          </a:xfrm>
          <a:custGeom>
            <a:avLst/>
            <a:gdLst/>
            <a:ahLst/>
            <a:rect l="l" t="t" r="r" b="b"/>
            <a:pathLst>
              <a:path w="5128" h="2392">
                <a:moveTo>
                  <a:pt x="0" y="0"/>
                </a:moveTo>
                <a:cubicBezTo>
                  <a:pt x="156" y="116"/>
                  <a:pt x="312" y="232"/>
                  <a:pt x="576" y="336"/>
                </a:cubicBezTo>
                <a:cubicBezTo>
                  <a:pt x="840" y="440"/>
                  <a:pt x="1320" y="432"/>
                  <a:pt x="1584" y="624"/>
                </a:cubicBezTo>
                <a:cubicBezTo>
                  <a:pt x="1848" y="816"/>
                  <a:pt x="1792" y="1216"/>
                  <a:pt x="2160" y="1488"/>
                </a:cubicBezTo>
                <a:cubicBezTo>
                  <a:pt x="2528" y="1760"/>
                  <a:pt x="3328" y="2120"/>
                  <a:pt x="3792" y="2256"/>
                </a:cubicBezTo>
                <a:cubicBezTo>
                  <a:pt x="4256" y="2392"/>
                  <a:pt x="4760" y="2296"/>
                  <a:pt x="4944" y="2304"/>
                </a:cubicBezTo>
                <a:cubicBezTo>
                  <a:pt x="5128" y="2312"/>
                  <a:pt x="4896" y="2304"/>
                  <a:pt x="4896" y="2304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29200" y="1219320"/>
            <a:ext cx="28954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69696"/>
                </a:solidFill>
                <a:latin typeface="Arial"/>
              </a:rPr>
              <a:t>SERVICE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4876920"/>
            <a:ext cx="1905120" cy="914400"/>
          </a:xfrm>
          <a:prstGeom prst="ellipse">
            <a:avLst/>
          </a:prstGeom>
          <a:solidFill>
            <a:srgbClr val="5f5f5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5181480"/>
            <a:ext cx="28954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69696"/>
                </a:solidFill>
                <a:latin typeface="Arial"/>
              </a:rPr>
              <a:t>PRODUCT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238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Arial"/>
              </a:rPr>
              <a:t>www.rpolillo.it</a:t>
            </a:r>
            <a:br>
              <a:rPr sz="3600"/>
            </a:br>
            <a:r>
              <a:rPr b="0" lang="it-IT" sz="3600" spc="-1" strike="noStrike">
                <a:solidFill>
                  <a:srgbClr val="800000"/>
                </a:solidFill>
                <a:latin typeface="Arial"/>
              </a:rPr>
              <a:t>rpolillo@etnoteam.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1. Software as an industrial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1. Software is a brain intensive produc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ftware factories” are not factories at all, but “communities” of highly skilled and inventiv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2. Software products are continuously evolv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oftware is error-free, and errors must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2. Software products are continuously evolv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No software is error-free, and errors must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technological environment is in continuous, rapid evolution, and software must be kept compatible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62120" y="914400"/>
            <a:ext cx="7467480" cy="4800600"/>
            <a:chOff x="762120" y="914400"/>
            <a:chExt cx="7467480" cy="4800600"/>
          </a:xfrm>
        </p:grpSpPr>
        <p:grpSp>
          <p:nvGrpSpPr>
            <p:cNvPr id="94" name=""/>
            <p:cNvGrpSpPr/>
            <p:nvPr/>
          </p:nvGrpSpPr>
          <p:grpSpPr>
            <a:xfrm>
              <a:off x="762120" y="914400"/>
              <a:ext cx="7467480" cy="4800600"/>
              <a:chOff x="762120" y="914400"/>
              <a:chExt cx="7467480" cy="4800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rcRect l="16666" t="29143" r="18753" b="12755"/>
              <a:stretch/>
            </p:blipFill>
            <p:spPr>
              <a:xfrm>
                <a:off x="762120" y="914400"/>
                <a:ext cx="7467480" cy="46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010280" y="533412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066680" y="914400"/>
              <a:ext cx="2133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2. Software products are continuously evolv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No software is error-free, and errors must be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oftware technological environment is in continuous, rapid evolution, and software must be kept compatible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needs are continuously changing, and software must adap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2:03:31Z</dcterms:created>
  <dc:creator>Serg</dc:creator>
  <dc:description/>
  <dc:language>en-US</dc:language>
  <cp:lastModifiedBy>rpolillo</cp:lastModifiedBy>
  <cp:lastPrinted>2000-04-26T15:56:37Z</cp:lastPrinted>
  <dcterms:modified xsi:type="dcterms:W3CDTF">2003-01-29T17:55:23Z</dcterms:modified>
  <cp:revision>214</cp:revision>
  <dc:subject/>
  <dc:title>Nessun titolo diapositiva</dc:title>
</cp:coreProperties>
</file>