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jpeg" ContentType="image/jpe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6256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3880" y="1600200"/>
            <a:ext cx="6019920" cy="30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Comunicazione d’impresa 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Roberto Pol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Etnoteam e Università di Milano Bicoc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Intranet portal (Enterprise Portal)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14400" y="1371240"/>
            <a:ext cx="7162920" cy="4191480"/>
            <a:chOff x="914400" y="1371240"/>
            <a:chExt cx="7162920" cy="4191480"/>
          </a:xfrm>
        </p:grpSpPr>
        <p:sp>
          <p:nvSpPr>
            <p:cNvPr id="185" name=""/>
            <p:cNvSpPr/>
            <p:nvPr/>
          </p:nvSpPr>
          <p:spPr>
            <a:xfrm>
              <a:off x="3657600" y="1905120"/>
              <a:ext cx="1676520" cy="16761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I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914400" y="2209680"/>
              <a:ext cx="2743200" cy="914400"/>
              <a:chOff x="914400" y="2209680"/>
              <a:chExt cx="2743200" cy="914400"/>
            </a:xfrm>
          </p:grpSpPr>
          <p:sp>
            <p:nvSpPr>
              <p:cNvPr id="187" name=""/>
              <p:cNvSpPr/>
              <p:nvPr/>
            </p:nvSpPr>
            <p:spPr>
              <a:xfrm>
                <a:off x="2590920" y="2362320"/>
                <a:ext cx="1066680" cy="685800"/>
              </a:xfrm>
              <a:prstGeom prst="leftRightArrow">
                <a:avLst>
                  <a:gd name="adj1" fmla="val 50000"/>
                  <a:gd name="adj2" fmla="val 30964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914400" y="2209680"/>
                <a:ext cx="167652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In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334120" y="2209680"/>
              <a:ext cx="2743200" cy="914400"/>
              <a:chOff x="5334120" y="2209680"/>
              <a:chExt cx="2743200" cy="914400"/>
            </a:xfrm>
          </p:grpSpPr>
          <p:sp>
            <p:nvSpPr>
              <p:cNvPr id="190" name=""/>
              <p:cNvSpPr/>
              <p:nvPr/>
            </p:nvSpPr>
            <p:spPr>
              <a:xfrm>
                <a:off x="6400800" y="2209680"/>
                <a:ext cx="167652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Estern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334120" y="2362320"/>
                <a:ext cx="1066680" cy="685800"/>
              </a:xfrm>
              <a:prstGeom prst="leftRightArrow">
                <a:avLst>
                  <a:gd name="adj1" fmla="val 50000"/>
                  <a:gd name="adj2" fmla="val 30964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3733920" y="3581280"/>
              <a:ext cx="1676160" cy="1981440"/>
              <a:chOff x="3733920" y="3581280"/>
              <a:chExt cx="1676160" cy="1981440"/>
            </a:xfrm>
          </p:grpSpPr>
          <p:sp>
            <p:nvSpPr>
              <p:cNvPr id="193" name=""/>
              <p:cNvSpPr/>
              <p:nvPr/>
            </p:nvSpPr>
            <p:spPr>
              <a:xfrm>
                <a:off x="3733920" y="4648320"/>
                <a:ext cx="1676160" cy="9144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Arial"/>
                  </a:rPr>
                  <a:t>Partn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6200000">
                <a:off x="3999960" y="3772080"/>
                <a:ext cx="1067040" cy="685440"/>
              </a:xfrm>
              <a:prstGeom prst="leftRightArrow">
                <a:avLst>
                  <a:gd name="adj1" fmla="val 50000"/>
                  <a:gd name="adj2" fmla="val 30990"/>
                </a:avLst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914400" y="2895480"/>
              <a:ext cx="2666880" cy="16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Dipend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Consulent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Org. Sindac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8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…</a:t>
              </a:r>
              <a:r>
                <a:rPr b="0" lang="it-IT" sz="24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00400" y="38862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EXTRA</a:t>
              </a:r>
              <a:r>
                <a:rPr b="1" lang="it-IT" sz="2400" spc="-1" strike="noStrike">
                  <a:solidFill>
                    <a:srgbClr val="800000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4573080" y="243684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800000"/>
                  </a:solidFill>
                  <a:latin typeface="Arial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6200000">
              <a:off x="1829880" y="2513160"/>
              <a:ext cx="25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0000"/>
                  </a:solidFill>
                  <a:latin typeface="Arial"/>
                </a:rPr>
                <a:t>INTRA</a:t>
              </a:r>
              <a:r>
                <a:rPr b="1" lang="it-IT" sz="2400" spc="-1" strike="noStrike">
                  <a:solidFill>
                    <a:srgbClr val="800000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Intranet portal: funzion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605400" y="1239480"/>
            <a:ext cx="5538600" cy="3077280"/>
            <a:chOff x="3605400" y="1239480"/>
            <a:chExt cx="5538600" cy="3077280"/>
          </a:xfrm>
        </p:grpSpPr>
        <p:sp>
          <p:nvSpPr>
            <p:cNvPr id="202" name=""/>
            <p:cNvSpPr/>
            <p:nvPr/>
          </p:nvSpPr>
          <p:spPr>
            <a:xfrm rot="19264800">
              <a:off x="3781440" y="1980720"/>
              <a:ext cx="2924280" cy="15940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77120" y="1600200"/>
              <a:ext cx="2666880" cy="156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WORKSPACE </a:t>
              </a:r>
              <a:br>
                <a:rPr sz="2000"/>
              </a:b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Servizi, strumenti e </a:t>
              </a:r>
              <a:br>
                <a:rPr sz="1600"/>
              </a:b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applicazioni per lo </a:t>
              </a:r>
              <a:br>
                <a:rPr sz="1600"/>
              </a:b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svolgimento del lavo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209680" y="2305080"/>
            <a:ext cx="4496040" cy="3569760"/>
            <a:chOff x="2209680" y="2305080"/>
            <a:chExt cx="4496040" cy="3569760"/>
          </a:xfrm>
        </p:grpSpPr>
        <p:sp>
          <p:nvSpPr>
            <p:cNvPr id="205" name=""/>
            <p:cNvSpPr/>
            <p:nvPr/>
          </p:nvSpPr>
          <p:spPr>
            <a:xfrm rot="16453200">
              <a:off x="3124800" y="2885040"/>
              <a:ext cx="2741760" cy="16988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09680" y="5105520"/>
              <a:ext cx="44960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KNOWLEDGE 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Servizi per la gestione della conoscenz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04920" y="1352160"/>
            <a:ext cx="5098320" cy="2978280"/>
            <a:chOff x="304920" y="1352160"/>
            <a:chExt cx="5098320" cy="2978280"/>
          </a:xfrm>
        </p:grpSpPr>
        <p:sp>
          <p:nvSpPr>
            <p:cNvPr id="208" name=""/>
            <p:cNvSpPr/>
            <p:nvPr/>
          </p:nvSpPr>
          <p:spPr>
            <a:xfrm rot="12890400">
              <a:off x="2285640" y="2044080"/>
              <a:ext cx="2924280" cy="1593720"/>
            </a:xfrm>
            <a:prstGeom prst="ellipse">
              <a:avLst/>
            </a:prstGeom>
            <a:solidFill>
              <a:srgbClr val="80808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920" y="1600200"/>
              <a:ext cx="2133360" cy="131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CORPORATE </a:t>
              </a:r>
              <a:br>
                <a:rPr sz="2000"/>
              </a:br>
              <a:r>
                <a:rPr b="1" lang="it-IT" sz="2000" spc="-1" strike="noStrike">
                  <a:solidFill>
                    <a:srgbClr val="800000"/>
                  </a:solidFill>
                  <a:latin typeface="Arial"/>
                </a:rPr>
                <a:t>POR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Servizi informativi </a:t>
              </a:r>
              <a:br>
                <a:rPr sz="1600"/>
              </a:br>
              <a:r>
                <a:rPr b="1" lang="it-IT" sz="1600" spc="-1" strike="noStrike">
                  <a:solidFill>
                    <a:srgbClr val="800000"/>
                  </a:solidFill>
                  <a:latin typeface="Arial"/>
                </a:rPr>
                <a:t>e di comunica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452600" y="795240"/>
            <a:ext cx="6237360" cy="5106960"/>
            <a:chOff x="1452600" y="795240"/>
            <a:chExt cx="6237360" cy="5106960"/>
          </a:xfrm>
        </p:grpSpPr>
        <p:grpSp>
          <p:nvGrpSpPr>
            <p:cNvPr id="211" name=""/>
            <p:cNvGrpSpPr/>
            <p:nvPr/>
          </p:nvGrpSpPr>
          <p:grpSpPr>
            <a:xfrm>
              <a:off x="1452600" y="795240"/>
              <a:ext cx="6237360" cy="5106960"/>
              <a:chOff x="1452600" y="795240"/>
              <a:chExt cx="6237360" cy="5106960"/>
            </a:xfrm>
          </p:grpSpPr>
          <p:graphicFrame>
            <p:nvGraphicFramePr>
              <p:cNvPr id="212" name=""/>
              <p:cNvGraphicFramePr/>
              <p:nvPr/>
            </p:nvGraphicFramePr>
            <p:xfrm>
              <a:off x="1452600" y="795240"/>
              <a:ext cx="6237360" cy="51069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21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452600" y="795240"/>
                        <a:ext cx="6237360" cy="510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14" name=""/>
              <p:cNvSpPr/>
              <p:nvPr/>
            </p:nvSpPr>
            <p:spPr>
              <a:xfrm rot="16200000">
                <a:off x="7067520" y="1846080"/>
                <a:ext cx="903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00"/>
                    </a:solidFill>
                    <a:latin typeface="Arial"/>
                  </a:rPr>
                  <a:t>Source: S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2720880" y="4957920"/>
              <a:ext cx="657000" cy="688320"/>
              <a:chOff x="2720880" y="4957920"/>
              <a:chExt cx="657000" cy="688320"/>
            </a:xfrm>
          </p:grpSpPr>
          <p:pic>
            <p:nvPicPr>
              <p:cNvPr id="216" name="Palm_VIIx_32" descr=""/>
              <p:cNvPicPr/>
              <p:nvPr/>
            </p:nvPicPr>
            <p:blipFill>
              <a:blip r:embed="rId3"/>
              <a:stretch/>
            </p:blipFill>
            <p:spPr>
              <a:xfrm>
                <a:off x="2720880" y="4957920"/>
                <a:ext cx="311400" cy="439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7650_index_p1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5240" y="5138280"/>
                <a:ext cx="332640" cy="50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Intranet portal: non solo l’Aziend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6980760" y="2824920"/>
            <a:ext cx="603000" cy="700200"/>
          </a:xfrm>
          <a:prstGeom prst="parallelogram">
            <a:avLst>
              <a:gd name="adj" fmla="val 13231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4162680" y="973800"/>
            <a:ext cx="603360" cy="700200"/>
          </a:xfrm>
          <a:prstGeom prst="parallelogram">
            <a:avLst>
              <a:gd name="adj" fmla="val 13231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400000">
            <a:off x="1740600" y="1859760"/>
            <a:ext cx="603000" cy="887400"/>
          </a:xfrm>
          <a:prstGeom prst="parallelogram">
            <a:avLst>
              <a:gd name="adj" fmla="val 17366"/>
            </a:avLst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HV2001" descr=""/>
          <p:cNvPicPr/>
          <p:nvPr/>
        </p:nvPicPr>
        <p:blipFill>
          <a:blip r:embed="rId1"/>
          <a:srcRect l="16510" t="1493" r="4639" b="18720"/>
          <a:stretch/>
        </p:blipFill>
        <p:spPr>
          <a:xfrm>
            <a:off x="1676520" y="961920"/>
            <a:ext cx="5835600" cy="4921200"/>
          </a:xfrm>
          <a:prstGeom prst="rect">
            <a:avLst/>
          </a:prstGeom>
          <a:ln w="0">
            <a:noFill/>
          </a:ln>
        </p:spPr>
      </p:pic>
      <p:pic>
        <p:nvPicPr>
          <p:cNvPr id="223" name="Palm_VIIx_32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419040" cy="592200"/>
          </a:xfrm>
          <a:prstGeom prst="rect">
            <a:avLst/>
          </a:prstGeom>
          <a:ln w="0">
            <a:noFill/>
          </a:ln>
        </p:spPr>
      </p:pic>
      <p:pic>
        <p:nvPicPr>
          <p:cNvPr id="224" name="7650_index_p1" descr=""/>
          <p:cNvPicPr/>
          <p:nvPr/>
        </p:nvPicPr>
        <p:blipFill>
          <a:blip r:embed="rId3"/>
          <a:stretch/>
        </p:blipFill>
        <p:spPr>
          <a:xfrm>
            <a:off x="1828800" y="5105520"/>
            <a:ext cx="447840" cy="68400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Intranet portal: architettur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21178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Sistema informativo aziend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943600" y="3276720"/>
            <a:ext cx="3352680" cy="1874880"/>
            <a:chOff x="5943600" y="3276720"/>
            <a:chExt cx="3352680" cy="1874880"/>
          </a:xfrm>
        </p:grpSpPr>
        <p:sp>
          <p:nvSpPr>
            <p:cNvPr id="228" name=""/>
            <p:cNvSpPr/>
            <p:nvPr/>
          </p:nvSpPr>
          <p:spPr>
            <a:xfrm>
              <a:off x="5943600" y="3276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Componenti di infrastruttu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7120" y="3962520"/>
              <a:ext cx="28191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Document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Work Flow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Collabo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Enterprise Application Integ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Search Eng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800600" y="4724280"/>
            <a:ext cx="2732040" cy="1251360"/>
            <a:chOff x="4800600" y="4724280"/>
            <a:chExt cx="2732040" cy="1251360"/>
          </a:xfrm>
        </p:grpSpPr>
        <p:sp>
          <p:nvSpPr>
            <p:cNvPr id="231" name=""/>
            <p:cNvSpPr/>
            <p:nvPr/>
          </p:nvSpPr>
          <p:spPr>
            <a:xfrm>
              <a:off x="4800600" y="4724280"/>
              <a:ext cx="1752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Interfaccia</a:t>
              </a:r>
              <a:br>
                <a:rPr sz="2000"/>
              </a:b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utent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81480" y="5334120"/>
              <a:ext cx="2351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Controllo access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1200" spc="-1" strike="noStrike">
                  <a:solidFill>
                    <a:srgbClr val="800000"/>
                  </a:solidFill>
                  <a:latin typeface="Arial"/>
                </a:rPr>
                <a:t>Personalizz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800000"/>
                  </a:solidFill>
                  <a:latin typeface="Arial"/>
                </a:rPr>
                <a:t>Multicanalit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228600" y="59436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Times New Roman"/>
              </a:rPr>
              <a:t>Source: 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35" name="cww6" descr=""/>
          <p:cNvPicPr/>
          <p:nvPr/>
        </p:nvPicPr>
        <p:blipFill>
          <a:blip r:embed="rId1"/>
          <a:stretch/>
        </p:blipFill>
        <p:spPr>
          <a:xfrm>
            <a:off x="414360" y="914400"/>
            <a:ext cx="8381880" cy="4937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5920" y="993600"/>
            <a:ext cx="1392120" cy="238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760400" y="1260360"/>
            <a:ext cx="5592960" cy="1177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4120" y="1276200"/>
            <a:ext cx="1382760" cy="11145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65280" y="1574640"/>
            <a:ext cx="3343320" cy="703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o istituzionale Etno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nk al sito 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120" y="1246320"/>
            <a:ext cx="171360" cy="32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76240" y="1231920"/>
            <a:ext cx="221328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762200" y="1351080"/>
            <a:ext cx="596880" cy="225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47800" y="2351160"/>
            <a:ext cx="598680" cy="2066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2346480" y="1574640"/>
          <a:ext cx="3336840" cy="279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36840" cy="279900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8520" y="2386080"/>
            <a:ext cx="1377720" cy="102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9440" y="133992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346480" y="1574640"/>
          <a:ext cx="3311280" cy="24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11280" cy="24958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736640" y="3375000"/>
            <a:ext cx="609840" cy="71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76240" y="1574640"/>
            <a:ext cx="570240" cy="81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4640" y="2397240"/>
            <a:ext cx="1382760" cy="968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346480" y="1574640"/>
          <a:ext cx="3336840" cy="33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3336840" cy="33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 flipV="1">
            <a:off x="1776240" y="1574280"/>
            <a:ext cx="570240" cy="183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76240" y="4809960"/>
            <a:ext cx="570240" cy="158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87400" y="24130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357120" y="2425680"/>
            <a:ext cx="139248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354800" y="2425680"/>
            <a:ext cx="1378080" cy="75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46480" y="2844720"/>
            <a:ext cx="4456080" cy="409680"/>
          </a:xfrm>
          <a:prstGeom prst="rect">
            <a:avLst/>
          </a:prstGeom>
          <a:solidFill>
            <a:srgbClr val="c0c0c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800000"/>
                </a:solidFill>
                <a:latin typeface="Arial"/>
              </a:rPr>
              <a:t>STRUMENTI DI DESK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393840" y="3201840"/>
          <a:ext cx="8342280" cy="154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3201840"/>
                    <a:ext cx="8342280" cy="154008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Di che cosa parlerem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rete di comunicazione d’i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nterprise Portal per la comunicazione d’i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: i portali di Etnote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4640" y="48211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4120" y="1312920"/>
            <a:ext cx="1378080" cy="10731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120" y="3411360"/>
            <a:ext cx="1382760" cy="14590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2346480" y="1574640"/>
          <a:ext cx="2541600" cy="28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6480" y="1574640"/>
                    <a:ext cx="2541600" cy="2887920"/>
                  </a:xfrm>
                  <a:prstGeom prst="rect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 flipH="1">
            <a:off x="4928760" y="1258920"/>
            <a:ext cx="2398680" cy="315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4863960" y="2901960"/>
            <a:ext cx="2463840" cy="160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74800" y="2400480"/>
            <a:ext cx="5607000" cy="1562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624040" y="3295800"/>
            <a:ext cx="5675400" cy="1987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Comunicazioni aziend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riazioni organizz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istitu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Comunicazioni di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interne relative ai servizi aziend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22600" y="3935520"/>
            <a:ext cx="861840" cy="141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776240" y="2425680"/>
            <a:ext cx="87480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27320" y="2340000"/>
            <a:ext cx="4641840" cy="1069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ovità dal C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ggiornamenti effettuati alle singole sezioni del CW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805040" y="3417840"/>
            <a:ext cx="434880" cy="520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78520" y="3432240"/>
            <a:ext cx="463680" cy="53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7353360" y="2895480"/>
            <a:ext cx="1382760" cy="2835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04640" y="4808520"/>
            <a:ext cx="1382760" cy="10368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340760" y="5738760"/>
            <a:ext cx="1392120" cy="117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98840" y="2352600"/>
            <a:ext cx="4297320" cy="106956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AI CHE ..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icazioni relative ai progetti realizzati da Etno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31080" y="2371680"/>
            <a:ext cx="43668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91480" y="3459240"/>
            <a:ext cx="450720" cy="2252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7353360" y="2895480"/>
            <a:ext cx="1382760" cy="29815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68320" y="3944880"/>
            <a:ext cx="5592960" cy="19321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4640" y="4808520"/>
            <a:ext cx="1382760" cy="942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120" y="1300320"/>
            <a:ext cx="1378080" cy="10731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73480" y="3944880"/>
            <a:ext cx="4641840" cy="137448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SPAZIO INFOGRA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anner per le comunicazioni di novità relative a eventi, sponsorizzazioni, iniziative spec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776240" y="3936960"/>
            <a:ext cx="584280" cy="90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1789200" y="5287680"/>
            <a:ext cx="582480" cy="46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ww6" descr=""/>
          <p:cNvPicPr/>
          <p:nvPr/>
        </p:nvPicPr>
        <p:blipFill>
          <a:blip r:embed="rId1"/>
          <a:stretch/>
        </p:blipFill>
        <p:spPr>
          <a:xfrm>
            <a:off x="387360" y="963720"/>
            <a:ext cx="8381880" cy="4937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7353360" y="2895480"/>
            <a:ext cx="1382760" cy="2847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68320" y="3944880"/>
            <a:ext cx="5592960" cy="1785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04640" y="4808520"/>
            <a:ext cx="1382760" cy="93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4120" y="1365120"/>
            <a:ext cx="1378080" cy="10209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71520" y="982800"/>
            <a:ext cx="8361360" cy="35388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774800" y="240048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64080" y="2394000"/>
            <a:ext cx="2784600" cy="15620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45440" y="1258920"/>
            <a:ext cx="1382760" cy="165564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60400" y="1339920"/>
            <a:ext cx="5592960" cy="109836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1120" y="3411360"/>
            <a:ext cx="1382760" cy="13939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4640" y="2397240"/>
            <a:ext cx="1382760" cy="102240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720" y="5738760"/>
            <a:ext cx="8363160" cy="119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068560" y="3240000"/>
            <a:ext cx="4641840" cy="16794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Informazioni v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t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y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mail di riferimento per segna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84120" y="4930920"/>
            <a:ext cx="1684440" cy="793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6678360" y="4916520"/>
            <a:ext cx="2041560" cy="807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Esempio: il corporate web di Etnoteam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L’evoluzion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914400" y="1371240"/>
            <a:ext cx="8229600" cy="4731480"/>
            <a:chOff x="914400" y="1371240"/>
            <a:chExt cx="8229600" cy="4731480"/>
          </a:xfrm>
        </p:grpSpPr>
        <p:sp>
          <p:nvSpPr>
            <p:cNvPr id="421" name=""/>
            <p:cNvSpPr/>
            <p:nvPr/>
          </p:nvSpPr>
          <p:spPr>
            <a:xfrm>
              <a:off x="3657600" y="1905120"/>
              <a:ext cx="1676520" cy="1676160"/>
            </a:xfrm>
            <a:prstGeom prst="ellipse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ffffff"/>
                  </a:solidFill>
                  <a:latin typeface="Arial"/>
                </a:rPr>
                <a:t>Impres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914400" y="1371240"/>
              <a:ext cx="8229600" cy="4731480"/>
              <a:chOff x="914400" y="1371240"/>
              <a:chExt cx="8229600" cy="4731480"/>
            </a:xfrm>
          </p:grpSpPr>
          <p:grpSp>
            <p:nvGrpSpPr>
              <p:cNvPr id="423" name=""/>
              <p:cNvGrpSpPr/>
              <p:nvPr/>
            </p:nvGrpSpPr>
            <p:grpSpPr>
              <a:xfrm>
                <a:off x="914400" y="2209680"/>
                <a:ext cx="2743200" cy="914400"/>
                <a:chOff x="914400" y="2209680"/>
                <a:chExt cx="2743200" cy="91440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25909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9144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In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5334120" y="2209680"/>
                <a:ext cx="2743200" cy="914400"/>
                <a:chOff x="5334120" y="2209680"/>
                <a:chExt cx="2743200" cy="91440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4008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Es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3341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733920" y="3581280"/>
                <a:ext cx="1676160" cy="1981440"/>
                <a:chOff x="3733920" y="3581280"/>
                <a:chExt cx="1676160" cy="198144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733920" y="4648320"/>
                  <a:ext cx="167616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Partner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6200000">
                  <a:off x="3999960" y="3772080"/>
                  <a:ext cx="1067040" cy="685440"/>
                </a:xfrm>
                <a:prstGeom prst="leftRightArrow">
                  <a:avLst>
                    <a:gd name="adj1" fmla="val 50000"/>
                    <a:gd name="adj2" fmla="val 30990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2" name=""/>
              <p:cNvSpPr/>
              <p:nvPr/>
            </p:nvSpPr>
            <p:spPr>
              <a:xfrm>
                <a:off x="6477120" y="2971800"/>
                <a:ext cx="2666880" cy="183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Cli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Investi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Altre organizzazion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Pubblico generic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spcBef>
                    <a:spcPts val="18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…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.</a:t>
                </a:r>
                <a:r>
                  <a:rPr b="0" lang="it-IT" sz="2400" spc="-1" strike="noStrike">
                    <a:solidFill>
                      <a:srgbClr val="8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914400" y="2895480"/>
                <a:ext cx="2666880" cy="168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5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Dipend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Consulent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Org. Sindacal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50000"/>
                  </a:lnSpc>
                  <a:spcBef>
                    <a:spcPts val="18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…</a:t>
                </a:r>
                <a:r>
                  <a:rPr b="0" lang="it-IT" sz="2400" spc="-1" strike="noStrike">
                    <a:solidFill>
                      <a:srgbClr val="8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86400" y="4495680"/>
                <a:ext cx="2666880" cy="160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45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Forni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Distributor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5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Banc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5000"/>
                  </a:lnSpc>
                  <a:spcBef>
                    <a:spcPts val="1800"/>
                  </a:spcBef>
                  <a:buClr>
                    <a:srgbClr val="8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 …</a:t>
                </a:r>
                <a:r>
                  <a:rPr b="0" lang="it-IT" sz="2000" spc="-1" strike="noStrike">
                    <a:solidFill>
                      <a:srgbClr val="800000"/>
                    </a:solidFill>
                    <a:latin typeface="Arial"/>
                  </a:rPr>
                  <a:t>.</a:t>
                </a:r>
                <a:r>
                  <a:rPr b="0" lang="it-IT" sz="2400" spc="-1" strike="noStrike">
                    <a:solidFill>
                      <a:srgbClr val="8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200400" y="388620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Arial"/>
                  </a:rPr>
                  <a:t>EXTRA</a:t>
                </a:r>
                <a:r>
                  <a:rPr b="1" lang="it-IT" sz="2400" spc="-1" strike="noStrike">
                    <a:solidFill>
                      <a:srgbClr val="800000"/>
                    </a:solidFill>
                    <a:latin typeface="Arial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6200000">
                <a:off x="4573080" y="2436840"/>
                <a:ext cx="259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800000"/>
                    </a:solidFill>
                    <a:latin typeface="Arial"/>
                  </a:rPr>
                  <a:t>INTER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6200000">
                <a:off x="1829880" y="2513160"/>
                <a:ext cx="259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0000"/>
                    </a:solidFill>
                    <a:latin typeface="Arial"/>
                  </a:rPr>
                  <a:t>INTRA</a:t>
                </a:r>
                <a:r>
                  <a:rPr b="1" lang="it-IT" sz="2400" spc="-1" strike="noStrike">
                    <a:solidFill>
                      <a:srgbClr val="800000"/>
                    </a:solidFill>
                    <a:latin typeface="Arial"/>
                  </a:rPr>
                  <a:t>N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352680" y="1600200"/>
            <a:ext cx="2286000" cy="236232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Enterprise </a:t>
            </a:r>
            <a:br>
              <a:rPr sz="2400"/>
            </a:b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Information </a:t>
            </a:r>
            <a:br>
              <a:rPr sz="2400"/>
            </a:b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Portal</a:t>
            </a:r>
            <a:br>
              <a:rPr sz="2400"/>
            </a:br>
            <a:r>
              <a:rPr b="1" lang="it-IT" sz="2400" spc="-1" strike="noStrike">
                <a:solidFill>
                  <a:srgbClr val="0033cc"/>
                </a:solidFill>
                <a:latin typeface="Arial"/>
              </a:rPr>
              <a:t>(E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1200" y="81000"/>
            <a:ext cx="6610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Arial"/>
              </a:rPr>
              <a:t>In sintes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914400"/>
            <a:ext cx="8534520" cy="48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 unico portale omogeneo ed integra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tranet /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tranet /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dove tutti gli uten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it-IT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fornitori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, partner, 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dipendenti, clienti,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rospect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, visitatori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ccedono, in forma personalizzata, agli assets aziend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nten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uti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, informa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zioni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, applica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e al patrimonio delle conoscenze dell’azie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capitale intellett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275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attraverso diversi canali di acces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249"/>
              </a:spcAft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800000"/>
                </a:solidFill>
                <a:latin typeface="Arial"/>
              </a:rPr>
              <a:t>web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, mobile network, PDA, 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Con chi comunica l’impres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84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87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90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Con chi comunica l’impres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98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101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104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1523880"/>
            <a:ext cx="6400800" cy="4496040"/>
          </a:xfrm>
          <a:prstGeom prst="ellipse">
            <a:avLst/>
          </a:prstGeom>
          <a:solidFill>
            <a:srgbClr val="dddddd">
              <a:alpha val="50000"/>
            </a:srgbClr>
          </a:solidFill>
          <a:ln w="255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na rete complessa di relazioni,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iascuna con specificità proprie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(contenuti / accesso / cana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Con chi comunica l’impres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113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116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119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XTRA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573080" y="2436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9880" y="2513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TRA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657600" y="1905120"/>
            <a:ext cx="1676520" cy="1676160"/>
          </a:xfrm>
          <a:prstGeom prst="ellipse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14400" y="2209680"/>
            <a:ext cx="2743200" cy="914400"/>
            <a:chOff x="914400" y="2209680"/>
            <a:chExt cx="2743200" cy="914400"/>
          </a:xfrm>
        </p:grpSpPr>
        <p:sp>
          <p:nvSpPr>
            <p:cNvPr id="132" name=""/>
            <p:cNvSpPr/>
            <p:nvPr/>
          </p:nvSpPr>
          <p:spPr>
            <a:xfrm>
              <a:off x="25909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144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In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334120" y="2209680"/>
            <a:ext cx="2743200" cy="914400"/>
            <a:chOff x="5334120" y="2209680"/>
            <a:chExt cx="2743200" cy="914400"/>
          </a:xfrm>
        </p:grpSpPr>
        <p:sp>
          <p:nvSpPr>
            <p:cNvPr id="135" name=""/>
            <p:cNvSpPr/>
            <p:nvPr/>
          </p:nvSpPr>
          <p:spPr>
            <a:xfrm>
              <a:off x="6400800" y="2209680"/>
              <a:ext cx="167652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Ester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34120" y="2362320"/>
              <a:ext cx="1066680" cy="685800"/>
            </a:xfrm>
            <a:prstGeom prst="leftRightArrow">
              <a:avLst>
                <a:gd name="adj1" fmla="val 50000"/>
                <a:gd name="adj2" fmla="val 30964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733920" y="3581280"/>
            <a:ext cx="1676160" cy="1981440"/>
            <a:chOff x="3733920" y="3581280"/>
            <a:chExt cx="1676160" cy="1981440"/>
          </a:xfrm>
        </p:grpSpPr>
        <p:sp>
          <p:nvSpPr>
            <p:cNvPr id="138" name=""/>
            <p:cNvSpPr/>
            <p:nvPr/>
          </p:nvSpPr>
          <p:spPr>
            <a:xfrm>
              <a:off x="3733920" y="4648320"/>
              <a:ext cx="1676160" cy="914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Arial"/>
                </a:rPr>
                <a:t>Partn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6200000">
              <a:off x="3999960" y="3772080"/>
              <a:ext cx="1067040" cy="685440"/>
            </a:xfrm>
            <a:prstGeom prst="leftRightArrow">
              <a:avLst>
                <a:gd name="adj1" fmla="val 50000"/>
                <a:gd name="adj2" fmla="val 30990"/>
              </a:avLst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477120" y="2971800"/>
            <a:ext cx="2666880" cy="18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vest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Altre organizz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ubblico gene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2895480"/>
            <a:ext cx="266688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pend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Consul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Org. Sindac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4495680"/>
            <a:ext cx="2666880" cy="16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For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Distribu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Ban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8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 …</a:t>
            </a: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00400" y="38862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XTRA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573080" y="243684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1829880" y="25131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NTRA</a:t>
            </a:r>
            <a:r>
              <a:rPr b="1" lang="it-IT" sz="2400" spc="-1" strike="noStrike">
                <a:solidFill>
                  <a:srgbClr val="800000"/>
                </a:solidFill>
                <a:latin typeface="Arial"/>
              </a:rPr>
              <a:t>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600200"/>
            <a:ext cx="114300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Inter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Internet port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523880"/>
            <a:ext cx="3353040" cy="3581640"/>
          </a:xfrm>
          <a:prstGeom prst="wedgeRectCallout">
            <a:avLst>
              <a:gd name="adj1" fmla="val 77509"/>
              <a:gd name="adj2" fmla="val -11393"/>
            </a:avLst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 istituzi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fo prodotti / serviz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r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izi standard 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(search, email, language,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sitemap,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4572000"/>
            <a:ext cx="274320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Arial"/>
              </a:rPr>
              <a:t>e-comme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rcRect l="0" t="5934" r="14611" b="2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rcRect l="0" t="6251" r="1666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5934" r="14611" b="28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rcRect l="0" t="6251" r="16667" b="104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28600" y="1676520"/>
            <a:ext cx="266688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a50021"/>
                </a:solidFill>
                <a:latin typeface="Arial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2362320"/>
            <a:ext cx="2666880" cy="41907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NEW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895480" y="457200"/>
            <a:ext cx="5410440" cy="1219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800000"/>
                </a:solidFill>
                <a:latin typeface="Arial"/>
              </a:rPr>
              <a:t>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1676520"/>
            <a:ext cx="5410440" cy="6094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INFO ISTITUZION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4343400"/>
            <a:ext cx="5410440" cy="1447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PRODOTTI/SERVIZ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791320"/>
            <a:ext cx="335304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SERVIZI STAND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04920"/>
            <a:ext cx="2666880" cy="3045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LINGU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095880"/>
            <a:ext cx="1600200" cy="3049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6095880"/>
            <a:ext cx="221004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Symbol"/>
                <a:ea typeface="Symbol"/>
              </a:rPr>
              <a:t>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E </a:t>
            </a:r>
            <a:r>
              <a:rPr b="1" lang="it-IT" sz="1800" spc="-1" strike="noStrike">
                <a:solidFill>
                  <a:srgbClr val="009900"/>
                </a:solidFill>
                <a:latin typeface="Arial"/>
              </a:rPr>
              <a:t>CRED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800000"/>
                </a:solidFill>
                <a:latin typeface="Arial"/>
              </a:rPr>
              <a:t>Extranet portal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14400" y="1371240"/>
            <a:ext cx="7238880" cy="4731480"/>
            <a:chOff x="914400" y="1371240"/>
            <a:chExt cx="7238880" cy="4731480"/>
          </a:xfrm>
        </p:grpSpPr>
        <p:sp>
          <p:nvSpPr>
            <p:cNvPr id="165" name=""/>
            <p:cNvSpPr/>
            <p:nvPr/>
          </p:nvSpPr>
          <p:spPr>
            <a:xfrm>
              <a:off x="5486400" y="4495680"/>
              <a:ext cx="2666880" cy="160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Fornit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Distributo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Banc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800"/>
                </a:spcBef>
                <a:buClr>
                  <a:srgbClr val="8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 …</a:t>
              </a:r>
              <a:r>
                <a:rPr b="0" lang="it-IT" sz="2000" spc="-1" strike="noStrike">
                  <a:solidFill>
                    <a:srgbClr val="800000"/>
                  </a:solidFill>
                  <a:latin typeface="Arial"/>
                </a:rPr>
                <a:t>.</a:t>
              </a:r>
              <a:r>
                <a:rPr b="0" lang="it-IT" sz="2400" spc="-1" strike="noStrike">
                  <a:solidFill>
                    <a:srgbClr val="8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914400" y="1371240"/>
              <a:ext cx="7162920" cy="4191480"/>
              <a:chOff x="914400" y="1371240"/>
              <a:chExt cx="7162920" cy="41914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5334120" y="2209680"/>
                <a:ext cx="2743200" cy="914400"/>
                <a:chOff x="5334120" y="2209680"/>
                <a:chExt cx="2743200" cy="914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400800" y="2209680"/>
                  <a:ext cx="1676520" cy="914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000" spc="-1" strike="noStrike">
                      <a:solidFill>
                        <a:srgbClr val="ffffff"/>
                      </a:solidFill>
                      <a:latin typeface="Arial"/>
                    </a:rPr>
                    <a:t>Estern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34120" y="2362320"/>
                  <a:ext cx="1066680" cy="685800"/>
                </a:xfrm>
                <a:prstGeom prst="leftRightArrow">
                  <a:avLst>
                    <a:gd name="adj1" fmla="val 50000"/>
                    <a:gd name="adj2" fmla="val 30964"/>
                  </a:avLst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914400" y="1371240"/>
                <a:ext cx="5184000" cy="4191480"/>
                <a:chOff x="914400" y="1371240"/>
                <a:chExt cx="5184000" cy="41914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657600" y="1905120"/>
                  <a:ext cx="1676520" cy="1676160"/>
                </a:xfrm>
                <a:prstGeom prst="ellipse">
                  <a:avLst/>
                </a:prstGeom>
                <a:solidFill>
                  <a:srgbClr val="00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ffff"/>
                      </a:solidFill>
                      <a:latin typeface="Arial"/>
                    </a:rPr>
                    <a:t>Impres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2" name=""/>
                <p:cNvGrpSpPr/>
                <p:nvPr/>
              </p:nvGrpSpPr>
              <p:grpSpPr>
                <a:xfrm>
                  <a:off x="914400" y="2209680"/>
                  <a:ext cx="2743200" cy="914400"/>
                  <a:chOff x="914400" y="2209680"/>
                  <a:chExt cx="2743200" cy="91440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>
                    <a:off x="2590920" y="2362320"/>
                    <a:ext cx="1066680" cy="685800"/>
                  </a:xfrm>
                  <a:prstGeom prst="leftRightArrow">
                    <a:avLst>
                      <a:gd name="adj1" fmla="val 50000"/>
                      <a:gd name="adj2" fmla="val 30964"/>
                    </a:avLst>
                  </a:pr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>
                    <a:off x="914400" y="2209680"/>
                    <a:ext cx="1676520" cy="914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ffffff"/>
                        </a:solidFill>
                        <a:latin typeface="Arial"/>
                      </a:rPr>
                      <a:t>Interno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3733920" y="3581280"/>
                  <a:ext cx="1676160" cy="1981440"/>
                  <a:chOff x="3733920" y="3581280"/>
                  <a:chExt cx="1676160" cy="198144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3733920" y="4648320"/>
                    <a:ext cx="1676160" cy="914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it-IT" sz="2000" spc="-1" strike="noStrike">
                        <a:solidFill>
                          <a:srgbClr val="ffffff"/>
                        </a:solidFill>
                        <a:latin typeface="Arial"/>
                      </a:rPr>
                      <a:t>Partne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rot="16200000">
                    <a:off x="3999960" y="3772080"/>
                    <a:ext cx="1067040" cy="685440"/>
                  </a:xfrm>
                  <a:prstGeom prst="leftRightArrow">
                    <a:avLst>
                      <a:gd name="adj1" fmla="val 50000"/>
                      <a:gd name="adj2" fmla="val 30990"/>
                    </a:avLst>
                  </a:pr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8" name=""/>
                <p:cNvSpPr/>
                <p:nvPr/>
              </p:nvSpPr>
              <p:spPr>
                <a:xfrm>
                  <a:off x="3200400" y="3886200"/>
                  <a:ext cx="259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0000"/>
                      </a:solidFill>
                      <a:latin typeface="Arial"/>
                    </a:rPr>
                    <a:t>EXTRA</a:t>
                  </a:r>
                  <a:r>
                    <a:rPr b="1" lang="it-IT" sz="2400" spc="-1" strike="noStrike">
                      <a:solidFill>
                        <a:srgbClr val="800000"/>
                      </a:solidFill>
                      <a:latin typeface="Arial"/>
                    </a:rPr>
                    <a:t>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6200000">
                  <a:off x="4573080" y="2436840"/>
                  <a:ext cx="259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800000"/>
                      </a:solidFill>
                      <a:latin typeface="Arial"/>
                    </a:rPr>
                    <a:t>INTER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6200000">
                  <a:off x="1829880" y="2513160"/>
                  <a:ext cx="2590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2400" spc="-1" strike="noStrike">
                      <a:solidFill>
                        <a:srgbClr val="ff0000"/>
                      </a:solidFill>
                      <a:latin typeface="Arial"/>
                    </a:rPr>
                    <a:t>INTRA</a:t>
                  </a:r>
                  <a:r>
                    <a:rPr b="1" lang="it-IT" sz="2400" spc="-1" strike="noStrike">
                      <a:solidFill>
                        <a:srgbClr val="800000"/>
                      </a:solidFill>
                      <a:latin typeface="Arial"/>
                    </a:rPr>
                    <a:t>NE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1" name=""/>
          <p:cNvSpPr/>
          <p:nvPr/>
        </p:nvSpPr>
        <p:spPr>
          <a:xfrm rot="5400000">
            <a:off x="3962160" y="2285640"/>
            <a:ext cx="1067040" cy="2286000"/>
          </a:xfrm>
          <a:prstGeom prst="rect">
            <a:avLst/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Extranet </a:t>
            </a:r>
            <a:br>
              <a:rPr sz="2000"/>
            </a:br>
            <a:r>
              <a:rPr b="0" lang="it-IT" sz="2000" spc="-1" strike="noStrike">
                <a:solidFill>
                  <a:srgbClr val="800000"/>
                </a:solidFill>
                <a:latin typeface="Arial"/>
              </a:rPr>
              <a:t>por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1752480"/>
            <a:ext cx="2133360" cy="1828800"/>
          </a:xfrm>
          <a:prstGeom prst="wedgeRectCallout">
            <a:avLst>
              <a:gd name="adj1" fmla="val 95236"/>
              <a:gd name="adj2" fmla="val 31250"/>
            </a:avLst>
          </a:prstGeom>
          <a:solidFill>
            <a:srgbClr val="0033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izi B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-market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-proc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Serg</dc:creator>
  <dc:description/>
  <dc:language>en-US</dc:language>
  <cp:lastModifiedBy>rpolillo</cp:lastModifiedBy>
  <cp:lastPrinted>2000-04-26T15:56:37Z</cp:lastPrinted>
  <dcterms:modified xsi:type="dcterms:W3CDTF">2003-04-10T08:02:21Z</dcterms:modified>
  <cp:revision>164</cp:revision>
  <dc:subject/>
  <dc:title>Nessun titolo diapositiva</dc:title>
</cp:coreProperties>
</file>