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8c002f"/>
              </a:gs>
              <a:gs pos="100000">
                <a:srgbClr val="40001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’impatto di Internet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sulla socie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mpatto realmente rivoluzionario del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ormation Rev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ncomincia appena a percepi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 non è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inform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 alimenta questo impatt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’ invece qualche cosa che nessuno prevedeva, e di cu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suno nemmeno parlava dieci o quindici anni fa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l’emergere esplosivo di Internet come un important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se alla f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pi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ortante canale mondiale d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zione per le merci, per i servizi, e, sorprendente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e, per le attività professionali e manageriali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 l’impatto sulla società e sulla politica, e, soprattutt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 come vediamo il mondo e noi stessi potrebbe ess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ora maggior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Drucker,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n altro punto di vista…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36943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ruolo della proprietà privata sta cambiando radicalmente, con effett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traordinaria portata sulla società. Per tutta l’era moderna, proprietà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ae mercati sono stati sinonimi; anzi, la stessa economia capitali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a è fondata sull’idea di scambio di beni in liberi merc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a nuova era, i mercati stanno cedendo il passo alle reti, e 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à è progressivamente sostituita con l’accesso. Imprese 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atori cominciano ad abbandonare quello che è il fulcro del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 economica moderna: lo scambio su un mercato di titoli di pro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età fra compratori e vend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a new economy, il fornitore mantiene la proprietà di un bene, c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leggia o affitta o è disposto a cedere in uso temporaneo a fron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pagamento di una tariffa, di un abbonamento, di una tassa d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rizion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Rifkin, L’era dell’accesso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L’era della conness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ffetti, termini co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formation 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uter 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enz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enfasi esplicita sulla comunicazione - in qualche modo n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escono a catturare l’intera portata dell’era in cui siamo entrat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tti non è la capacità di effettuare più calcoli per unità di temp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i accedere a informazioni utili e tempestive che sembrano così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amentali in questa nuova er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ce, sembra che la capacità di trasformazione di questa er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a la nuova capacità di porci in connessione l’uno con l’altr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 stesso istante o in istanti diversi, nello stesso luogo o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oghi diversi, e di avere una interazione significativa com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ultato di questa connessio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reve, ci troviamo all’inizio del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nection 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1840" y="548640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connection age”, vedi http://www.groovenetwork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ncora un altro punto di vista…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a breve storia della stori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’era dell’agrico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La fattoria - la casa nella fattoria - la famiglia patriarcale -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il governo lo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’era indust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La fabbrica - la urbanizzazione - la famiglia nucleare - 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lo stato-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’era della connessi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8680" y="556272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e connection age”, vedi http://www.groovenetwork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46483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48320" y="0"/>
          <a:ext cx="4495680" cy="617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0"/>
                    <a:ext cx="4495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648320" y="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quarta ondata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477120" y="2133720"/>
            <a:ext cx="2666880" cy="3733560"/>
          </a:xfrm>
          <a:prstGeom prst="ellips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6800" y="2819520"/>
            <a:ext cx="108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n punto di vista…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23080" cy="456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3048120"/>
            <a:ext cx="137160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lcuni punti di vist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ra dell’infor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ra dell’a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ra della conn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L’era dell’informazi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crescita dell’informazion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1066680"/>
            <a:ext cx="7772400" cy="5051520"/>
            <a:chOff x="685800" y="1066680"/>
            <a:chExt cx="7772400" cy="50515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rcRect l="16666" t="30635" r="20835" b="11263"/>
            <a:stretch/>
          </p:blipFill>
          <p:spPr>
            <a:xfrm>
              <a:off x="685800" y="1066680"/>
              <a:ext cx="7772400" cy="50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620120" y="57913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685800"/>
            <a:ext cx="7848000" cy="5334120"/>
            <a:chOff x="762120" y="685800"/>
            <a:chExt cx="7848000" cy="5334120"/>
          </a:xfrm>
        </p:grpSpPr>
        <p:grpSp>
          <p:nvGrpSpPr>
            <p:cNvPr id="101" name=""/>
            <p:cNvGrpSpPr/>
            <p:nvPr/>
          </p:nvGrpSpPr>
          <p:grpSpPr>
            <a:xfrm>
              <a:off x="762120" y="685800"/>
              <a:ext cx="7848000" cy="5333400"/>
              <a:chOff x="762120" y="685800"/>
              <a:chExt cx="7848000" cy="5333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rcRect l="15814" t="26165" r="19791" b="11263"/>
              <a:stretch/>
            </p:blipFill>
            <p:spPr>
              <a:xfrm>
                <a:off x="762120" y="809280"/>
                <a:ext cx="7848000" cy="52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037880" y="685800"/>
                <a:ext cx="3992400" cy="86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8153280" y="5638680"/>
              <a:ext cx="38124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 fra due anni..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L’era dell’access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Serg</dc:creator>
  <dc:description/>
  <dc:language>en-US</dc:language>
  <cp:lastModifiedBy>rpolillo</cp:lastModifiedBy>
  <cp:lastPrinted>2001-03-06T19:18:15Z</cp:lastPrinted>
  <dcterms:modified xsi:type="dcterms:W3CDTF">2001-12-31T21:28:47Z</dcterms:modified>
  <cp:revision>335</cp:revision>
  <dc:subject/>
  <dc:title>Nessun titolo diapositiva</dc:title>
</cp:coreProperties>
</file>