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6580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8c002f"/>
              </a:gs>
              <a:gs pos="100000">
                <a:srgbClr val="400015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8.png"/><Relationship Id="rId21" Type="http://schemas.openxmlformats.org/officeDocument/2006/relationships/image" Target="../media/image5.png"/><Relationship Id="rId22" Type="http://schemas.openxmlformats.org/officeDocument/2006/relationships/image" Target="../media/image6.png"/><Relationship Id="rId23" Type="http://schemas.openxmlformats.org/officeDocument/2006/relationships/image" Target="../media/image7.png"/><Relationship Id="rId24" Type="http://schemas.openxmlformats.org/officeDocument/2006/relationships/image" Target="../media/image8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7.png"/><Relationship Id="rId28" Type="http://schemas.openxmlformats.org/officeDocument/2006/relationships/image" Target="../media/image8.png"/><Relationship Id="rId29" Type="http://schemas.openxmlformats.org/officeDocument/2006/relationships/image" Target="../media/image5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8.png"/><Relationship Id="rId33" Type="http://schemas.openxmlformats.org/officeDocument/2006/relationships/image" Target="../media/image5.png"/><Relationship Id="rId34" Type="http://schemas.openxmlformats.org/officeDocument/2006/relationships/image" Target="../media/image6.png"/><Relationship Id="rId35" Type="http://schemas.openxmlformats.org/officeDocument/2006/relationships/image" Target="../media/image7.png"/><Relationship Id="rId36" Type="http://schemas.openxmlformats.org/officeDocument/2006/relationships/image" Target="../media/image8.png"/><Relationship Id="rId37" Type="http://schemas.openxmlformats.org/officeDocument/2006/relationships/image" Target="../media/image9.png"/><Relationship Id="rId38" Type="http://schemas.openxmlformats.org/officeDocument/2006/relationships/image" Target="../media/image9.png"/><Relationship Id="rId39" Type="http://schemas.openxmlformats.org/officeDocument/2006/relationships/image" Target="../media/image5.png"/><Relationship Id="rId40" Type="http://schemas.openxmlformats.org/officeDocument/2006/relationships/image" Target="../media/image6.png"/><Relationship Id="rId41" Type="http://schemas.openxmlformats.org/officeDocument/2006/relationships/image" Target="../media/image7.png"/><Relationship Id="rId42" Type="http://schemas.openxmlformats.org/officeDocument/2006/relationships/image" Target="../media/image8.png"/><Relationship Id="rId43" Type="http://schemas.openxmlformats.org/officeDocument/2006/relationships/image" Target="../media/image5.png"/><Relationship Id="rId44" Type="http://schemas.openxmlformats.org/officeDocument/2006/relationships/image" Target="../media/image6.png"/><Relationship Id="rId45" Type="http://schemas.openxmlformats.org/officeDocument/2006/relationships/image" Target="../media/image7.png"/><Relationship Id="rId46" Type="http://schemas.openxmlformats.org/officeDocument/2006/relationships/image" Target="../media/image8.png"/><Relationship Id="rId47" Type="http://schemas.openxmlformats.org/officeDocument/2006/relationships/image" Target="../media/image5.png"/><Relationship Id="rId48" Type="http://schemas.openxmlformats.org/officeDocument/2006/relationships/image" Target="../media/image6.pn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5.png"/><Relationship Id="rId52" Type="http://schemas.openxmlformats.org/officeDocument/2006/relationships/image" Target="../media/image6.png"/><Relationship Id="rId53" Type="http://schemas.openxmlformats.org/officeDocument/2006/relationships/image" Target="../media/image7.png"/><Relationship Id="rId54" Type="http://schemas.openxmlformats.org/officeDocument/2006/relationships/image" Target="../media/image8.png"/><Relationship Id="rId55" Type="http://schemas.openxmlformats.org/officeDocument/2006/relationships/image" Target="../media/image5.png"/><Relationship Id="rId56" Type="http://schemas.openxmlformats.org/officeDocument/2006/relationships/image" Target="../media/image6.png"/><Relationship Id="rId57" Type="http://schemas.openxmlformats.org/officeDocument/2006/relationships/image" Target="../media/image7.png"/><Relationship Id="rId58" Type="http://schemas.openxmlformats.org/officeDocument/2006/relationships/image" Target="../media/image8.png"/><Relationship Id="rId59" Type="http://schemas.openxmlformats.org/officeDocument/2006/relationships/image" Target="../media/image5.png"/><Relationship Id="rId60" Type="http://schemas.openxmlformats.org/officeDocument/2006/relationships/image" Target="../media/image6.png"/><Relationship Id="rId61" Type="http://schemas.openxmlformats.org/officeDocument/2006/relationships/image" Target="../media/image7.png"/><Relationship Id="rId62" Type="http://schemas.openxmlformats.org/officeDocument/2006/relationships/image" Target="../media/image8.png"/><Relationship Id="rId63" Type="http://schemas.openxmlformats.org/officeDocument/2006/relationships/image" Target="../media/image9.png"/><Relationship Id="rId64" Type="http://schemas.openxmlformats.org/officeDocument/2006/relationships/image" Target="../media/image9.png"/><Relationship Id="rId6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’impresa nell’era di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895480" y="4419720"/>
            <a:ext cx="1600200" cy="1815840"/>
            <a:chOff x="2895480" y="4419720"/>
            <a:chExt cx="1600200" cy="1815840"/>
          </a:xfrm>
        </p:grpSpPr>
        <p:grpSp>
          <p:nvGrpSpPr>
            <p:cNvPr id="81" name=""/>
            <p:cNvGrpSpPr/>
            <p:nvPr/>
          </p:nvGrpSpPr>
          <p:grpSpPr>
            <a:xfrm>
              <a:off x="3276720" y="5181480"/>
              <a:ext cx="304560" cy="304560"/>
              <a:chOff x="3276720" y="5181480"/>
              <a:chExt cx="304560" cy="30456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3305160" y="5193720"/>
                <a:ext cx="276120" cy="292320"/>
                <a:chOff x="3305160" y="5193720"/>
                <a:chExt cx="276120" cy="2923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3305160" y="5193720"/>
                  <a:ext cx="276120" cy="16848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3309120" y="5418000"/>
                  <a:ext cx="270360" cy="6804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375360" y="5399640"/>
                  <a:ext cx="139320" cy="2052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3382200" y="5360760"/>
                  <a:ext cx="119520" cy="3996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3276720" y="5181480"/>
                <a:ext cx="283320" cy="294480"/>
                <a:chOff x="3276720" y="5181480"/>
                <a:chExt cx="283320" cy="294480"/>
              </a:xfrm>
            </p:grpSpPr>
            <p:pic>
              <p:nvPicPr>
                <p:cNvPr id="8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276720" y="5181480"/>
                  <a:ext cx="283320" cy="171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58440" y="5353200"/>
                  <a:ext cx="116640" cy="36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350160" y="5393160"/>
                  <a:ext cx="133560" cy="18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281040" y="5410080"/>
                  <a:ext cx="272880" cy="65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2" name=""/>
            <p:cNvSpPr/>
            <p:nvPr/>
          </p:nvSpPr>
          <p:spPr>
            <a:xfrm flipH="1">
              <a:off x="3429000" y="4419720"/>
              <a:ext cx="7632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95480" y="58672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tente trus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3276360" y="5486400"/>
              <a:ext cx="75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09480" y="471600"/>
            <a:ext cx="6477120" cy="4862520"/>
            <a:chOff x="609480" y="471600"/>
            <a:chExt cx="6477120" cy="4862520"/>
          </a:xfrm>
        </p:grpSpPr>
        <p:grpSp>
          <p:nvGrpSpPr>
            <p:cNvPr id="96" name=""/>
            <p:cNvGrpSpPr/>
            <p:nvPr/>
          </p:nvGrpSpPr>
          <p:grpSpPr>
            <a:xfrm>
              <a:off x="2695680" y="5041800"/>
              <a:ext cx="276120" cy="292320"/>
              <a:chOff x="2695680" y="5041800"/>
              <a:chExt cx="276120" cy="292320"/>
            </a:xfrm>
          </p:grpSpPr>
          <p:sp>
            <p:nvSpPr>
              <p:cNvPr id="97" name=""/>
              <p:cNvSpPr/>
              <p:nvPr/>
            </p:nvSpPr>
            <p:spPr>
              <a:xfrm>
                <a:off x="2695680" y="5041800"/>
                <a:ext cx="276120" cy="16848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99640" y="5266080"/>
                <a:ext cx="270360" cy="6804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765880" y="5247720"/>
                <a:ext cx="139320" cy="2052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72720" y="5208840"/>
                <a:ext cx="119520" cy="39960"/>
              </a:xfrm>
              <a:prstGeom prst="rect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609480" y="471600"/>
              <a:ext cx="6477120" cy="4852440"/>
              <a:chOff x="609480" y="471600"/>
              <a:chExt cx="6477120" cy="485244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2009880" y="4813200"/>
                <a:ext cx="276120" cy="292320"/>
                <a:chOff x="2009880" y="4813200"/>
                <a:chExt cx="276120" cy="2923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009880" y="4813200"/>
                  <a:ext cx="276120" cy="16848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013840" y="5037480"/>
                  <a:ext cx="270360" cy="6804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080080" y="5019120"/>
                  <a:ext cx="139320" cy="2052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86920" y="4980240"/>
                  <a:ext cx="119520" cy="39960"/>
                </a:xfrm>
                <a:prstGeom prst="rect">
                  <a:avLst/>
                </a:pr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09480" y="471600"/>
                <a:ext cx="6477120" cy="4852440"/>
                <a:chOff x="609480" y="471600"/>
                <a:chExt cx="6477120" cy="4852440"/>
              </a:xfrm>
            </p:grpSpPr>
            <p:grpSp>
              <p:nvGrpSpPr>
                <p:cNvPr id="108" name=""/>
                <p:cNvGrpSpPr/>
                <p:nvPr/>
              </p:nvGrpSpPr>
              <p:grpSpPr>
                <a:xfrm>
                  <a:off x="2238480" y="1231920"/>
                  <a:ext cx="276120" cy="291960"/>
                  <a:chOff x="2238480" y="1231920"/>
                  <a:chExt cx="276120" cy="291960"/>
                </a:xfrm>
              </p:grpSpPr>
              <p:sp>
                <p:nvSpPr>
                  <p:cNvPr id="109" name=""/>
                  <p:cNvSpPr/>
                  <p:nvPr/>
                </p:nvSpPr>
                <p:spPr>
                  <a:xfrm>
                    <a:off x="2238480" y="1231920"/>
                    <a:ext cx="276120" cy="168120"/>
                  </a:xfrm>
                  <a:prstGeom prst="rect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>
                    <a:off x="2242440" y="1455840"/>
                    <a:ext cx="270360" cy="68040"/>
                  </a:xfrm>
                  <a:prstGeom prst="rect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308680" y="1437480"/>
                    <a:ext cx="139320" cy="20520"/>
                  </a:xfrm>
                  <a:prstGeom prst="rect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315520" y="1398960"/>
                    <a:ext cx="119520" cy="39600"/>
                  </a:xfrm>
                  <a:prstGeom prst="rect">
                    <a:avLst/>
                  </a:prstGeom>
                  <a:solidFill>
                    <a:srgbClr val="ff99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609480" y="471600"/>
                  <a:ext cx="6477120" cy="4852440"/>
                  <a:chOff x="609480" y="471600"/>
                  <a:chExt cx="6477120" cy="4852440"/>
                </a:xfrm>
              </p:grpSpPr>
              <p:grpSp>
                <p:nvGrpSpPr>
                  <p:cNvPr id="114" name=""/>
                  <p:cNvGrpSpPr/>
                  <p:nvPr/>
                </p:nvGrpSpPr>
                <p:grpSpPr>
                  <a:xfrm>
                    <a:off x="714240" y="1231920"/>
                    <a:ext cx="276480" cy="291960"/>
                    <a:chOff x="714240" y="1231920"/>
                    <a:chExt cx="276480" cy="291960"/>
                  </a:xfrm>
                </p:grpSpPr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714240" y="1231920"/>
                      <a:ext cx="276480" cy="168120"/>
                    </a:xfrm>
                    <a:prstGeom prst="rect">
                      <a:avLst/>
                    </a:prstGeom>
                    <a:solidFill>
                      <a:srgbClr val="ff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718200" y="1455840"/>
                      <a:ext cx="270720" cy="68040"/>
                    </a:xfrm>
                    <a:prstGeom prst="rect">
                      <a:avLst/>
                    </a:prstGeom>
                    <a:solidFill>
                      <a:srgbClr val="ff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240" bIns="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784440" y="1437480"/>
                      <a:ext cx="139680" cy="20520"/>
                    </a:xfrm>
                    <a:prstGeom prst="rect">
                      <a:avLst/>
                    </a:prstGeom>
                    <a:solidFill>
                      <a:srgbClr val="ff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791640" y="1398960"/>
                      <a:ext cx="119880" cy="39600"/>
                    </a:xfrm>
                    <a:prstGeom prst="rect">
                      <a:avLst/>
                    </a:prstGeom>
                    <a:solidFill>
                      <a:srgbClr val="ff9966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609480" y="471600"/>
                    <a:ext cx="6477120" cy="4852440"/>
                    <a:chOff x="609480" y="471600"/>
                    <a:chExt cx="6477120" cy="4852440"/>
                  </a:xfrm>
                </p:grpSpPr>
                <p:grpSp>
                  <p:nvGrpSpPr>
                    <p:cNvPr id="120" name=""/>
                    <p:cNvGrpSpPr/>
                    <p:nvPr/>
                  </p:nvGrpSpPr>
                  <p:grpSpPr>
                    <a:xfrm>
                      <a:off x="1400040" y="3137040"/>
                      <a:ext cx="276480" cy="291960"/>
                      <a:chOff x="1400040" y="3137040"/>
                      <a:chExt cx="276480" cy="291960"/>
                    </a:xfrm>
                  </p:grpSpPr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1400040" y="3137040"/>
                        <a:ext cx="276480" cy="168120"/>
                      </a:xfrm>
                      <a:prstGeom prst="rect">
                        <a:avLst/>
                      </a:prstGeom>
                      <a:solidFill>
                        <a:srgbClr val="ff99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1404000" y="3360960"/>
                        <a:ext cx="270720" cy="68040"/>
                      </a:xfrm>
                      <a:prstGeom prst="rect">
                        <a:avLst/>
                      </a:prstGeom>
                      <a:solidFill>
                        <a:srgbClr val="ff99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240" bIns="21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1470240" y="3342600"/>
                        <a:ext cx="139680" cy="20520"/>
                      </a:xfrm>
                      <a:prstGeom prst="rect">
                        <a:avLst/>
                      </a:prstGeom>
                      <a:solidFill>
                        <a:srgbClr val="ff99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1477440" y="3304080"/>
                        <a:ext cx="119880" cy="39600"/>
                      </a:xfrm>
                      <a:prstGeom prst="rect">
                        <a:avLst/>
                      </a:prstGeom>
                      <a:solidFill>
                        <a:srgbClr val="ff9966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25" name=""/>
                    <p:cNvGrpSpPr/>
                    <p:nvPr/>
                  </p:nvGrpSpPr>
                  <p:grpSpPr>
                    <a:xfrm>
                      <a:off x="609480" y="471600"/>
                      <a:ext cx="6477120" cy="4852440"/>
                      <a:chOff x="609480" y="471600"/>
                      <a:chExt cx="6477120" cy="4852440"/>
                    </a:xfrm>
                  </p:grpSpPr>
                  <p:sp>
                    <p:nvSpPr>
                      <p:cNvPr id="126" name=""/>
                      <p:cNvSpPr/>
                      <p:nvPr/>
                    </p:nvSpPr>
                    <p:spPr>
                      <a:xfrm>
                        <a:off x="1546200" y="1006560"/>
                        <a:ext cx="130320" cy="365040"/>
                      </a:xfrm>
                      <a:prstGeom prst="rect">
                        <a:avLst/>
                      </a:prstGeom>
                      <a:solidFill>
                        <a:srgbClr val="ff9966"/>
                      </a:solidFill>
                      <a:ln w="936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7" name=""/>
                      <p:cNvSpPr/>
                      <p:nvPr/>
                    </p:nvSpPr>
                    <p:spPr>
                      <a:xfrm>
                        <a:off x="3146400" y="2454120"/>
                        <a:ext cx="130320" cy="365400"/>
                      </a:xfrm>
                      <a:prstGeom prst="rect">
                        <a:avLst/>
                      </a:prstGeom>
                      <a:solidFill>
                        <a:srgbClr val="ff9966"/>
                      </a:solidFill>
                      <a:ln w="936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28" name=""/>
                      <p:cNvGrpSpPr/>
                      <p:nvPr/>
                    </p:nvGrpSpPr>
                    <p:grpSpPr>
                      <a:xfrm>
                        <a:off x="609480" y="471600"/>
                        <a:ext cx="6477120" cy="4852440"/>
                        <a:chOff x="609480" y="471600"/>
                        <a:chExt cx="6477120" cy="4852440"/>
                      </a:xfrm>
                    </p:grpSpPr>
                    <p:grpSp>
                      <p:nvGrpSpPr>
                        <p:cNvPr id="129" name=""/>
                        <p:cNvGrpSpPr/>
                        <p:nvPr/>
                      </p:nvGrpSpPr>
                      <p:grpSpPr>
                        <a:xfrm>
                          <a:off x="1476360" y="4432320"/>
                          <a:ext cx="276120" cy="291960"/>
                          <a:chOff x="1476360" y="4432320"/>
                          <a:chExt cx="276120" cy="291960"/>
                        </a:xfrm>
                      </p:grpSpPr>
                      <p:sp>
                        <p:nvSpPr>
                          <p:cNvPr id="130" name=""/>
                          <p:cNvSpPr/>
                          <p:nvPr/>
                        </p:nvSpPr>
                        <p:spPr>
                          <a:xfrm>
                            <a:off x="1476360" y="4432320"/>
                            <a:ext cx="276120" cy="168120"/>
                          </a:xfrm>
                          <a:prstGeom prst="rect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1" name=""/>
                          <p:cNvSpPr/>
                          <p:nvPr/>
                        </p:nvSpPr>
                        <p:spPr>
                          <a:xfrm>
                            <a:off x="1480320" y="4656240"/>
                            <a:ext cx="270360" cy="68040"/>
                          </a:xfrm>
                          <a:prstGeom prst="rect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240" bIns="212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2" name=""/>
                          <p:cNvSpPr/>
                          <p:nvPr/>
                        </p:nvSpPr>
                        <p:spPr>
                          <a:xfrm>
                            <a:off x="1546560" y="4637880"/>
                            <a:ext cx="139320" cy="20520"/>
                          </a:xfrm>
                          <a:prstGeom prst="rect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3" name=""/>
                          <p:cNvSpPr/>
                          <p:nvPr/>
                        </p:nvSpPr>
                        <p:spPr>
                          <a:xfrm>
                            <a:off x="1553400" y="4599360"/>
                            <a:ext cx="119520" cy="39600"/>
                          </a:xfrm>
                          <a:prstGeom prst="rect">
                            <a:avLst/>
                          </a:prstGeom>
                          <a:solidFill>
                            <a:srgbClr val="5f5f5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0" bIns="-7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34" name=""/>
                        <p:cNvGrpSpPr/>
                        <p:nvPr/>
                      </p:nvGrpSpPr>
                      <p:grpSpPr>
                        <a:xfrm>
                          <a:off x="609480" y="471600"/>
                          <a:ext cx="6477120" cy="4852440"/>
                          <a:chOff x="609480" y="471600"/>
                          <a:chExt cx="6477120" cy="4852440"/>
                        </a:xfrm>
                      </p:grpSpPr>
                      <p:grpSp>
                        <p:nvGrpSpPr>
                          <p:cNvPr id="135" name=""/>
                          <p:cNvGrpSpPr/>
                          <p:nvPr/>
                        </p:nvGrpSpPr>
                        <p:grpSpPr>
                          <a:xfrm>
                            <a:off x="2847960" y="1460520"/>
                            <a:ext cx="276120" cy="291960"/>
                            <a:chOff x="2847960" y="1460520"/>
                            <a:chExt cx="276120" cy="291960"/>
                          </a:xfrm>
                        </p:grpSpPr>
                        <p:sp>
                          <p:nvSpPr>
                            <p:cNvPr id="136" name=""/>
                            <p:cNvSpPr/>
                            <p:nvPr/>
                          </p:nvSpPr>
                          <p:spPr>
                            <a:xfrm>
                              <a:off x="2847960" y="1460520"/>
                              <a:ext cx="276120" cy="168120"/>
                            </a:xfrm>
                            <a:prstGeom prst="rect">
                              <a:avLst/>
                            </a:prstGeom>
                            <a:solidFill>
                              <a:srgbClr val="ff9966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7" name=""/>
                            <p:cNvSpPr/>
                            <p:nvPr/>
                          </p:nvSpPr>
                          <p:spPr>
                            <a:xfrm>
                              <a:off x="2851920" y="1684440"/>
                              <a:ext cx="270360" cy="68040"/>
                            </a:xfrm>
                            <a:prstGeom prst="rect">
                              <a:avLst/>
                            </a:prstGeom>
                            <a:solidFill>
                              <a:srgbClr val="ff9966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1240" bIns="212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8" name=""/>
                            <p:cNvSpPr/>
                            <p:nvPr/>
                          </p:nvSpPr>
                          <p:spPr>
                            <a:xfrm>
                              <a:off x="2918160" y="1666080"/>
                              <a:ext cx="139320" cy="20520"/>
                            </a:xfrm>
                            <a:prstGeom prst="rect">
                              <a:avLst/>
                            </a:prstGeom>
                            <a:solidFill>
                              <a:srgbClr val="ff9966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280" bIns="-2628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39" name=""/>
                            <p:cNvSpPr/>
                            <p:nvPr/>
                          </p:nvSpPr>
                          <p:spPr>
                            <a:xfrm>
                              <a:off x="2925000" y="1627560"/>
                              <a:ext cx="119520" cy="39600"/>
                            </a:xfrm>
                            <a:prstGeom prst="rect">
                              <a:avLst/>
                            </a:prstGeom>
                            <a:solidFill>
                              <a:srgbClr val="ff9966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7200" bIns="-7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40" name=""/>
                          <p:cNvGrpSpPr/>
                          <p:nvPr/>
                        </p:nvGrpSpPr>
                        <p:grpSpPr>
                          <a:xfrm>
                            <a:off x="609480" y="471600"/>
                            <a:ext cx="6477120" cy="4852440"/>
                            <a:chOff x="609480" y="471600"/>
                            <a:chExt cx="6477120" cy="4852440"/>
                          </a:xfrm>
                        </p:grpSpPr>
                        <p:grpSp>
                          <p:nvGrpSpPr>
                            <p:cNvPr id="141" name=""/>
                            <p:cNvGrpSpPr/>
                            <p:nvPr/>
                          </p:nvGrpSpPr>
                          <p:grpSpPr>
                            <a:xfrm>
                              <a:off x="714240" y="3060720"/>
                              <a:ext cx="276480" cy="291960"/>
                              <a:chOff x="714240" y="3060720"/>
                              <a:chExt cx="276480" cy="291960"/>
                            </a:xfrm>
                          </p:grpSpPr>
                          <p:sp>
                            <p:nvSpPr>
                              <p:cNvPr id="142" name=""/>
                              <p:cNvSpPr/>
                              <p:nvPr/>
                            </p:nvSpPr>
                            <p:spPr>
                              <a:xfrm>
                                <a:off x="714240" y="3060720"/>
                                <a:ext cx="276480" cy="1681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66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3" name=""/>
                              <p:cNvSpPr/>
                              <p:nvPr/>
                            </p:nvSpPr>
                            <p:spPr>
                              <a:xfrm>
                                <a:off x="718200" y="3284640"/>
                                <a:ext cx="270720" cy="6804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66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1240" bIns="212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4" name=""/>
                              <p:cNvSpPr/>
                              <p:nvPr/>
                            </p:nvSpPr>
                            <p:spPr>
                              <a:xfrm>
                                <a:off x="784440" y="3266280"/>
                                <a:ext cx="139680" cy="205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66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6280" bIns="-262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5" name=""/>
                              <p:cNvSpPr/>
                              <p:nvPr/>
                            </p:nvSpPr>
                            <p:spPr>
                              <a:xfrm>
                                <a:off x="791640" y="3227760"/>
                                <a:ext cx="119880" cy="3960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66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200" bIns="-72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46" name=""/>
                            <p:cNvGrpSpPr/>
                            <p:nvPr/>
                          </p:nvGrpSpPr>
                          <p:grpSpPr>
                            <a:xfrm>
                              <a:off x="609480" y="471600"/>
                              <a:ext cx="6477120" cy="4852440"/>
                              <a:chOff x="609480" y="471600"/>
                              <a:chExt cx="6477120" cy="4852440"/>
                            </a:xfrm>
                          </p:grpSpPr>
                          <p:sp>
                            <p:nvSpPr>
                              <p:cNvPr id="147" name=""/>
                              <p:cNvSpPr/>
                              <p:nvPr/>
                            </p:nvSpPr>
                            <p:spPr>
                              <a:xfrm>
                                <a:off x="2362320" y="2819520"/>
                                <a:ext cx="4724280" cy="175248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9933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Internet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8" name=""/>
                              <p:cNvSpPr/>
                              <p:nvPr/>
                            </p:nvSpPr>
                            <p:spPr>
                              <a:xfrm>
                                <a:off x="609480" y="1752480"/>
                                <a:ext cx="2362320" cy="10670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966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pPr algn="ctr"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Azienda 1</a:t>
                                </a: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49" name=""/>
                              <p:cNvSpPr/>
                              <p:nvPr/>
                            </p:nvSpPr>
                            <p:spPr>
                              <a:xfrm>
                                <a:off x="2666880" y="2666880"/>
                                <a:ext cx="381240" cy="38124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50" name=""/>
                              <p:cNvGrpSpPr/>
                              <p:nvPr/>
                            </p:nvGrpSpPr>
                            <p:grpSpPr>
                              <a:xfrm>
                                <a:off x="685800" y="1219320"/>
                                <a:ext cx="284040" cy="294840"/>
                                <a:chOff x="685800" y="1219320"/>
                                <a:chExt cx="284040" cy="294840"/>
                              </a:xfrm>
                            </p:grpSpPr>
                            <p:pic>
                              <p:nvPicPr>
                                <p:cNvPr id="151" name="" descr=""/>
                                <p:cNvPicPr/>
                                <p:nvPr/>
                              </p:nvPicPr>
                              <p:blipFill>
                                <a:blip r:embed="rId5"/>
                                <a:stretch/>
                              </p:blipFill>
                              <p:spPr>
                                <a:xfrm>
                                  <a:off x="685800" y="1219320"/>
                                  <a:ext cx="284040" cy="17172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52" name="" descr=""/>
                                <p:cNvPicPr/>
                                <p:nvPr/>
                              </p:nvPicPr>
                              <p:blipFill>
                                <a:blip r:embed="rId6"/>
                                <a:stretch/>
                              </p:blipFill>
                              <p:spPr>
                                <a:xfrm>
                                  <a:off x="767520" y="1391040"/>
                                  <a:ext cx="117000" cy="3636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53" name="" descr=""/>
                                <p:cNvPicPr/>
                                <p:nvPr/>
                              </p:nvPicPr>
                              <p:blipFill>
                                <a:blip r:embed="rId7"/>
                                <a:stretch/>
                              </p:blipFill>
                              <p:spPr>
                                <a:xfrm>
                                  <a:off x="759240" y="1431000"/>
                                  <a:ext cx="133920" cy="180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54" name="" descr=""/>
                                <p:cNvPicPr/>
                                <p:nvPr/>
                              </p:nvPicPr>
                              <p:blipFill>
                                <a:blip r:embed="rId8"/>
                                <a:stretch/>
                              </p:blipFill>
                              <p:spPr>
                                <a:xfrm>
                                  <a:off x="690120" y="1448280"/>
                                  <a:ext cx="273600" cy="6588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  <p:grpSp>
                            <p:nvGrpSpPr>
                              <p:cNvPr id="155" name=""/>
                              <p:cNvGrpSpPr/>
                              <p:nvPr/>
                            </p:nvGrpSpPr>
                            <p:grpSpPr>
                              <a:xfrm>
                                <a:off x="2209680" y="1219320"/>
                                <a:ext cx="284400" cy="294840"/>
                                <a:chOff x="2209680" y="1219320"/>
                                <a:chExt cx="284400" cy="294840"/>
                              </a:xfrm>
                            </p:grpSpPr>
                            <p:pic>
                              <p:nvPicPr>
                                <p:cNvPr id="156" name="" descr=""/>
                                <p:cNvPicPr/>
                                <p:nvPr/>
                              </p:nvPicPr>
                              <p:blipFill>
                                <a:blip r:embed="rId9"/>
                                <a:stretch/>
                              </p:blipFill>
                              <p:spPr>
                                <a:xfrm>
                                  <a:off x="2209680" y="1219320"/>
                                  <a:ext cx="284400" cy="17172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57" name="" descr=""/>
                                <p:cNvPicPr/>
                                <p:nvPr/>
                              </p:nvPicPr>
                              <p:blipFill>
                                <a:blip r:embed="rId10"/>
                                <a:stretch/>
                              </p:blipFill>
                              <p:spPr>
                                <a:xfrm>
                                  <a:off x="2291760" y="1391040"/>
                                  <a:ext cx="117360" cy="3636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58" name="" descr=""/>
                                <p:cNvPicPr/>
                                <p:nvPr/>
                              </p:nvPicPr>
                              <p:blipFill>
                                <a:blip r:embed="rId11"/>
                                <a:stretch/>
                              </p:blipFill>
                              <p:spPr>
                                <a:xfrm>
                                  <a:off x="2283120" y="1431000"/>
                                  <a:ext cx="134280" cy="180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59" name="" descr=""/>
                                <p:cNvPicPr/>
                                <p:nvPr/>
                              </p:nvPicPr>
                              <p:blipFill>
                                <a:blip r:embed="rId12"/>
                                <a:stretch/>
                              </p:blipFill>
                              <p:spPr>
                                <a:xfrm>
                                  <a:off x="2214000" y="1448280"/>
                                  <a:ext cx="273960" cy="6588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  <p:grpSp>
                            <p:nvGrpSpPr>
                              <p:cNvPr id="160" name=""/>
                              <p:cNvGrpSpPr/>
                              <p:nvPr/>
                            </p:nvGrpSpPr>
                            <p:grpSpPr>
                              <a:xfrm>
                                <a:off x="685800" y="3048120"/>
                                <a:ext cx="284040" cy="294840"/>
                                <a:chOff x="685800" y="3048120"/>
                                <a:chExt cx="284040" cy="294840"/>
                              </a:xfrm>
                            </p:grpSpPr>
                            <p:pic>
                              <p:nvPicPr>
                                <p:cNvPr id="161" name="" descr=""/>
                                <p:cNvPicPr/>
                                <p:nvPr/>
                              </p:nvPicPr>
                              <p:blipFill>
                                <a:blip r:embed="rId13"/>
                                <a:stretch/>
                              </p:blipFill>
                              <p:spPr>
                                <a:xfrm>
                                  <a:off x="685800" y="3048120"/>
                                  <a:ext cx="284040" cy="17172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62" name="" descr=""/>
                                <p:cNvPicPr/>
                                <p:nvPr/>
                              </p:nvPicPr>
                              <p:blipFill>
                                <a:blip r:embed="rId14"/>
                                <a:stretch/>
                              </p:blipFill>
                              <p:spPr>
                                <a:xfrm>
                                  <a:off x="767520" y="3219840"/>
                                  <a:ext cx="117000" cy="3636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63" name="" descr=""/>
                                <p:cNvPicPr/>
                                <p:nvPr/>
                              </p:nvPicPr>
                              <p:blipFill>
                                <a:blip r:embed="rId15"/>
                                <a:stretch/>
                              </p:blipFill>
                              <p:spPr>
                                <a:xfrm>
                                  <a:off x="759240" y="3259800"/>
                                  <a:ext cx="133920" cy="180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64" name="" descr=""/>
                                <p:cNvPicPr/>
                                <p:nvPr/>
                              </p:nvPicPr>
                              <p:blipFill>
                                <a:blip r:embed="rId16"/>
                                <a:stretch/>
                              </p:blipFill>
                              <p:spPr>
                                <a:xfrm>
                                  <a:off x="690120" y="3277080"/>
                                  <a:ext cx="273600" cy="6588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  <p:grpSp>
                            <p:nvGrpSpPr>
                              <p:cNvPr id="165" name=""/>
                              <p:cNvGrpSpPr/>
                              <p:nvPr/>
                            </p:nvGrpSpPr>
                            <p:grpSpPr>
                              <a:xfrm>
                                <a:off x="1371600" y="3124080"/>
                                <a:ext cx="284040" cy="295560"/>
                                <a:chOff x="1371600" y="3124080"/>
                                <a:chExt cx="284040" cy="295560"/>
                              </a:xfrm>
                            </p:grpSpPr>
                            <p:pic>
                              <p:nvPicPr>
                                <p:cNvPr id="166" name="" descr=""/>
                                <p:cNvPicPr/>
                                <p:nvPr/>
                              </p:nvPicPr>
                              <p:blipFill>
                                <a:blip r:embed="rId17"/>
                                <a:stretch/>
                              </p:blipFill>
                              <p:spPr>
                                <a:xfrm>
                                  <a:off x="1371600" y="3124080"/>
                                  <a:ext cx="284040" cy="17208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67" name="" descr=""/>
                                <p:cNvPicPr/>
                                <p:nvPr/>
                              </p:nvPicPr>
                              <p:blipFill>
                                <a:blip r:embed="rId18"/>
                                <a:stretch/>
                              </p:blipFill>
                              <p:spPr>
                                <a:xfrm>
                                  <a:off x="1453320" y="3296160"/>
                                  <a:ext cx="117000" cy="3672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68" name="" descr=""/>
                                <p:cNvPicPr/>
                                <p:nvPr/>
                              </p:nvPicPr>
                              <p:blipFill>
                                <a:blip r:embed="rId19"/>
                                <a:stretch/>
                              </p:blipFill>
                              <p:spPr>
                                <a:xfrm>
                                  <a:off x="1445040" y="3336120"/>
                                  <a:ext cx="133920" cy="180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69" name="" descr=""/>
                                <p:cNvPicPr/>
                                <p:nvPr/>
                              </p:nvPicPr>
                              <p:blipFill>
                                <a:blip r:embed="rId20"/>
                                <a:stretch/>
                              </p:blipFill>
                              <p:spPr>
                                <a:xfrm>
                                  <a:off x="1375920" y="3353400"/>
                                  <a:ext cx="273600" cy="6624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  <p:grpSp>
                            <p:nvGrpSpPr>
                              <p:cNvPr id="170" name=""/>
                              <p:cNvGrpSpPr/>
                              <p:nvPr/>
                            </p:nvGrpSpPr>
                            <p:grpSpPr>
                              <a:xfrm>
                                <a:off x="2819520" y="1447920"/>
                                <a:ext cx="284040" cy="294840"/>
                                <a:chOff x="2819520" y="1447920"/>
                                <a:chExt cx="284040" cy="294840"/>
                              </a:xfrm>
                            </p:grpSpPr>
                            <p:pic>
                              <p:nvPicPr>
                                <p:cNvPr id="171" name="" descr=""/>
                                <p:cNvPicPr/>
                                <p:nvPr/>
                              </p:nvPicPr>
                              <p:blipFill>
                                <a:blip r:embed="rId21"/>
                                <a:stretch/>
                              </p:blipFill>
                              <p:spPr>
                                <a:xfrm>
                                  <a:off x="2819520" y="1447920"/>
                                  <a:ext cx="284040" cy="17172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72" name="" descr=""/>
                                <p:cNvPicPr/>
                                <p:nvPr/>
                              </p:nvPicPr>
                              <p:blipFill>
                                <a:blip r:embed="rId22"/>
                                <a:stretch/>
                              </p:blipFill>
                              <p:spPr>
                                <a:xfrm>
                                  <a:off x="2901240" y="1619640"/>
                                  <a:ext cx="117000" cy="3636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73" name="" descr=""/>
                                <p:cNvPicPr/>
                                <p:nvPr/>
                              </p:nvPicPr>
                              <p:blipFill>
                                <a:blip r:embed="rId23"/>
                                <a:stretch/>
                              </p:blipFill>
                              <p:spPr>
                                <a:xfrm>
                                  <a:off x="2892960" y="1659600"/>
                                  <a:ext cx="133920" cy="180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74" name="" descr=""/>
                                <p:cNvPicPr/>
                                <p:nvPr/>
                              </p:nvPicPr>
                              <p:blipFill>
                                <a:blip r:embed="rId24"/>
                                <a:stretch/>
                              </p:blipFill>
                              <p:spPr>
                                <a:xfrm>
                                  <a:off x="2823840" y="1676880"/>
                                  <a:ext cx="273600" cy="6588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  <p:sp>
                            <p:nvSpPr>
                              <p:cNvPr id="175" name=""/>
                              <p:cNvSpPr/>
                              <p:nvPr/>
                            </p:nvSpPr>
                            <p:spPr>
                              <a:xfrm>
                                <a:off x="914400" y="1600200"/>
                                <a:ext cx="228600" cy="22860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6" name=""/>
                              <p:cNvSpPr/>
                              <p:nvPr/>
                            </p:nvSpPr>
                            <p:spPr>
                              <a:xfrm flipH="1">
                                <a:off x="2133360" y="1523880"/>
                                <a:ext cx="152280" cy="22860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 flipH="1">
                                <a:off x="2666880" y="1752480"/>
                                <a:ext cx="152640" cy="15264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 flipV="1">
                                <a:off x="914400" y="2742840"/>
                                <a:ext cx="152280" cy="22860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 flipV="1">
                                <a:off x="1600200" y="2819520"/>
                                <a:ext cx="228600" cy="30456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80" name=""/>
                              <p:cNvGrpSpPr/>
                              <p:nvPr/>
                            </p:nvGrpSpPr>
                            <p:grpSpPr>
                              <a:xfrm>
                                <a:off x="2666880" y="5029200"/>
                                <a:ext cx="284400" cy="294840"/>
                                <a:chOff x="2666880" y="5029200"/>
                                <a:chExt cx="284400" cy="294840"/>
                              </a:xfrm>
                            </p:grpSpPr>
                            <p:pic>
                              <p:nvPicPr>
                                <p:cNvPr id="181" name="" descr=""/>
                                <p:cNvPicPr/>
                                <p:nvPr/>
                              </p:nvPicPr>
                              <p:blipFill>
                                <a:blip r:embed="rId25"/>
                                <a:stretch/>
                              </p:blipFill>
                              <p:spPr>
                                <a:xfrm>
                                  <a:off x="2666880" y="5029200"/>
                                  <a:ext cx="284400" cy="17172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82" name="" descr=""/>
                                <p:cNvPicPr/>
                                <p:nvPr/>
                              </p:nvPicPr>
                              <p:blipFill>
                                <a:blip r:embed="rId26"/>
                                <a:stretch/>
                              </p:blipFill>
                              <p:spPr>
                                <a:xfrm>
                                  <a:off x="2748960" y="5200920"/>
                                  <a:ext cx="117360" cy="3636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83" name="" descr=""/>
                                <p:cNvPicPr/>
                                <p:nvPr/>
                              </p:nvPicPr>
                              <p:blipFill>
                                <a:blip r:embed="rId27"/>
                                <a:stretch/>
                              </p:blipFill>
                              <p:spPr>
                                <a:xfrm>
                                  <a:off x="2740320" y="5240880"/>
                                  <a:ext cx="134280" cy="180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84" name="" descr=""/>
                                <p:cNvPicPr/>
                                <p:nvPr/>
                              </p:nvPicPr>
                              <p:blipFill>
                                <a:blip r:embed="rId28"/>
                                <a:stretch/>
                              </p:blipFill>
                              <p:spPr>
                                <a:xfrm>
                                  <a:off x="2671200" y="5258160"/>
                                  <a:ext cx="273960" cy="6588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  <p:grpSp>
                            <p:nvGrpSpPr>
                              <p:cNvPr id="185" name=""/>
                              <p:cNvGrpSpPr/>
                              <p:nvPr/>
                            </p:nvGrpSpPr>
                            <p:grpSpPr>
                              <a:xfrm>
                                <a:off x="1981080" y="4800600"/>
                                <a:ext cx="284400" cy="294840"/>
                                <a:chOff x="1981080" y="4800600"/>
                                <a:chExt cx="284400" cy="294840"/>
                              </a:xfrm>
                            </p:grpSpPr>
                            <p:pic>
                              <p:nvPicPr>
                                <p:cNvPr id="186" name="" descr=""/>
                                <p:cNvPicPr/>
                                <p:nvPr/>
                              </p:nvPicPr>
                              <p:blipFill>
                                <a:blip r:embed="rId29"/>
                                <a:stretch/>
                              </p:blipFill>
                              <p:spPr>
                                <a:xfrm>
                                  <a:off x="1981080" y="4800600"/>
                                  <a:ext cx="284400" cy="17172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87" name="" descr=""/>
                                <p:cNvPicPr/>
                                <p:nvPr/>
                              </p:nvPicPr>
                              <p:blipFill>
                                <a:blip r:embed="rId30"/>
                                <a:stretch/>
                              </p:blipFill>
                              <p:spPr>
                                <a:xfrm>
                                  <a:off x="2063160" y="4972320"/>
                                  <a:ext cx="117360" cy="3636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88" name="" descr=""/>
                                <p:cNvPicPr/>
                                <p:nvPr/>
                              </p:nvPicPr>
                              <p:blipFill>
                                <a:blip r:embed="rId31"/>
                                <a:stretch/>
                              </p:blipFill>
                              <p:spPr>
                                <a:xfrm>
                                  <a:off x="2054520" y="5012280"/>
                                  <a:ext cx="134280" cy="180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89" name="" descr=""/>
                                <p:cNvPicPr/>
                                <p:nvPr/>
                              </p:nvPicPr>
                              <p:blipFill>
                                <a:blip r:embed="rId32"/>
                                <a:stretch/>
                              </p:blipFill>
                              <p:spPr>
                                <a:xfrm>
                                  <a:off x="1985400" y="5029560"/>
                                  <a:ext cx="273960" cy="6588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  <p:grpSp>
                            <p:nvGrpSpPr>
                              <p:cNvPr id="190" name=""/>
                              <p:cNvGrpSpPr/>
                              <p:nvPr/>
                            </p:nvGrpSpPr>
                            <p:grpSpPr>
                              <a:xfrm>
                                <a:off x="1447920" y="4419720"/>
                                <a:ext cx="284040" cy="294840"/>
                                <a:chOff x="1447920" y="4419720"/>
                                <a:chExt cx="284040" cy="294840"/>
                              </a:xfrm>
                            </p:grpSpPr>
                            <p:pic>
                              <p:nvPicPr>
                                <p:cNvPr id="191" name="" descr=""/>
                                <p:cNvPicPr/>
                                <p:nvPr/>
                              </p:nvPicPr>
                              <p:blipFill>
                                <a:blip r:embed="rId33"/>
                                <a:stretch/>
                              </p:blipFill>
                              <p:spPr>
                                <a:xfrm>
                                  <a:off x="1447920" y="4419720"/>
                                  <a:ext cx="284040" cy="17172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92" name="" descr=""/>
                                <p:cNvPicPr/>
                                <p:nvPr/>
                              </p:nvPicPr>
                              <p:blipFill>
                                <a:blip r:embed="rId34"/>
                                <a:stretch/>
                              </p:blipFill>
                              <p:spPr>
                                <a:xfrm>
                                  <a:off x="1529640" y="4591440"/>
                                  <a:ext cx="117000" cy="3636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93" name="" descr=""/>
                                <p:cNvPicPr/>
                                <p:nvPr/>
                              </p:nvPicPr>
                              <p:blipFill>
                                <a:blip r:embed="rId35"/>
                                <a:stretch/>
                              </p:blipFill>
                              <p:spPr>
                                <a:xfrm>
                                  <a:off x="1521360" y="4631400"/>
                                  <a:ext cx="133920" cy="1800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pic>
                              <p:nvPicPr>
                                <p:cNvPr id="194" name="" descr=""/>
                                <p:cNvPicPr/>
                                <p:nvPr/>
                              </p:nvPicPr>
                              <p:blipFill>
                                <a:blip r:embed="rId36"/>
                                <a:stretch/>
                              </p:blipFill>
                              <p:spPr>
                                <a:xfrm>
                                  <a:off x="1452240" y="4648680"/>
                                  <a:ext cx="273600" cy="6588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</p:grpSp>
                          <p:sp>
                            <p:nvSpPr>
                              <p:cNvPr id="195" name=""/>
                              <p:cNvSpPr/>
                              <p:nvPr/>
                            </p:nvSpPr>
                            <p:spPr>
                              <a:xfrm flipV="1">
                                <a:off x="1828800" y="4038120"/>
                                <a:ext cx="685800" cy="38124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6" name=""/>
                              <p:cNvSpPr/>
                              <p:nvPr/>
                            </p:nvSpPr>
                            <p:spPr>
                              <a:xfrm flipV="1">
                                <a:off x="2895480" y="4419360"/>
                                <a:ext cx="457200" cy="53316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97" name=""/>
                              <p:cNvSpPr/>
                              <p:nvPr/>
                            </p:nvSpPr>
                            <p:spPr>
                              <a:xfrm rot="8082000">
                                <a:off x="2666520" y="2742840"/>
                                <a:ext cx="228600" cy="76320"/>
                              </a:xfrm>
                              <a:prstGeom prst="rect">
                                <a:avLst/>
                              </a:prstGeom>
                              <a:solidFill>
                                <a:srgbClr val="ff9966"/>
                              </a:solidFill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9520" bIns="2952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grpSp>
                            <p:nvGrpSpPr>
                              <p:cNvPr id="198" name=""/>
                              <p:cNvGrpSpPr/>
                              <p:nvPr/>
                            </p:nvGrpSpPr>
                            <p:grpSpPr>
                              <a:xfrm>
                                <a:off x="1523880" y="990720"/>
                                <a:ext cx="141480" cy="368280"/>
                                <a:chOff x="1523880" y="990720"/>
                                <a:chExt cx="141480" cy="368280"/>
                              </a:xfrm>
                            </p:grpSpPr>
                            <p:pic>
                              <p:nvPicPr>
                                <p:cNvPr id="199" name="" descr=""/>
                                <p:cNvPicPr/>
                                <p:nvPr/>
                              </p:nvPicPr>
                              <p:blipFill>
                                <a:blip r:embed="rId37"/>
                                <a:stretch/>
                              </p:blipFill>
                              <p:spPr>
                                <a:xfrm>
                                  <a:off x="1523880" y="990720"/>
                                  <a:ext cx="141480" cy="36828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sp>
                              <p:nvSpPr>
                                <p:cNvPr id="200" name=""/>
                                <p:cNvSpPr/>
                                <p:nvPr/>
                              </p:nvSpPr>
                              <p:spPr>
                                <a:xfrm>
                                  <a:off x="1529640" y="1221120"/>
                                  <a:ext cx="80640" cy="136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66"/>
                                </a:solidFill>
                                <a:ln w="9360">
                                  <a:solidFill>
                                    <a:srgbClr val="969696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3120" bIns="-331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1" name=""/>
                                <p:cNvSpPr/>
                                <p:nvPr/>
                              </p:nvSpPr>
                              <p:spPr>
                                <a:xfrm>
                                  <a:off x="1552680" y="1030680"/>
                                  <a:ext cx="52920" cy="540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66"/>
                                </a:solidFill>
                                <a:ln w="9360">
                                  <a:solidFill>
                                    <a:srgbClr val="5f5f5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202" name=""/>
                              <p:cNvGrpSpPr/>
                              <p:nvPr/>
                            </p:nvGrpSpPr>
                            <p:grpSpPr>
                              <a:xfrm>
                                <a:off x="3124080" y="2438280"/>
                                <a:ext cx="141480" cy="368280"/>
                                <a:chOff x="3124080" y="2438280"/>
                                <a:chExt cx="141480" cy="368280"/>
                              </a:xfrm>
                            </p:grpSpPr>
                            <p:pic>
                              <p:nvPicPr>
                                <p:cNvPr id="203" name="" descr=""/>
                                <p:cNvPicPr/>
                                <p:nvPr/>
                              </p:nvPicPr>
                              <p:blipFill>
                                <a:blip r:embed="rId38"/>
                                <a:stretch/>
                              </p:blipFill>
                              <p:spPr>
                                <a:xfrm>
                                  <a:off x="3124080" y="2438280"/>
                                  <a:ext cx="141480" cy="368280"/>
                                </a:xfrm>
                                <a:prstGeom prst="rect">
                                  <a:avLst/>
                                </a:prstGeom>
                                <a:ln w="0">
                                  <a:noFill/>
                                </a:ln>
                              </p:spPr>
                            </p:pic>
                            <p:sp>
                              <p:nvSpPr>
                                <p:cNvPr id="204" name=""/>
                                <p:cNvSpPr/>
                                <p:nvPr/>
                              </p:nvSpPr>
                              <p:spPr>
                                <a:xfrm>
                                  <a:off x="3129840" y="2668680"/>
                                  <a:ext cx="80640" cy="1368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66"/>
                                </a:solidFill>
                                <a:ln w="9360">
                                  <a:solidFill>
                                    <a:srgbClr val="969696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33120" bIns="-331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05" name=""/>
                                <p:cNvSpPr/>
                                <p:nvPr/>
                              </p:nvSpPr>
                              <p:spPr>
                                <a:xfrm>
                                  <a:off x="3152880" y="2478240"/>
                                  <a:ext cx="52920" cy="54000"/>
                                </a:xfrm>
                                <a:prstGeom prst="rect">
                                  <a:avLst/>
                                </a:prstGeom>
                                <a:solidFill>
                                  <a:srgbClr val="ff9966"/>
                                </a:solidFill>
                                <a:ln w="9360">
                                  <a:solidFill>
                                    <a:srgbClr val="5f5f5f"/>
                                  </a:solidFill>
                                  <a:miter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200" bIns="72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06" name=""/>
                              <p:cNvSpPr/>
                              <p:nvPr/>
                            </p:nvSpPr>
                            <p:spPr>
                              <a:xfrm>
                                <a:off x="1600200" y="1447920"/>
                                <a:ext cx="0" cy="30456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7" name=""/>
                              <p:cNvSpPr/>
                              <p:nvPr/>
                            </p:nvSpPr>
                            <p:spPr>
                              <a:xfrm flipH="1">
                                <a:off x="2895120" y="2743200"/>
                                <a:ext cx="228600" cy="152280"/>
                              </a:xfrm>
                              <a:prstGeom prst="line">
                                <a:avLst/>
                              </a:prstGeom>
                              <a:ln w="2844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8" name=""/>
                              <p:cNvSpPr/>
                              <p:nvPr/>
                            </p:nvSpPr>
                            <p:spPr>
                              <a:xfrm>
                                <a:off x="2895480" y="3048120"/>
                                <a:ext cx="457200" cy="3045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9999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09" name=""/>
                              <p:cNvSpPr/>
                              <p:nvPr/>
                            </p:nvSpPr>
                            <p:spPr>
                              <a:xfrm>
                                <a:off x="2514600" y="3809880"/>
                                <a:ext cx="457200" cy="3049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9999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0" name=""/>
                              <p:cNvSpPr/>
                              <p:nvPr/>
                            </p:nvSpPr>
                            <p:spPr>
                              <a:xfrm>
                                <a:off x="3276720" y="4114800"/>
                                <a:ext cx="457200" cy="3049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009999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1" name=""/>
                              <p:cNvSpPr/>
                              <p:nvPr/>
                            </p:nvSpPr>
                            <p:spPr>
                              <a:xfrm flipH="1">
                                <a:off x="2209320" y="4114800"/>
                                <a:ext cx="381240" cy="609480"/>
                              </a:xfrm>
                              <a:prstGeom prst="line">
                                <a:avLst/>
                              </a:prstGeom>
                              <a:ln w="381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2" name=""/>
                              <p:cNvSpPr/>
                              <p:nvPr/>
                            </p:nvSpPr>
                            <p:spPr>
                              <a:xfrm>
                                <a:off x="3124080" y="1676520"/>
                                <a:ext cx="12193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Firewall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3" name=""/>
                              <p:cNvSpPr/>
                              <p:nvPr/>
                            </p:nvSpPr>
                            <p:spPr>
                              <a:xfrm flipV="1">
                                <a:off x="2895480" y="1980720"/>
                                <a:ext cx="381240" cy="6858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4" name=""/>
                              <p:cNvSpPr/>
                              <p:nvPr/>
                            </p:nvSpPr>
                            <p:spPr>
                              <a:xfrm>
                                <a:off x="3505320" y="1981080"/>
                                <a:ext cx="205740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Web server esposto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5" name=""/>
                              <p:cNvSpPr/>
                              <p:nvPr/>
                            </p:nvSpPr>
                            <p:spPr>
                              <a:xfrm flipV="1">
                                <a:off x="3352680" y="2285640"/>
                                <a:ext cx="533520" cy="30492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6" name=""/>
                              <p:cNvSpPr/>
                              <p:nvPr/>
                            </p:nvSpPr>
                            <p:spPr>
                              <a:xfrm>
                                <a:off x="1600200" y="471600"/>
                                <a:ext cx="205740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Web server interno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7" name=""/>
                              <p:cNvSpPr/>
                              <p:nvPr/>
                            </p:nvSpPr>
                            <p:spPr>
                              <a:xfrm flipV="1">
                                <a:off x="1676520" y="761760"/>
                                <a:ext cx="457200" cy="228600"/>
                              </a:xfrm>
                              <a:prstGeom prst="line">
                                <a:avLst/>
                              </a:prstGeom>
                              <a:ln w="9360">
                                <a:solidFill>
                                  <a:srgbClr val="000000"/>
                                </a:solidFill>
                                <a:miter/>
                                <a:headEnd len="med" type="triangle" w="med"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8" name=""/>
                              <p:cNvSpPr/>
                              <p:nvPr/>
                            </p:nvSpPr>
                            <p:spPr>
                              <a:xfrm>
                                <a:off x="2895480" y="3276720"/>
                                <a:ext cx="1219320" cy="3682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spAutoFit/>
                              </a:bodyPr>
                              <a:p>
                                <a:pPr>
                                  <a:spcBef>
                                    <a:spcPts val="1125"/>
                                  </a:spcBef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r>
                                  <a:rPr b="0" lang="en-US" sz="18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rPr>
                                  <a:t>ISP</a:t>
                                </a:r>
                                <a:endParaRPr b="0" lang="en-US" sz="18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</p:grpSp>
              </p:grpSp>
            </p:grpSp>
          </p:grpSp>
        </p:grpSp>
      </p:grpSp>
      <p:grpSp>
        <p:nvGrpSpPr>
          <p:cNvPr id="219" name=""/>
          <p:cNvGrpSpPr/>
          <p:nvPr/>
        </p:nvGrpSpPr>
        <p:grpSpPr>
          <a:xfrm>
            <a:off x="5638680" y="685800"/>
            <a:ext cx="3505320" cy="3340080"/>
            <a:chOff x="5638680" y="685800"/>
            <a:chExt cx="3505320" cy="3340080"/>
          </a:xfrm>
        </p:grpSpPr>
        <p:sp>
          <p:nvSpPr>
            <p:cNvPr id="220" name=""/>
            <p:cNvSpPr/>
            <p:nvPr/>
          </p:nvSpPr>
          <p:spPr>
            <a:xfrm>
              <a:off x="5791320" y="2971800"/>
              <a:ext cx="457200" cy="304920"/>
            </a:xfrm>
            <a:prstGeom prst="ellipse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5638680" y="685800"/>
              <a:ext cx="3505320" cy="3340080"/>
              <a:chOff x="5638680" y="685800"/>
              <a:chExt cx="3505320" cy="3340080"/>
            </a:xfrm>
          </p:grpSpPr>
          <p:sp>
            <p:nvSpPr>
              <p:cNvPr id="222" name=""/>
              <p:cNvSpPr/>
              <p:nvPr/>
            </p:nvSpPr>
            <p:spPr>
              <a:xfrm flipH="1">
                <a:off x="6095520" y="2590920"/>
                <a:ext cx="304920" cy="38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8001000" y="2895480"/>
                <a:ext cx="304920" cy="304560"/>
                <a:chOff x="8001000" y="2895480"/>
                <a:chExt cx="304920" cy="304560"/>
              </a:xfrm>
            </p:grpSpPr>
            <p:grpSp>
              <p:nvGrpSpPr>
                <p:cNvPr id="224" name=""/>
                <p:cNvGrpSpPr/>
                <p:nvPr/>
              </p:nvGrpSpPr>
              <p:grpSpPr>
                <a:xfrm>
                  <a:off x="8029440" y="2907720"/>
                  <a:ext cx="276480" cy="292320"/>
                  <a:chOff x="8029440" y="2907720"/>
                  <a:chExt cx="276480" cy="292320"/>
                </a:xfrm>
              </p:grpSpPr>
              <p:sp>
                <p:nvSpPr>
                  <p:cNvPr id="225" name=""/>
                  <p:cNvSpPr/>
                  <p:nvPr/>
                </p:nvSpPr>
                <p:spPr>
                  <a:xfrm>
                    <a:off x="8029440" y="2907720"/>
                    <a:ext cx="276480" cy="16848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8033400" y="3132000"/>
                    <a:ext cx="270720" cy="6804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8099640" y="3113640"/>
                    <a:ext cx="139680" cy="2052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8106840" y="3074760"/>
                    <a:ext cx="119880" cy="3996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9" name=""/>
                <p:cNvGrpSpPr/>
                <p:nvPr/>
              </p:nvGrpSpPr>
              <p:grpSpPr>
                <a:xfrm>
                  <a:off x="8001000" y="2895480"/>
                  <a:ext cx="283680" cy="294480"/>
                  <a:chOff x="8001000" y="2895480"/>
                  <a:chExt cx="283680" cy="294480"/>
                </a:xfrm>
              </p:grpSpPr>
              <p:pic>
                <p:nvPicPr>
                  <p:cNvPr id="230" name="" descr=""/>
                  <p:cNvPicPr/>
                  <p:nvPr/>
                </p:nvPicPr>
                <p:blipFill>
                  <a:blip r:embed="rId39"/>
                  <a:stretch/>
                </p:blipFill>
                <p:spPr>
                  <a:xfrm>
                    <a:off x="8001000" y="2895480"/>
                    <a:ext cx="28368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31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8082720" y="3067200"/>
                    <a:ext cx="117000" cy="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32" name="" descr=""/>
                  <p:cNvPicPr/>
                  <p:nvPr/>
                </p:nvPicPr>
                <p:blipFill>
                  <a:blip r:embed="rId41"/>
                  <a:stretch/>
                </p:blipFill>
                <p:spPr>
                  <a:xfrm>
                    <a:off x="8074440" y="3107160"/>
                    <a:ext cx="133920" cy="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33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8005320" y="3124080"/>
                    <a:ext cx="273240" cy="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7391520" y="1143000"/>
                <a:ext cx="304560" cy="304560"/>
                <a:chOff x="7391520" y="1143000"/>
                <a:chExt cx="304560" cy="30456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7419960" y="1155240"/>
                  <a:ext cx="276120" cy="292320"/>
                  <a:chOff x="7419960" y="1155240"/>
                  <a:chExt cx="276120" cy="29232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7419960" y="1155240"/>
                    <a:ext cx="276120" cy="16848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7423920" y="1379520"/>
                    <a:ext cx="270360" cy="6804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7490160" y="1361160"/>
                    <a:ext cx="139320" cy="2052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7497000" y="1322280"/>
                    <a:ext cx="119520" cy="3996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7391520" y="1143000"/>
                  <a:ext cx="283320" cy="294480"/>
                  <a:chOff x="7391520" y="1143000"/>
                  <a:chExt cx="283320" cy="294480"/>
                </a:xfrm>
              </p:grpSpPr>
              <p:pic>
                <p:nvPicPr>
                  <p:cNvPr id="241" name="" descr=""/>
                  <p:cNvPicPr/>
                  <p:nvPr/>
                </p:nvPicPr>
                <p:blipFill>
                  <a:blip r:embed="rId43"/>
                  <a:stretch/>
                </p:blipFill>
                <p:spPr>
                  <a:xfrm>
                    <a:off x="7391520" y="1143000"/>
                    <a:ext cx="28332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2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7473240" y="1314720"/>
                    <a:ext cx="116640" cy="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3" name="" descr=""/>
                  <p:cNvPicPr/>
                  <p:nvPr/>
                </p:nvPicPr>
                <p:blipFill>
                  <a:blip r:embed="rId45"/>
                  <a:stretch/>
                </p:blipFill>
                <p:spPr>
                  <a:xfrm>
                    <a:off x="7464960" y="1354680"/>
                    <a:ext cx="133560" cy="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4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7395840" y="1371600"/>
                    <a:ext cx="272880" cy="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45" name=""/>
              <p:cNvGrpSpPr/>
              <p:nvPr/>
            </p:nvGrpSpPr>
            <p:grpSpPr>
              <a:xfrm>
                <a:off x="6629400" y="1143000"/>
                <a:ext cx="304920" cy="304560"/>
                <a:chOff x="6629400" y="1143000"/>
                <a:chExt cx="304920" cy="304560"/>
              </a:xfrm>
            </p:grpSpPr>
            <p:grpSp>
              <p:nvGrpSpPr>
                <p:cNvPr id="246" name=""/>
                <p:cNvGrpSpPr/>
                <p:nvPr/>
              </p:nvGrpSpPr>
              <p:grpSpPr>
                <a:xfrm>
                  <a:off x="6657840" y="1155240"/>
                  <a:ext cx="276480" cy="292320"/>
                  <a:chOff x="6657840" y="1155240"/>
                  <a:chExt cx="276480" cy="292320"/>
                </a:xfrm>
              </p:grpSpPr>
              <p:sp>
                <p:nvSpPr>
                  <p:cNvPr id="247" name=""/>
                  <p:cNvSpPr/>
                  <p:nvPr/>
                </p:nvSpPr>
                <p:spPr>
                  <a:xfrm>
                    <a:off x="6657840" y="1155240"/>
                    <a:ext cx="276480" cy="16848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6661800" y="1379520"/>
                    <a:ext cx="270720" cy="6804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728040" y="1361160"/>
                    <a:ext cx="139680" cy="2052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6735240" y="1322280"/>
                    <a:ext cx="119880" cy="3996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1" name=""/>
                <p:cNvGrpSpPr/>
                <p:nvPr/>
              </p:nvGrpSpPr>
              <p:grpSpPr>
                <a:xfrm>
                  <a:off x="6629400" y="1143000"/>
                  <a:ext cx="283680" cy="294480"/>
                  <a:chOff x="6629400" y="1143000"/>
                  <a:chExt cx="283680" cy="294480"/>
                </a:xfrm>
              </p:grpSpPr>
              <p:pic>
                <p:nvPicPr>
                  <p:cNvPr id="252" name="" descr=""/>
                  <p:cNvPicPr/>
                  <p:nvPr/>
                </p:nvPicPr>
                <p:blipFill>
                  <a:blip r:embed="rId47"/>
                  <a:stretch/>
                </p:blipFill>
                <p:spPr>
                  <a:xfrm>
                    <a:off x="6629400" y="1143000"/>
                    <a:ext cx="28368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6711120" y="1314720"/>
                    <a:ext cx="117000" cy="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4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6702840" y="1354680"/>
                    <a:ext cx="133920" cy="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6633720" y="1371600"/>
                    <a:ext cx="273240" cy="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56" name=""/>
              <p:cNvGrpSpPr/>
              <p:nvPr/>
            </p:nvGrpSpPr>
            <p:grpSpPr>
              <a:xfrm>
                <a:off x="8229600" y="1295280"/>
                <a:ext cx="304920" cy="304560"/>
                <a:chOff x="8229600" y="1295280"/>
                <a:chExt cx="304920" cy="304560"/>
              </a:xfrm>
            </p:grpSpPr>
            <p:grpSp>
              <p:nvGrpSpPr>
                <p:cNvPr id="257" name=""/>
                <p:cNvGrpSpPr/>
                <p:nvPr/>
              </p:nvGrpSpPr>
              <p:grpSpPr>
                <a:xfrm>
                  <a:off x="8258040" y="1307520"/>
                  <a:ext cx="276480" cy="292320"/>
                  <a:chOff x="8258040" y="1307520"/>
                  <a:chExt cx="276480" cy="292320"/>
                </a:xfrm>
              </p:grpSpPr>
              <p:sp>
                <p:nvSpPr>
                  <p:cNvPr id="258" name=""/>
                  <p:cNvSpPr/>
                  <p:nvPr/>
                </p:nvSpPr>
                <p:spPr>
                  <a:xfrm>
                    <a:off x="8258040" y="1307520"/>
                    <a:ext cx="276480" cy="16848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8262000" y="1531800"/>
                    <a:ext cx="270720" cy="6804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8328240" y="1513440"/>
                    <a:ext cx="139680" cy="2052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8335440" y="1474560"/>
                    <a:ext cx="119880" cy="3996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8229600" y="1295280"/>
                  <a:ext cx="283680" cy="294480"/>
                  <a:chOff x="8229600" y="1295280"/>
                  <a:chExt cx="283680" cy="294480"/>
                </a:xfrm>
              </p:grpSpPr>
              <p:pic>
                <p:nvPicPr>
                  <p:cNvPr id="263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8229600" y="1295280"/>
                    <a:ext cx="28368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4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8311320" y="1467000"/>
                    <a:ext cx="117000" cy="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5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8303040" y="1506960"/>
                    <a:ext cx="133920" cy="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66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8233920" y="1523880"/>
                    <a:ext cx="273240" cy="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5867280" y="1371600"/>
                <a:ext cx="304920" cy="304560"/>
                <a:chOff x="5867280" y="1371600"/>
                <a:chExt cx="304920" cy="304560"/>
              </a:xfrm>
            </p:grpSpPr>
            <p:grpSp>
              <p:nvGrpSpPr>
                <p:cNvPr id="268" name=""/>
                <p:cNvGrpSpPr/>
                <p:nvPr/>
              </p:nvGrpSpPr>
              <p:grpSpPr>
                <a:xfrm>
                  <a:off x="5895720" y="1383840"/>
                  <a:ext cx="276480" cy="292320"/>
                  <a:chOff x="5895720" y="1383840"/>
                  <a:chExt cx="276480" cy="29232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5895720" y="1383840"/>
                    <a:ext cx="276480" cy="16848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5899680" y="1608120"/>
                    <a:ext cx="270720" cy="6804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5965920" y="1589760"/>
                    <a:ext cx="139680" cy="2052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5973120" y="1550880"/>
                    <a:ext cx="119880" cy="3996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3" name=""/>
                <p:cNvGrpSpPr/>
                <p:nvPr/>
              </p:nvGrpSpPr>
              <p:grpSpPr>
                <a:xfrm>
                  <a:off x="5867280" y="1371600"/>
                  <a:ext cx="283680" cy="294480"/>
                  <a:chOff x="5867280" y="1371600"/>
                  <a:chExt cx="283680" cy="294480"/>
                </a:xfrm>
              </p:grpSpPr>
              <p:pic>
                <p:nvPicPr>
                  <p:cNvPr id="274" name="" descr=""/>
                  <p:cNvPicPr/>
                  <p:nvPr/>
                </p:nvPicPr>
                <p:blipFill>
                  <a:blip r:embed="rId55"/>
                  <a:stretch/>
                </p:blipFill>
                <p:spPr>
                  <a:xfrm>
                    <a:off x="5867280" y="1371600"/>
                    <a:ext cx="283680" cy="1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5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5949000" y="1543320"/>
                    <a:ext cx="117000" cy="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6" name="" descr=""/>
                  <p:cNvPicPr/>
                  <p:nvPr/>
                </p:nvPicPr>
                <p:blipFill>
                  <a:blip r:embed="rId57"/>
                  <a:stretch/>
                </p:blipFill>
                <p:spPr>
                  <a:xfrm>
                    <a:off x="5940720" y="1583280"/>
                    <a:ext cx="133920" cy="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77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5871600" y="1600200"/>
                    <a:ext cx="273240" cy="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78" name=""/>
              <p:cNvGrpSpPr/>
              <p:nvPr/>
            </p:nvGrpSpPr>
            <p:grpSpPr>
              <a:xfrm>
                <a:off x="7238880" y="3048120"/>
                <a:ext cx="304920" cy="304200"/>
                <a:chOff x="7238880" y="3048120"/>
                <a:chExt cx="304920" cy="304200"/>
              </a:xfrm>
            </p:grpSpPr>
            <p:grpSp>
              <p:nvGrpSpPr>
                <p:cNvPr id="279" name=""/>
                <p:cNvGrpSpPr/>
                <p:nvPr/>
              </p:nvGrpSpPr>
              <p:grpSpPr>
                <a:xfrm>
                  <a:off x="7267320" y="3060360"/>
                  <a:ext cx="276480" cy="291960"/>
                  <a:chOff x="7267320" y="3060360"/>
                  <a:chExt cx="276480" cy="29196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7267320" y="3060360"/>
                    <a:ext cx="276480" cy="16812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7271280" y="3284280"/>
                    <a:ext cx="270720" cy="6804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240" bIns="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7337520" y="3265920"/>
                    <a:ext cx="139680" cy="2052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7344720" y="3227400"/>
                    <a:ext cx="119880" cy="39600"/>
                  </a:xfrm>
                  <a:prstGeom prst="rect">
                    <a:avLst/>
                  </a:prstGeom>
                  <a:solidFill>
                    <a:srgbClr val="5f5f5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7238880" y="3048120"/>
                  <a:ext cx="283680" cy="294120"/>
                  <a:chOff x="7238880" y="3048120"/>
                  <a:chExt cx="283680" cy="294120"/>
                </a:xfrm>
              </p:grpSpPr>
              <p:pic>
                <p:nvPicPr>
                  <p:cNvPr id="285" name="" descr=""/>
                  <p:cNvPicPr/>
                  <p:nvPr/>
                </p:nvPicPr>
                <p:blipFill>
                  <a:blip r:embed="rId59"/>
                  <a:stretch/>
                </p:blipFill>
                <p:spPr>
                  <a:xfrm>
                    <a:off x="7238880" y="3048120"/>
                    <a:ext cx="283680" cy="1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6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7320600" y="3219480"/>
                    <a:ext cx="117000" cy="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7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7312320" y="3259440"/>
                    <a:ext cx="133920" cy="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88" name="" descr=""/>
                  <p:cNvPicPr/>
                  <p:nvPr/>
                </p:nvPicPr>
                <p:blipFill>
                  <a:blip r:embed="rId62"/>
                  <a:stretch/>
                </p:blipFill>
                <p:spPr>
                  <a:xfrm>
                    <a:off x="7243200" y="3276360"/>
                    <a:ext cx="273240" cy="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sp>
            <p:nvSpPr>
              <p:cNvPr id="289" name=""/>
              <p:cNvSpPr/>
              <p:nvPr/>
            </p:nvSpPr>
            <p:spPr>
              <a:xfrm>
                <a:off x="6172200" y="1752480"/>
                <a:ext cx="76320" cy="76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81680" y="152388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7467480" y="1447920"/>
                <a:ext cx="7632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8077320" y="1600200"/>
                <a:ext cx="304560" cy="2286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7391520" y="274284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 flipV="1">
                <a:off x="8076960" y="2590920"/>
                <a:ext cx="15228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2092800">
                <a:off x="6172200" y="2666880"/>
                <a:ext cx="228600" cy="763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6" name=""/>
              <p:cNvGrpSpPr/>
              <p:nvPr/>
            </p:nvGrpSpPr>
            <p:grpSpPr>
              <a:xfrm>
                <a:off x="5638680" y="2362320"/>
                <a:ext cx="152280" cy="380880"/>
                <a:chOff x="5638680" y="2362320"/>
                <a:chExt cx="152280" cy="38088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660280" y="2378160"/>
                  <a:ext cx="130680" cy="36504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8" name=""/>
                <p:cNvGrpSpPr/>
                <p:nvPr/>
              </p:nvGrpSpPr>
              <p:grpSpPr>
                <a:xfrm>
                  <a:off x="5638680" y="2362320"/>
                  <a:ext cx="141120" cy="367920"/>
                  <a:chOff x="5638680" y="2362320"/>
                  <a:chExt cx="141120" cy="367920"/>
                </a:xfrm>
              </p:grpSpPr>
              <p:pic>
                <p:nvPicPr>
                  <p:cNvPr id="299" name="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5638680" y="2362320"/>
                    <a:ext cx="141120" cy="36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0" name=""/>
                  <p:cNvSpPr/>
                  <p:nvPr/>
                </p:nvSpPr>
                <p:spPr>
                  <a:xfrm>
                    <a:off x="5644440" y="2592360"/>
                    <a:ext cx="80280" cy="1368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667480" y="2402280"/>
                    <a:ext cx="52920" cy="5400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2" name=""/>
              <p:cNvSpPr/>
              <p:nvPr/>
            </p:nvSpPr>
            <p:spPr>
              <a:xfrm>
                <a:off x="5791320" y="2590920"/>
                <a:ext cx="3808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"/>
              <p:cNvGrpSpPr/>
              <p:nvPr/>
            </p:nvGrpSpPr>
            <p:grpSpPr>
              <a:xfrm>
                <a:off x="8686800" y="2438280"/>
                <a:ext cx="151920" cy="381240"/>
                <a:chOff x="8686800" y="2438280"/>
                <a:chExt cx="151920" cy="3812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8708400" y="2454120"/>
                  <a:ext cx="130320" cy="365400"/>
                </a:xfrm>
                <a:prstGeom prst="rect">
                  <a:avLst/>
                </a:prstGeom>
                <a:solidFill>
                  <a:srgbClr val="33cccc"/>
                </a:solidFill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"/>
                <p:cNvGrpSpPr/>
                <p:nvPr/>
              </p:nvGrpSpPr>
              <p:grpSpPr>
                <a:xfrm>
                  <a:off x="8686800" y="2438280"/>
                  <a:ext cx="140760" cy="368280"/>
                  <a:chOff x="8686800" y="2438280"/>
                  <a:chExt cx="140760" cy="368280"/>
                </a:xfrm>
              </p:grpSpPr>
              <p:pic>
                <p:nvPicPr>
                  <p:cNvPr id="306" name="" descr=""/>
                  <p:cNvPicPr/>
                  <p:nvPr/>
                </p:nvPicPr>
                <p:blipFill>
                  <a:blip r:embed="rId64"/>
                  <a:stretch/>
                </p:blipFill>
                <p:spPr>
                  <a:xfrm>
                    <a:off x="8686800" y="2438280"/>
                    <a:ext cx="14076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07" name=""/>
                  <p:cNvSpPr/>
                  <p:nvPr/>
                </p:nvSpPr>
                <p:spPr>
                  <a:xfrm>
                    <a:off x="8692560" y="2668680"/>
                    <a:ext cx="80280" cy="1368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96969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8715600" y="2478240"/>
                    <a:ext cx="52920" cy="54000"/>
                  </a:xfrm>
                  <a:prstGeom prst="rect">
                    <a:avLst/>
                  </a:prstGeom>
                  <a:solidFill>
                    <a:srgbClr val="33cccc"/>
                  </a:solidFill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9" name=""/>
              <p:cNvSpPr/>
              <p:nvPr/>
            </p:nvSpPr>
            <p:spPr>
              <a:xfrm>
                <a:off x="8305920" y="2362320"/>
                <a:ext cx="30456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" name=""/>
              <p:cNvGrpSpPr/>
              <p:nvPr/>
            </p:nvGrpSpPr>
            <p:grpSpPr>
              <a:xfrm>
                <a:off x="5943600" y="685800"/>
                <a:ext cx="3200400" cy="3340080"/>
                <a:chOff x="5943600" y="685800"/>
                <a:chExt cx="3200400" cy="334008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6019920" y="1676520"/>
                  <a:ext cx="2361960" cy="106668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zienda 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943600" y="685800"/>
                  <a:ext cx="1905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Utente trust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7238880" y="3657600"/>
                  <a:ext cx="19051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Utente truste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248520" y="1066680"/>
                  <a:ext cx="304560" cy="152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772400" y="3276720"/>
                  <a:ext cx="22860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16" name=""/>
          <p:cNvGrpSpPr/>
          <p:nvPr/>
        </p:nvGrpSpPr>
        <p:grpSpPr>
          <a:xfrm>
            <a:off x="289080" y="295200"/>
            <a:ext cx="5121000" cy="3576600"/>
            <a:chOff x="289080" y="295200"/>
            <a:chExt cx="5121000" cy="3576600"/>
          </a:xfrm>
        </p:grpSpPr>
        <p:sp>
          <p:nvSpPr>
            <p:cNvPr id="317" name=""/>
            <p:cNvSpPr/>
            <p:nvPr/>
          </p:nvSpPr>
          <p:spPr>
            <a:xfrm>
              <a:off x="289080" y="295200"/>
              <a:ext cx="3422520" cy="3576600"/>
            </a:xfrm>
            <a:custGeom>
              <a:avLst/>
              <a:gdLst/>
              <a:ahLst/>
              <a:rect l="l" t="t" r="r" b="b"/>
              <a:pathLst>
                <a:path w="2156" h="2253">
                  <a:moveTo>
                    <a:pt x="2070" y="48"/>
                  </a:moveTo>
                  <a:cubicBezTo>
                    <a:pt x="1667" y="38"/>
                    <a:pt x="1264" y="37"/>
                    <a:pt x="862" y="17"/>
                  </a:cubicBezTo>
                  <a:cubicBezTo>
                    <a:pt x="668" y="20"/>
                    <a:pt x="441" y="0"/>
                    <a:pt x="247" y="63"/>
                  </a:cubicBezTo>
                  <a:cubicBezTo>
                    <a:pt x="141" y="169"/>
                    <a:pt x="167" y="115"/>
                    <a:pt x="137" y="204"/>
                  </a:cubicBezTo>
                  <a:cubicBezTo>
                    <a:pt x="119" y="326"/>
                    <a:pt x="104" y="449"/>
                    <a:pt x="83" y="570"/>
                  </a:cubicBezTo>
                  <a:cubicBezTo>
                    <a:pt x="64" y="945"/>
                    <a:pt x="83" y="478"/>
                    <a:pt x="83" y="928"/>
                  </a:cubicBezTo>
                  <a:cubicBezTo>
                    <a:pt x="83" y="965"/>
                    <a:pt x="83" y="1002"/>
                    <a:pt x="75" y="1038"/>
                  </a:cubicBezTo>
                  <a:cubicBezTo>
                    <a:pt x="70" y="1061"/>
                    <a:pt x="44" y="1100"/>
                    <a:pt x="44" y="1100"/>
                  </a:cubicBezTo>
                  <a:cubicBezTo>
                    <a:pt x="0" y="1354"/>
                    <a:pt x="25" y="1179"/>
                    <a:pt x="36" y="1692"/>
                  </a:cubicBezTo>
                  <a:cubicBezTo>
                    <a:pt x="39" y="1826"/>
                    <a:pt x="41" y="1952"/>
                    <a:pt x="67" y="2082"/>
                  </a:cubicBezTo>
                  <a:cubicBezTo>
                    <a:pt x="73" y="2110"/>
                    <a:pt x="69" y="2181"/>
                    <a:pt x="106" y="2206"/>
                  </a:cubicBezTo>
                  <a:cubicBezTo>
                    <a:pt x="162" y="2244"/>
                    <a:pt x="260" y="2245"/>
                    <a:pt x="325" y="2253"/>
                  </a:cubicBezTo>
                  <a:cubicBezTo>
                    <a:pt x="398" y="2250"/>
                    <a:pt x="471" y="2252"/>
                    <a:pt x="543" y="2245"/>
                  </a:cubicBezTo>
                  <a:cubicBezTo>
                    <a:pt x="554" y="2244"/>
                    <a:pt x="563" y="2233"/>
                    <a:pt x="574" y="2230"/>
                  </a:cubicBezTo>
                  <a:cubicBezTo>
                    <a:pt x="594" y="2225"/>
                    <a:pt x="616" y="2226"/>
                    <a:pt x="636" y="2222"/>
                  </a:cubicBezTo>
                  <a:cubicBezTo>
                    <a:pt x="678" y="2213"/>
                    <a:pt x="719" y="2201"/>
                    <a:pt x="761" y="2191"/>
                  </a:cubicBezTo>
                  <a:cubicBezTo>
                    <a:pt x="806" y="2180"/>
                    <a:pt x="854" y="2186"/>
                    <a:pt x="901" y="2183"/>
                  </a:cubicBezTo>
                  <a:cubicBezTo>
                    <a:pt x="922" y="2178"/>
                    <a:pt x="943" y="2174"/>
                    <a:pt x="964" y="2168"/>
                  </a:cubicBezTo>
                  <a:cubicBezTo>
                    <a:pt x="995" y="2159"/>
                    <a:pt x="1057" y="2136"/>
                    <a:pt x="1057" y="2136"/>
                  </a:cubicBezTo>
                  <a:cubicBezTo>
                    <a:pt x="1088" y="2105"/>
                    <a:pt x="1120" y="2074"/>
                    <a:pt x="1151" y="2043"/>
                  </a:cubicBezTo>
                  <a:cubicBezTo>
                    <a:pt x="1167" y="2027"/>
                    <a:pt x="1197" y="1996"/>
                    <a:pt x="1197" y="1996"/>
                  </a:cubicBezTo>
                  <a:cubicBezTo>
                    <a:pt x="1202" y="1970"/>
                    <a:pt x="1207" y="1944"/>
                    <a:pt x="1213" y="1918"/>
                  </a:cubicBezTo>
                  <a:cubicBezTo>
                    <a:pt x="1217" y="1902"/>
                    <a:pt x="1225" y="1887"/>
                    <a:pt x="1228" y="1871"/>
                  </a:cubicBezTo>
                  <a:cubicBezTo>
                    <a:pt x="1240" y="1816"/>
                    <a:pt x="1236" y="1754"/>
                    <a:pt x="1244" y="1700"/>
                  </a:cubicBezTo>
                  <a:cubicBezTo>
                    <a:pt x="1248" y="1671"/>
                    <a:pt x="1261" y="1575"/>
                    <a:pt x="1306" y="1567"/>
                  </a:cubicBezTo>
                  <a:cubicBezTo>
                    <a:pt x="1340" y="1561"/>
                    <a:pt x="1374" y="1562"/>
                    <a:pt x="1408" y="1560"/>
                  </a:cubicBezTo>
                  <a:cubicBezTo>
                    <a:pt x="1475" y="1543"/>
                    <a:pt x="1504" y="1540"/>
                    <a:pt x="1556" y="1505"/>
                  </a:cubicBezTo>
                  <a:cubicBezTo>
                    <a:pt x="1574" y="1478"/>
                    <a:pt x="1591" y="1461"/>
                    <a:pt x="1618" y="1443"/>
                  </a:cubicBezTo>
                  <a:cubicBezTo>
                    <a:pt x="1641" y="1409"/>
                    <a:pt x="1707" y="1331"/>
                    <a:pt x="1719" y="1295"/>
                  </a:cubicBezTo>
                  <a:cubicBezTo>
                    <a:pt x="1727" y="1272"/>
                    <a:pt x="1735" y="1248"/>
                    <a:pt x="1743" y="1225"/>
                  </a:cubicBezTo>
                  <a:cubicBezTo>
                    <a:pt x="1748" y="1209"/>
                    <a:pt x="1758" y="1178"/>
                    <a:pt x="1758" y="1178"/>
                  </a:cubicBezTo>
                  <a:cubicBezTo>
                    <a:pt x="1763" y="1127"/>
                    <a:pt x="1759" y="1053"/>
                    <a:pt x="1782" y="1006"/>
                  </a:cubicBezTo>
                  <a:cubicBezTo>
                    <a:pt x="1815" y="938"/>
                    <a:pt x="1894" y="887"/>
                    <a:pt x="1953" y="843"/>
                  </a:cubicBezTo>
                  <a:cubicBezTo>
                    <a:pt x="1963" y="825"/>
                    <a:pt x="1968" y="801"/>
                    <a:pt x="1984" y="788"/>
                  </a:cubicBezTo>
                  <a:cubicBezTo>
                    <a:pt x="1996" y="778"/>
                    <a:pt x="2021" y="793"/>
                    <a:pt x="2031" y="780"/>
                  </a:cubicBezTo>
                  <a:cubicBezTo>
                    <a:pt x="2051" y="754"/>
                    <a:pt x="2052" y="718"/>
                    <a:pt x="2062" y="687"/>
                  </a:cubicBezTo>
                  <a:cubicBezTo>
                    <a:pt x="2067" y="672"/>
                    <a:pt x="2062" y="654"/>
                    <a:pt x="2070" y="640"/>
                  </a:cubicBezTo>
                  <a:cubicBezTo>
                    <a:pt x="2081" y="621"/>
                    <a:pt x="2117" y="593"/>
                    <a:pt x="2117" y="593"/>
                  </a:cubicBezTo>
                  <a:cubicBezTo>
                    <a:pt x="2123" y="575"/>
                    <a:pt x="2134" y="558"/>
                    <a:pt x="2140" y="539"/>
                  </a:cubicBezTo>
                  <a:cubicBezTo>
                    <a:pt x="2147" y="518"/>
                    <a:pt x="2156" y="476"/>
                    <a:pt x="2156" y="476"/>
                  </a:cubicBezTo>
                  <a:cubicBezTo>
                    <a:pt x="2151" y="368"/>
                    <a:pt x="2143" y="281"/>
                    <a:pt x="2117" y="180"/>
                  </a:cubicBezTo>
                  <a:cubicBezTo>
                    <a:pt x="2110" y="154"/>
                    <a:pt x="2097" y="106"/>
                    <a:pt x="2086" y="79"/>
                  </a:cubicBezTo>
                  <a:cubicBezTo>
                    <a:pt x="2068" y="38"/>
                    <a:pt x="2070" y="70"/>
                    <a:pt x="2070" y="48"/>
                  </a:cubicBezTo>
                  <a:close/>
                </a:path>
              </a:pathLst>
            </a:cu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657600" y="3049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Intra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2717640" y="474840"/>
            <a:ext cx="6120000" cy="5946480"/>
            <a:chOff x="2717640" y="474840"/>
            <a:chExt cx="6120000" cy="5946480"/>
          </a:xfrm>
        </p:grpSpPr>
        <p:sp>
          <p:nvSpPr>
            <p:cNvPr id="320" name=""/>
            <p:cNvSpPr/>
            <p:nvPr/>
          </p:nvSpPr>
          <p:spPr>
            <a:xfrm>
              <a:off x="2717640" y="4849920"/>
              <a:ext cx="1920960" cy="1571400"/>
            </a:xfrm>
            <a:custGeom>
              <a:avLst/>
              <a:gdLst/>
              <a:ahLst/>
              <a:rect l="l" t="t" r="r" b="b"/>
              <a:pathLst>
                <a:path w="1210" h="990">
                  <a:moveTo>
                    <a:pt x="797" y="132"/>
                  </a:moveTo>
                  <a:cubicBezTo>
                    <a:pt x="745" y="54"/>
                    <a:pt x="794" y="108"/>
                    <a:pt x="719" y="70"/>
                  </a:cubicBezTo>
                  <a:cubicBezTo>
                    <a:pt x="692" y="56"/>
                    <a:pt x="669" y="35"/>
                    <a:pt x="641" y="23"/>
                  </a:cubicBezTo>
                  <a:cubicBezTo>
                    <a:pt x="607" y="8"/>
                    <a:pt x="524" y="3"/>
                    <a:pt x="493" y="0"/>
                  </a:cubicBezTo>
                  <a:cubicBezTo>
                    <a:pt x="475" y="3"/>
                    <a:pt x="407" y="4"/>
                    <a:pt x="384" y="31"/>
                  </a:cubicBezTo>
                  <a:cubicBezTo>
                    <a:pt x="345" y="78"/>
                    <a:pt x="385" y="173"/>
                    <a:pt x="322" y="195"/>
                  </a:cubicBezTo>
                  <a:cubicBezTo>
                    <a:pt x="289" y="227"/>
                    <a:pt x="288" y="264"/>
                    <a:pt x="267" y="304"/>
                  </a:cubicBezTo>
                  <a:cubicBezTo>
                    <a:pt x="265" y="325"/>
                    <a:pt x="262" y="345"/>
                    <a:pt x="260" y="366"/>
                  </a:cubicBezTo>
                  <a:cubicBezTo>
                    <a:pt x="257" y="397"/>
                    <a:pt x="258" y="429"/>
                    <a:pt x="252" y="460"/>
                  </a:cubicBezTo>
                  <a:cubicBezTo>
                    <a:pt x="241" y="517"/>
                    <a:pt x="112" y="518"/>
                    <a:pt x="65" y="530"/>
                  </a:cubicBezTo>
                  <a:cubicBezTo>
                    <a:pt x="41" y="592"/>
                    <a:pt x="21" y="652"/>
                    <a:pt x="10" y="717"/>
                  </a:cubicBezTo>
                  <a:cubicBezTo>
                    <a:pt x="12" y="743"/>
                    <a:pt x="0" y="940"/>
                    <a:pt x="57" y="966"/>
                  </a:cubicBezTo>
                  <a:cubicBezTo>
                    <a:pt x="105" y="988"/>
                    <a:pt x="161" y="979"/>
                    <a:pt x="213" y="982"/>
                  </a:cubicBezTo>
                  <a:cubicBezTo>
                    <a:pt x="275" y="986"/>
                    <a:pt x="338" y="987"/>
                    <a:pt x="400" y="990"/>
                  </a:cubicBezTo>
                  <a:cubicBezTo>
                    <a:pt x="629" y="978"/>
                    <a:pt x="857" y="962"/>
                    <a:pt x="1086" y="951"/>
                  </a:cubicBezTo>
                  <a:cubicBezTo>
                    <a:pt x="1174" y="906"/>
                    <a:pt x="1195" y="822"/>
                    <a:pt x="1210" y="732"/>
                  </a:cubicBezTo>
                  <a:cubicBezTo>
                    <a:pt x="1205" y="615"/>
                    <a:pt x="1210" y="501"/>
                    <a:pt x="1171" y="390"/>
                  </a:cubicBezTo>
                  <a:cubicBezTo>
                    <a:pt x="1159" y="296"/>
                    <a:pt x="1146" y="177"/>
                    <a:pt x="1054" y="132"/>
                  </a:cubicBezTo>
                  <a:cubicBezTo>
                    <a:pt x="1046" y="128"/>
                    <a:pt x="1040" y="118"/>
                    <a:pt x="1031" y="117"/>
                  </a:cubicBezTo>
                  <a:cubicBezTo>
                    <a:pt x="967" y="106"/>
                    <a:pt x="901" y="108"/>
                    <a:pt x="836" y="101"/>
                  </a:cubicBezTo>
                  <a:cubicBezTo>
                    <a:pt x="781" y="110"/>
                    <a:pt x="784" y="94"/>
                    <a:pt x="797" y="132"/>
                  </a:cubicBezTo>
                  <a:close/>
                </a:path>
              </a:pathLst>
            </a:custGeom>
            <a:noFill/>
            <a:ln w="7632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10440" y="2671920"/>
              <a:ext cx="1627200" cy="1631880"/>
            </a:xfrm>
            <a:custGeom>
              <a:avLst/>
              <a:gdLst/>
              <a:ahLst/>
              <a:rect l="l" t="t" r="r" b="b"/>
              <a:pathLst>
                <a:path w="1025" h="1028">
                  <a:moveTo>
                    <a:pt x="656" y="8"/>
                  </a:moveTo>
                  <a:cubicBezTo>
                    <a:pt x="604" y="43"/>
                    <a:pt x="665" y="7"/>
                    <a:pt x="570" y="31"/>
                  </a:cubicBezTo>
                  <a:cubicBezTo>
                    <a:pt x="525" y="42"/>
                    <a:pt x="516" y="50"/>
                    <a:pt x="484" y="70"/>
                  </a:cubicBezTo>
                  <a:cubicBezTo>
                    <a:pt x="446" y="123"/>
                    <a:pt x="418" y="105"/>
                    <a:pt x="375" y="148"/>
                  </a:cubicBezTo>
                  <a:cubicBezTo>
                    <a:pt x="337" y="230"/>
                    <a:pt x="414" y="349"/>
                    <a:pt x="344" y="413"/>
                  </a:cubicBezTo>
                  <a:cubicBezTo>
                    <a:pt x="319" y="436"/>
                    <a:pt x="294" y="458"/>
                    <a:pt x="266" y="476"/>
                  </a:cubicBezTo>
                  <a:cubicBezTo>
                    <a:pt x="252" y="485"/>
                    <a:pt x="235" y="486"/>
                    <a:pt x="219" y="491"/>
                  </a:cubicBezTo>
                  <a:cubicBezTo>
                    <a:pt x="156" y="576"/>
                    <a:pt x="257" y="446"/>
                    <a:pt x="134" y="569"/>
                  </a:cubicBezTo>
                  <a:cubicBezTo>
                    <a:pt x="113" y="590"/>
                    <a:pt x="92" y="611"/>
                    <a:pt x="71" y="632"/>
                  </a:cubicBezTo>
                  <a:cubicBezTo>
                    <a:pt x="63" y="640"/>
                    <a:pt x="48" y="655"/>
                    <a:pt x="48" y="655"/>
                  </a:cubicBezTo>
                  <a:cubicBezTo>
                    <a:pt x="37" y="721"/>
                    <a:pt x="18" y="785"/>
                    <a:pt x="1" y="850"/>
                  </a:cubicBezTo>
                  <a:cubicBezTo>
                    <a:pt x="2" y="865"/>
                    <a:pt x="0" y="978"/>
                    <a:pt x="24" y="990"/>
                  </a:cubicBezTo>
                  <a:cubicBezTo>
                    <a:pt x="100" y="1028"/>
                    <a:pt x="241" y="1016"/>
                    <a:pt x="321" y="1021"/>
                  </a:cubicBezTo>
                  <a:cubicBezTo>
                    <a:pt x="530" y="1016"/>
                    <a:pt x="737" y="1017"/>
                    <a:pt x="944" y="990"/>
                  </a:cubicBezTo>
                  <a:cubicBezTo>
                    <a:pt x="977" y="942"/>
                    <a:pt x="982" y="944"/>
                    <a:pt x="1006" y="881"/>
                  </a:cubicBezTo>
                  <a:cubicBezTo>
                    <a:pt x="1025" y="732"/>
                    <a:pt x="1008" y="577"/>
                    <a:pt x="983" y="429"/>
                  </a:cubicBezTo>
                  <a:cubicBezTo>
                    <a:pt x="973" y="373"/>
                    <a:pt x="970" y="309"/>
                    <a:pt x="944" y="257"/>
                  </a:cubicBezTo>
                  <a:cubicBezTo>
                    <a:pt x="940" y="233"/>
                    <a:pt x="929" y="166"/>
                    <a:pt x="921" y="148"/>
                  </a:cubicBezTo>
                  <a:cubicBezTo>
                    <a:pt x="916" y="138"/>
                    <a:pt x="904" y="133"/>
                    <a:pt x="897" y="125"/>
                  </a:cubicBezTo>
                  <a:cubicBezTo>
                    <a:pt x="854" y="74"/>
                    <a:pt x="826" y="51"/>
                    <a:pt x="757" y="39"/>
                  </a:cubicBezTo>
                  <a:cubicBezTo>
                    <a:pt x="724" y="27"/>
                    <a:pt x="690" y="25"/>
                    <a:pt x="656" y="16"/>
                  </a:cubicBezTo>
                  <a:cubicBezTo>
                    <a:pt x="648" y="14"/>
                    <a:pt x="632" y="16"/>
                    <a:pt x="632" y="8"/>
                  </a:cubicBezTo>
                  <a:cubicBezTo>
                    <a:pt x="632" y="0"/>
                    <a:pt x="648" y="8"/>
                    <a:pt x="656" y="8"/>
                  </a:cubicBezTo>
                  <a:close/>
                </a:path>
              </a:pathLst>
            </a:custGeom>
            <a:noFill/>
            <a:ln w="7632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56160" y="474840"/>
              <a:ext cx="2065320" cy="1106280"/>
            </a:xfrm>
            <a:custGeom>
              <a:avLst/>
              <a:gdLst/>
              <a:ahLst/>
              <a:rect l="l" t="t" r="r" b="b"/>
              <a:pathLst>
                <a:path w="1301" h="697">
                  <a:moveTo>
                    <a:pt x="451" y="28"/>
                  </a:moveTo>
                  <a:cubicBezTo>
                    <a:pt x="373" y="35"/>
                    <a:pt x="293" y="31"/>
                    <a:pt x="218" y="52"/>
                  </a:cubicBezTo>
                  <a:cubicBezTo>
                    <a:pt x="186" y="61"/>
                    <a:pt x="124" y="83"/>
                    <a:pt x="124" y="83"/>
                  </a:cubicBezTo>
                  <a:cubicBezTo>
                    <a:pt x="20" y="162"/>
                    <a:pt x="0" y="248"/>
                    <a:pt x="46" y="395"/>
                  </a:cubicBezTo>
                  <a:cubicBezTo>
                    <a:pt x="53" y="416"/>
                    <a:pt x="87" y="413"/>
                    <a:pt x="109" y="418"/>
                  </a:cubicBezTo>
                  <a:cubicBezTo>
                    <a:pt x="188" y="435"/>
                    <a:pt x="278" y="437"/>
                    <a:pt x="358" y="441"/>
                  </a:cubicBezTo>
                  <a:cubicBezTo>
                    <a:pt x="389" y="446"/>
                    <a:pt x="425" y="439"/>
                    <a:pt x="451" y="457"/>
                  </a:cubicBezTo>
                  <a:cubicBezTo>
                    <a:pt x="462" y="465"/>
                    <a:pt x="471" y="475"/>
                    <a:pt x="483" y="480"/>
                  </a:cubicBezTo>
                  <a:cubicBezTo>
                    <a:pt x="513" y="493"/>
                    <a:pt x="576" y="511"/>
                    <a:pt x="576" y="511"/>
                  </a:cubicBezTo>
                  <a:cubicBezTo>
                    <a:pt x="611" y="546"/>
                    <a:pt x="645" y="550"/>
                    <a:pt x="693" y="558"/>
                  </a:cubicBezTo>
                  <a:cubicBezTo>
                    <a:pt x="710" y="575"/>
                    <a:pt x="722" y="597"/>
                    <a:pt x="740" y="613"/>
                  </a:cubicBezTo>
                  <a:cubicBezTo>
                    <a:pt x="782" y="649"/>
                    <a:pt x="836" y="674"/>
                    <a:pt x="888" y="691"/>
                  </a:cubicBezTo>
                  <a:cubicBezTo>
                    <a:pt x="950" y="669"/>
                    <a:pt x="1018" y="697"/>
                    <a:pt x="1075" y="660"/>
                  </a:cubicBezTo>
                  <a:cubicBezTo>
                    <a:pt x="1095" y="617"/>
                    <a:pt x="1099" y="572"/>
                    <a:pt x="1114" y="527"/>
                  </a:cubicBezTo>
                  <a:cubicBezTo>
                    <a:pt x="1123" y="464"/>
                    <a:pt x="1123" y="425"/>
                    <a:pt x="1184" y="395"/>
                  </a:cubicBezTo>
                  <a:cubicBezTo>
                    <a:pt x="1192" y="387"/>
                    <a:pt x="1198" y="377"/>
                    <a:pt x="1207" y="371"/>
                  </a:cubicBezTo>
                  <a:cubicBezTo>
                    <a:pt x="1224" y="361"/>
                    <a:pt x="1249" y="363"/>
                    <a:pt x="1262" y="348"/>
                  </a:cubicBezTo>
                  <a:cubicBezTo>
                    <a:pt x="1276" y="331"/>
                    <a:pt x="1273" y="306"/>
                    <a:pt x="1277" y="285"/>
                  </a:cubicBezTo>
                  <a:cubicBezTo>
                    <a:pt x="1283" y="254"/>
                    <a:pt x="1288" y="223"/>
                    <a:pt x="1293" y="192"/>
                  </a:cubicBezTo>
                  <a:cubicBezTo>
                    <a:pt x="1296" y="176"/>
                    <a:pt x="1301" y="145"/>
                    <a:pt x="1301" y="145"/>
                  </a:cubicBezTo>
                  <a:cubicBezTo>
                    <a:pt x="1288" y="57"/>
                    <a:pt x="1266" y="84"/>
                    <a:pt x="1168" y="67"/>
                  </a:cubicBezTo>
                  <a:cubicBezTo>
                    <a:pt x="989" y="37"/>
                    <a:pt x="804" y="35"/>
                    <a:pt x="623" y="21"/>
                  </a:cubicBezTo>
                  <a:cubicBezTo>
                    <a:pt x="511" y="2"/>
                    <a:pt x="560" y="0"/>
                    <a:pt x="475" y="13"/>
                  </a:cubicBezTo>
                  <a:cubicBezTo>
                    <a:pt x="467" y="18"/>
                    <a:pt x="451" y="28"/>
                    <a:pt x="451" y="28"/>
                  </a:cubicBezTo>
                  <a:close/>
                </a:path>
              </a:pathLst>
            </a:custGeom>
            <a:noFill/>
            <a:ln w="7632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720880" y="1050840"/>
              <a:ext cx="2784600" cy="2054160"/>
            </a:xfrm>
            <a:custGeom>
              <a:avLst/>
              <a:gdLst/>
              <a:ahLst/>
              <a:rect l="l" t="t" r="r" b="b"/>
              <a:pathLst>
                <a:path w="1754" h="1294">
                  <a:moveTo>
                    <a:pt x="0" y="1045"/>
                  </a:moveTo>
                  <a:cubicBezTo>
                    <a:pt x="28" y="1086"/>
                    <a:pt x="23" y="1137"/>
                    <a:pt x="47" y="1177"/>
                  </a:cubicBezTo>
                  <a:cubicBezTo>
                    <a:pt x="110" y="1280"/>
                    <a:pt x="204" y="1287"/>
                    <a:pt x="312" y="1294"/>
                  </a:cubicBezTo>
                  <a:cubicBezTo>
                    <a:pt x="416" y="1289"/>
                    <a:pt x="521" y="1293"/>
                    <a:pt x="624" y="1278"/>
                  </a:cubicBezTo>
                  <a:cubicBezTo>
                    <a:pt x="772" y="1257"/>
                    <a:pt x="929" y="1137"/>
                    <a:pt x="1045" y="1060"/>
                  </a:cubicBezTo>
                  <a:cubicBezTo>
                    <a:pt x="1080" y="1037"/>
                    <a:pt x="1185" y="970"/>
                    <a:pt x="1216" y="936"/>
                  </a:cubicBezTo>
                  <a:cubicBezTo>
                    <a:pt x="1241" y="908"/>
                    <a:pt x="1254" y="871"/>
                    <a:pt x="1278" y="842"/>
                  </a:cubicBezTo>
                  <a:cubicBezTo>
                    <a:pt x="1408" y="682"/>
                    <a:pt x="1544" y="559"/>
                    <a:pt x="1637" y="374"/>
                  </a:cubicBezTo>
                  <a:cubicBezTo>
                    <a:pt x="1649" y="312"/>
                    <a:pt x="1669" y="250"/>
                    <a:pt x="1676" y="187"/>
                  </a:cubicBezTo>
                  <a:cubicBezTo>
                    <a:pt x="1680" y="156"/>
                    <a:pt x="1678" y="125"/>
                    <a:pt x="1684" y="94"/>
                  </a:cubicBezTo>
                  <a:cubicBezTo>
                    <a:pt x="1688" y="72"/>
                    <a:pt x="1697" y="51"/>
                    <a:pt x="1707" y="32"/>
                  </a:cubicBezTo>
                  <a:cubicBezTo>
                    <a:pt x="1716" y="15"/>
                    <a:pt x="1754" y="0"/>
                    <a:pt x="1754" y="0"/>
                  </a:cubicBezTo>
                </a:path>
              </a:pathLst>
            </a:custGeom>
            <a:noFill/>
            <a:ln w="7632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46440" y="2795760"/>
              <a:ext cx="531720" cy="2333520"/>
            </a:xfrm>
            <a:custGeom>
              <a:avLst/>
              <a:gdLst/>
              <a:ahLst/>
              <a:rect l="l" t="t" r="r" b="b"/>
              <a:pathLst>
                <a:path w="335" h="1470">
                  <a:moveTo>
                    <a:pt x="0" y="0"/>
                  </a:moveTo>
                  <a:cubicBezTo>
                    <a:pt x="25" y="340"/>
                    <a:pt x="39" y="681"/>
                    <a:pt x="125" y="1013"/>
                  </a:cubicBezTo>
                  <a:cubicBezTo>
                    <a:pt x="132" y="1072"/>
                    <a:pt x="138" y="1126"/>
                    <a:pt x="171" y="1177"/>
                  </a:cubicBezTo>
                  <a:cubicBezTo>
                    <a:pt x="179" y="1224"/>
                    <a:pt x="183" y="1259"/>
                    <a:pt x="218" y="1294"/>
                  </a:cubicBezTo>
                  <a:cubicBezTo>
                    <a:pt x="231" y="1330"/>
                    <a:pt x="248" y="1343"/>
                    <a:pt x="273" y="1372"/>
                  </a:cubicBezTo>
                  <a:cubicBezTo>
                    <a:pt x="290" y="1392"/>
                    <a:pt x="311" y="1442"/>
                    <a:pt x="327" y="1465"/>
                  </a:cubicBezTo>
                  <a:cubicBezTo>
                    <a:pt x="330" y="1470"/>
                    <a:pt x="332" y="1455"/>
                    <a:pt x="335" y="1450"/>
                  </a:cubicBezTo>
                </a:path>
              </a:pathLst>
            </a:custGeom>
            <a:noFill/>
            <a:ln w="7632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82800" y="2771640"/>
              <a:ext cx="5060880" cy="470160"/>
            </a:xfrm>
            <a:custGeom>
              <a:avLst/>
              <a:gdLst/>
              <a:ahLst/>
              <a:rect l="l" t="t" r="r" b="b"/>
              <a:pathLst>
                <a:path w="3188" h="296">
                  <a:moveTo>
                    <a:pt x="0" y="0"/>
                  </a:moveTo>
                  <a:cubicBezTo>
                    <a:pt x="96" y="26"/>
                    <a:pt x="152" y="100"/>
                    <a:pt x="257" y="117"/>
                  </a:cubicBezTo>
                  <a:cubicBezTo>
                    <a:pt x="816" y="207"/>
                    <a:pt x="1429" y="182"/>
                    <a:pt x="1987" y="187"/>
                  </a:cubicBezTo>
                  <a:cubicBezTo>
                    <a:pt x="2218" y="192"/>
                    <a:pt x="2443" y="203"/>
                    <a:pt x="2673" y="210"/>
                  </a:cubicBezTo>
                  <a:cubicBezTo>
                    <a:pt x="2767" y="222"/>
                    <a:pt x="2860" y="229"/>
                    <a:pt x="2954" y="241"/>
                  </a:cubicBezTo>
                  <a:cubicBezTo>
                    <a:pt x="3000" y="273"/>
                    <a:pt x="3056" y="274"/>
                    <a:pt x="3110" y="280"/>
                  </a:cubicBezTo>
                  <a:cubicBezTo>
                    <a:pt x="3116" y="281"/>
                    <a:pt x="3188" y="296"/>
                    <a:pt x="3156" y="296"/>
                  </a:cubicBezTo>
                </a:path>
              </a:pathLst>
            </a:custGeom>
            <a:noFill/>
            <a:ln w="76320">
              <a:solidFill>
                <a:srgbClr val="99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48320" y="59436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ff"/>
                  </a:solidFill>
                  <a:latin typeface="Arial"/>
                </a:rPr>
                <a:t>Extra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tranet, Extranet, Interne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705720" cy="460044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688320" y="57913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onte: Rapporto EITO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2971800"/>
            <a:ext cx="2590920" cy="12952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09680" y="2209680"/>
            <a:ext cx="4648320" cy="281952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1600200"/>
            <a:ext cx="6476760" cy="41148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rocessi nell’impresa in ret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432936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907560" y="579132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onte: Rapporto EITO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Drivers di crescita dell’ICT aziendal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391520" cy="41180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612000" y="5729400"/>
            <a:ext cx="29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Fonte: Rapporto EITO 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l corporate wide web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414600" y="4723920"/>
            <a:ext cx="976320" cy="7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343160" y="2749680"/>
            <a:ext cx="2361960" cy="151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 aziend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14400" y="2133720"/>
            <a:ext cx="685800" cy="749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2720" y="2197080"/>
            <a:ext cx="2555640" cy="273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956040" y="337176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33920" y="3524400"/>
            <a:ext cx="1805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56040" y="394344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28954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07680" y="55627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Anche: EIP (Enterprise Information Por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l web pubblic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414600" y="4723920"/>
            <a:ext cx="976320" cy="70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43160" y="2749680"/>
            <a:ext cx="2361960" cy="1511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 aziend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21280" y="3225960"/>
            <a:ext cx="550800" cy="749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62720" y="2197080"/>
            <a:ext cx="2555640" cy="27306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6040" y="3371760"/>
            <a:ext cx="0" cy="381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27440" y="3543480"/>
            <a:ext cx="36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676760" y="3524400"/>
            <a:ext cx="86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56040" y="3943440"/>
            <a:ext cx="0" cy="571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"/>
          <p:cNvGrpSpPr/>
          <p:nvPr/>
        </p:nvGrpSpPr>
        <p:grpSpPr>
          <a:xfrm>
            <a:off x="1765440" y="1752480"/>
            <a:ext cx="6083280" cy="3962520"/>
            <a:chOff x="1765440" y="1752480"/>
            <a:chExt cx="6083280" cy="3962520"/>
          </a:xfrm>
        </p:grpSpPr>
        <p:sp>
          <p:nvSpPr>
            <p:cNvPr id="360" name=""/>
            <p:cNvSpPr/>
            <p:nvPr/>
          </p:nvSpPr>
          <p:spPr>
            <a:xfrm>
              <a:off x="1765440" y="1752480"/>
              <a:ext cx="6083280" cy="3962520"/>
            </a:xfrm>
            <a:prstGeom prst="rect">
              <a:avLst/>
            </a:prstGeom>
            <a:solidFill>
              <a:srgbClr val="ba5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936840" y="1874880"/>
              <a:ext cx="80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 Narrow"/>
                </a:rPr>
                <a:t>Mobil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790640" y="2260440"/>
            <a:ext cx="4762440" cy="3454560"/>
            <a:chOff x="1790640" y="2260440"/>
            <a:chExt cx="4762440" cy="3454560"/>
          </a:xfrm>
        </p:grpSpPr>
        <p:sp>
          <p:nvSpPr>
            <p:cNvPr id="363" name=""/>
            <p:cNvSpPr/>
            <p:nvPr/>
          </p:nvSpPr>
          <p:spPr>
            <a:xfrm>
              <a:off x="1790640" y="2260440"/>
              <a:ext cx="4762440" cy="3454560"/>
            </a:xfrm>
            <a:prstGeom prst="rect">
              <a:avLst/>
            </a:prstGeom>
            <a:solidFill>
              <a:srgbClr val="f4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58960" y="2370240"/>
              <a:ext cx="1040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 Narrow"/>
                </a:rPr>
                <a:t>Integr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1803240" y="3200400"/>
            <a:ext cx="3429000" cy="2514600"/>
            <a:chOff x="1803240" y="3200400"/>
            <a:chExt cx="3429000" cy="2514600"/>
          </a:xfrm>
        </p:grpSpPr>
        <p:sp>
          <p:nvSpPr>
            <p:cNvPr id="366" name=""/>
            <p:cNvSpPr/>
            <p:nvPr/>
          </p:nvSpPr>
          <p:spPr>
            <a:xfrm>
              <a:off x="1803240" y="3200400"/>
              <a:ext cx="3429000" cy="2514600"/>
            </a:xfrm>
            <a:prstGeom prst="rect">
              <a:avLst/>
            </a:prstGeom>
            <a:solidFill>
              <a:srgbClr val="ff9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73040" y="3309840"/>
              <a:ext cx="103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 Narrow"/>
                </a:rPr>
                <a:t>Intera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790640" y="4076640"/>
            <a:ext cx="2171880" cy="1638360"/>
            <a:chOff x="1790640" y="4076640"/>
            <a:chExt cx="2171880" cy="1638360"/>
          </a:xfrm>
        </p:grpSpPr>
        <p:sp>
          <p:nvSpPr>
            <p:cNvPr id="369" name=""/>
            <p:cNvSpPr/>
            <p:nvPr/>
          </p:nvSpPr>
          <p:spPr>
            <a:xfrm>
              <a:off x="1790640" y="4076640"/>
              <a:ext cx="2171880" cy="1638360"/>
            </a:xfrm>
            <a:prstGeom prst="rect">
              <a:avLst/>
            </a:prstGeom>
            <a:solidFill>
              <a:srgbClr val="ffb5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67760" y="4160880"/>
              <a:ext cx="96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 Narrow"/>
                </a:rPr>
                <a:t>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581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EVOLUZIONE DELLE APPLICAZIONI WEB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790640" y="4724280"/>
            <a:ext cx="1435320" cy="1003320"/>
            <a:chOff x="1790640" y="4724280"/>
            <a:chExt cx="1435320" cy="1003320"/>
          </a:xfrm>
        </p:grpSpPr>
        <p:sp>
          <p:nvSpPr>
            <p:cNvPr id="373" name=""/>
            <p:cNvSpPr/>
            <p:nvPr/>
          </p:nvSpPr>
          <p:spPr>
            <a:xfrm>
              <a:off x="1790640" y="4724280"/>
              <a:ext cx="1435320" cy="1003320"/>
            </a:xfrm>
            <a:prstGeom prst="rect">
              <a:avLst/>
            </a:prstGeom>
            <a:solidFill>
              <a:srgbClr val="ffcd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40120" y="4884840"/>
              <a:ext cx="1095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969696"/>
                  </a:solidFill>
                  <a:latin typeface="Arial Narrow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942840" y="1114560"/>
            <a:ext cx="7159680" cy="5392800"/>
            <a:chOff x="942840" y="1114560"/>
            <a:chExt cx="7159680" cy="5392800"/>
          </a:xfrm>
        </p:grpSpPr>
        <p:grpSp>
          <p:nvGrpSpPr>
            <p:cNvPr id="376" name=""/>
            <p:cNvGrpSpPr/>
            <p:nvPr/>
          </p:nvGrpSpPr>
          <p:grpSpPr>
            <a:xfrm>
              <a:off x="942840" y="1114560"/>
              <a:ext cx="7159680" cy="4897440"/>
              <a:chOff x="942840" y="1114560"/>
              <a:chExt cx="7159680" cy="4897440"/>
            </a:xfrm>
          </p:grpSpPr>
          <p:sp>
            <p:nvSpPr>
              <p:cNvPr id="377" name=""/>
              <p:cNvSpPr/>
              <p:nvPr/>
            </p:nvSpPr>
            <p:spPr>
              <a:xfrm>
                <a:off x="942840" y="1114560"/>
                <a:ext cx="252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969696"/>
                    </a:solidFill>
                    <a:latin typeface="Arial Narrow"/>
                  </a:rPr>
                  <a:t>Technology Requirem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78040" y="1574640"/>
                <a:ext cx="0" cy="416592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778040" y="5727600"/>
                <a:ext cx="632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293120" y="5113440"/>
                <a:ext cx="52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HT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369080" y="4313160"/>
                <a:ext cx="44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Jav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375560" y="3513240"/>
                <a:ext cx="438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C++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XM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021680" y="2281320"/>
                <a:ext cx="7934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Propriet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Syste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ER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COBO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348200" y="1862280"/>
                <a:ext cx="465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WA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861560" y="5735520"/>
                <a:ext cx="46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19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17160" y="5735520"/>
                <a:ext cx="46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199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766680" y="5735520"/>
                <a:ext cx="46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199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011200" y="5735520"/>
                <a:ext cx="46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199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87400" y="5735520"/>
                <a:ext cx="53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2001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557480" y="5722920"/>
                <a:ext cx="53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69696"/>
                    </a:solidFill>
                    <a:latin typeface="Arial Narrow"/>
                  </a:rPr>
                  <a:t>2003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>
              <a:off x="1766160" y="6230880"/>
              <a:ext cx="1631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69696"/>
                  </a:solidFill>
                  <a:latin typeface="Arial Narrow"/>
                </a:rPr>
                <a:t>Source: WestLB Panmu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12:03:31Z</dcterms:created>
  <dc:creator>Serg</dc:creator>
  <dc:description/>
  <dc:language>en-US</dc:language>
  <cp:lastModifiedBy>rpolillo</cp:lastModifiedBy>
  <cp:lastPrinted>2001-03-06T19:18:15Z</cp:lastPrinted>
  <dcterms:modified xsi:type="dcterms:W3CDTF">2001-04-04T16:43:15Z</dcterms:modified>
  <cp:revision>321</cp:revision>
  <dc:subject/>
  <dc:title>Nessun titolo diapositiva</dc:title>
</cp:coreProperties>
</file>