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683F-92F8-4112-BFD4-985B3C3BE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C93E-8980-4A19-A1F1-2D0A0986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BB4D-4C41-4D62-9C56-962FA9EE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0DAA-0CED-491A-AF10-0A93DB66E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9AA4-5B0D-4BF7-9758-CDFF39A4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EA4B-A4F1-4DF0-807E-05AE82A8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02A4-FD04-42B9-A2AF-A4F0798B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E28C-D1E3-4C75-9F27-C9781739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2170-3C9D-4B96-A417-09911F3C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E68A-922E-40D0-A36F-2ECD20D4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72D1-BE7D-4B59-9780-B328994C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0529-4D6D-4818-AC37-5AD71FC0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9470-8C74-4437-A584-00E83A068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rpolillo@etnoteam.it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polillo.it/" TargetMode="External"/><Relationship Id="rId2" Type="http://schemas.openxmlformats.org/officeDocument/2006/relationships/hyperlink" Target="http://www.rpolillo.it/" TargetMode="External"/><Relationship Id="rId3" Type="http://schemas.openxmlformats.org/officeDocument/2006/relationships/hyperlink" Target="http://www.rpolillo.it/" TargetMode="External"/><Relationship Id="rId4" Type="http://schemas.openxmlformats.org/officeDocument/2006/relationships/hyperlink" Target="http://www.rpolillo.it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70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orso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“PROGETTAZIONE DI INTERFACCE GRAFICHE PER LA COMUNICAZIONE”</a:t>
            </a:r>
            <a:br>
              <a:rPr sz="3600"/>
            </a:b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erto Polillo</a:t>
            </a:r>
            <a:br>
              <a:rPr sz="2800"/>
            </a:br>
            <a:r>
              <a:rPr b="1" lang="en-US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rpolillo@etnoteam.it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versità degli Studi di Milano Bicocc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A. 2002-200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311720" cy="6095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181480" y="4572000"/>
            <a:ext cx="30481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zione Italiana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US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zione Apogeo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562720" y="380880"/>
            <a:ext cx="2184120" cy="3124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19920" y="35812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kob Niel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4013280" cy="6019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029200" y="54100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zione Apogeo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Orari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artedì: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h16,30 - 18,30  Aula U7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ercoledì   h16,30 – 18,30 Aula U6-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l 29 aprile al 28 mag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i giovedì 5 giugno e giovedì 19 giug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lle 14,30 alle 18,30 (discussioni 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a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3 credi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Obbiettivi del cors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ornire una introduzione al web come strumento di comunic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ornire agli studenti capacità di analisi critica di siti web esist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viluppare una esperienza di progettazione di siti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Piano delle lezion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troduzione al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municazione d’impresa 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interfaccia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usabilità dei siti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alutazioni di usabilità dei siti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Web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rchitettura dell’inform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avig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grafica del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modello di qualità per siti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Esa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ue progetti, da svolgersi in gruppi di 2-4 studen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a50021"/>
                </a:solidFill>
                <a:latin typeface="Arial"/>
              </a:rPr>
              <a:t>Progetto 1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: Valutazione di un sito esistente, a vostra scel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a50021"/>
                </a:solidFill>
                <a:latin typeface="Arial"/>
              </a:rPr>
              <a:t>Progetto 2: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Progettazione di un sito a vostra scel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Aule informatich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ccesso libero dalle 9 alle 18 salvo impegni di didattica (vedi porte delle au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u ogni PC è installato Office e Dream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Piano di lavor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aggio: lezioni front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iugno: preparazione dei progetti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(con un incontro intermed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ine giugno – luglio: e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Impegno per gli student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3 credi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egno individuale approssimativ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zioni frontal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udio individua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visione progett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5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getto 1 (valutazione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5-20 h (x3 = 45-60 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getto 2 (prototipo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-25 h (x3 = 60-65 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Risorse per lo studi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lides dalle lezioni, disponibili su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</a:t>
            </a:r>
            <a:r>
              <a:rPr b="0" lang="it-IT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rpolillo</a:t>
            </a:r>
            <a:r>
              <a:rPr b="0" lang="it-IT" sz="3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.</a:t>
            </a:r>
            <a:r>
              <a:rPr b="0" lang="it-IT" sz="3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ercare su Internet “web usabilit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5T11:22:04Z</dcterms:created>
  <dc:creator>Roberto Polillo</dc:creator>
  <dc:description/>
  <dc:language>en-US</dc:language>
  <cp:lastModifiedBy>rpolillo</cp:lastModifiedBy>
  <dcterms:modified xsi:type="dcterms:W3CDTF">2003-04-24T13:36:21Z</dcterms:modified>
  <cp:revision>582</cp:revision>
  <dc:subject/>
  <dc:title>No Slide Title</dc:title>
</cp:coreProperties>
</file>