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B134B5-8734-414B-927F-F78D10BD9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to Seth Gor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AC7-51F2-4A86-8424-0AE7BFE9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3C1-9860-4311-A44E-E1D28341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BAD-31FB-4986-BD92-9B8F1AA8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AAE-C9FF-4331-A6B4-9843FDBA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3C0-C4E7-4194-B2F6-D6DA09AD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D29-F367-48CF-B989-8C6E6BF1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D4A-F2F2-48F1-8B85-CFD71BA8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225-462D-45CB-827D-5AEFB8F9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950-BC74-45C8-8778-119C6A6E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94F-6A86-4D7B-B198-8B862A2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790-932F-4CC2-826C-232059B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609-9CFF-472D-9A6D-A0B44655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2E88-7C91-4063-95B6-BCF23EF66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VIGAZIO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1501560"/>
            <a:ext cx="79423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Arial"/>
              </a:rPr>
              <a:t>Navigazione nelle strutture gerarch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Arial"/>
              </a:rPr>
              <a:t>Sistemi di navig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Arial"/>
              </a:rPr>
              <a:t>Sistemi di orien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istemi di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stemi di ricerc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Tre modi di cer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erco un qualcosa di prec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es.: una scatola di pelati al supermark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erco qualcosa di v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es.: qualche cosa per fare una pae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Serendip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es.: guarda questa pasta e fagioli in scatol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M-016-L" descr=""/>
          <p:cNvPicPr/>
          <p:nvPr/>
        </p:nvPicPr>
        <p:blipFill>
          <a:blip r:embed="rId1"/>
          <a:srcRect l="0" t="0" r="5000" b="4447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6248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rendip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mg009" descr=""/>
          <p:cNvPicPr/>
          <p:nvPr/>
        </p:nvPicPr>
        <p:blipFill>
          <a:blip r:embed="rId1"/>
          <a:srcRect l="12843" t="12231" r="2756" b="33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5000" y="6248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rendip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icer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Cerco qualcosa di prec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re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ori di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Cerco qualcosa di v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Serendip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80880" y="358920"/>
            <a:ext cx="3500280" cy="6270480"/>
            <a:chOff x="380880" y="358920"/>
            <a:chExt cx="3500280" cy="627048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3909" t="9944" r="6250" b="3269"/>
            <a:stretch/>
          </p:blipFill>
          <p:spPr>
            <a:xfrm>
              <a:off x="380880" y="358920"/>
              <a:ext cx="350028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rcRect l="7811" t="9944" r="10155" b="4383"/>
            <a:stretch/>
          </p:blipFill>
          <p:spPr>
            <a:xfrm>
              <a:off x="520560" y="2720880"/>
              <a:ext cx="3213000" cy="23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rcRect l="14065" t="13350" r="14844" b="5424"/>
            <a:stretch/>
          </p:blipFill>
          <p:spPr>
            <a:xfrm>
              <a:off x="609480" y="4245120"/>
              <a:ext cx="2971800" cy="23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762120" y="1904760"/>
            <a:ext cx="8076960" cy="4115160"/>
            <a:chOff x="762120" y="1904760"/>
            <a:chExt cx="8076960" cy="4115160"/>
          </a:xfrm>
        </p:grpSpPr>
        <p:sp>
          <p:nvSpPr>
            <p:cNvPr id="71" name=""/>
            <p:cNvSpPr/>
            <p:nvPr/>
          </p:nvSpPr>
          <p:spPr>
            <a:xfrm>
              <a:off x="762120" y="2502000"/>
              <a:ext cx="1600200" cy="1371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62120" y="1904760"/>
              <a:ext cx="3200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3886200"/>
              <a:ext cx="32004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362320" y="1904760"/>
              <a:ext cx="6476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62320" y="3886200"/>
              <a:ext cx="64767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4"/>
            <a:srcRect l="12500" t="15510" r="44535" b="33312"/>
            <a:stretch/>
          </p:blipFill>
          <p:spPr>
            <a:xfrm>
              <a:off x="3962520" y="1905120"/>
              <a:ext cx="4876560" cy="4079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7" name=""/>
          <p:cNvSpPr/>
          <p:nvPr/>
        </p:nvSpPr>
        <p:spPr>
          <a:xfrm flipV="1">
            <a:off x="2362320" y="838080"/>
            <a:ext cx="251460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1523880"/>
            <a:ext cx="5715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5800" y="304560"/>
            <a:ext cx="8153280" cy="1393920"/>
            <a:chOff x="685800" y="304560"/>
            <a:chExt cx="8153280" cy="1393920"/>
          </a:xfrm>
        </p:grpSpPr>
        <p:sp>
          <p:nvSpPr>
            <p:cNvPr id="80" name=""/>
            <p:cNvSpPr/>
            <p:nvPr/>
          </p:nvSpPr>
          <p:spPr>
            <a:xfrm>
              <a:off x="685800" y="990720"/>
              <a:ext cx="1676520" cy="5331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85800" y="304560"/>
              <a:ext cx="3276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1523880"/>
              <a:ext cx="3276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362320" y="304560"/>
              <a:ext cx="6476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38280" y="1523880"/>
              <a:ext cx="6324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rcRect l="11721" t="33312" r="44535" b="48891"/>
            <a:stretch/>
          </p:blipFill>
          <p:spPr>
            <a:xfrm>
              <a:off x="3962520" y="304920"/>
              <a:ext cx="4876560" cy="139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11:22:04Z</dcterms:created>
  <dc:creator>Roberto Polillo</dc:creator>
  <dc:description/>
  <dc:language>en-US</dc:language>
  <cp:lastModifiedBy>System Manager</cp:lastModifiedBy>
  <dcterms:modified xsi:type="dcterms:W3CDTF">2003-04-29T08:42:50Z</dcterms:modified>
  <cp:revision>885</cp:revision>
  <dc:subject/>
  <dc:title>No Slide Title</dc:title>
</cp:coreProperties>
</file>