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6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7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wmf" ContentType="image/x-wmf"/>
  <Override PartName="/ppt/media/image11.png" ContentType="image/png"/>
  <Override PartName="/ppt/media/image34.wmf" ContentType="image/x-wmf"/>
  <Override PartName="/ppt/media/image14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997F80-1142-4C3C-96C7-49DA244A4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: E.Attaianese, Il controllo dell’usabilità per il design del packaging di prodotti di consumo, Atti del VII Congresso Nazionale della Società Italiana di Ergonomia, Firenze, Settembre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9B655E-AABA-400F-B4A2-57A3B9507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FEBE57-ACAB-434F-8C7B-BABF7C74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Jakob Nielsen, Evolution of the Home Page Design, 1995 (si trova su www.useit.c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stra la evoluzione di successivi prototipi della home page della Sun, sulla base delle indicazioni degli ut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 immagini venivano presentate cos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la zona delimitata dallo scotch fa sì che l’utente non sposti il foglio, per rendere facile la ripresa con una telecame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AZIONI DEGLI UT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eminente il nome Adobe, tendenza a scambiarla con home page di Adobe (o della presenza di Adobe a un evento chiamato SunWorld, mentre SunWorld vorrebbe essere il nome del si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ercepita come complicata: non si sa da dove inizi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non viene notato il mese (cambia di mese in me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me si fa a vedere la cover story del mese precede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non si capisce che sono cliccabili: 1)- la cover story; 2)- il bottone Weekly Update; 3)- le tre storie in weekly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a foto ha colori troppo in evidenza: forte stacco col resto della pag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Ora la cover story ha un bottone (MORE) per indicare che è clicca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ZIONI DEGLI UT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cora scambiata con la home page di Ad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esso I colori sono grad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 percepita come troppo affoll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l nome del mese è facilmente identifica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ene identicata la funzione di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ws and Commentary presente le storie vecchie, ma ancora un po’ di confusa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cora non chiaro a tutti che le storie sotto News &amp; Commentary sono clicca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i dà più preminenza al nome Sun, ma resta ancora il nome Sun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AZIONI DEGLI UT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cora confusione fra Adobe e S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iace la immagine del mo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liminato il nome SunWorld, e quindi eliminato anche il background col mappamondo, che non ha più sen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AZIONI DEGLI UT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roppi bottoni, troppo complessa, non un’unica gest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bottoni con la freccia unificano, ma rendono il tutto troppo “lista della spes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AZIONI DEGLI UT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non piace la figura della mascotte di Java: troppo grande, non coinvoglia l’idea della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 vengono capite le icone dei bott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layout della illustrazione della cover story è standardizzato, per poter mantenere la stessa impaginazione ad ogni cambio di cover s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liminata la icona nelle cover story secondarie, per rendere la pagina più semp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AZIONI DEGLI UT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 bullet delle cover story secondarie fanno capire agli utenti che sono cliccabili, però non capiscono più che è cliccabile anche il bottone “What’s happen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nuova icona on Sun on the Net non va be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ggiunto un triangolo a al bottone What’s happening, per far capire che è clicca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idisegnate le ic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AZIONI DEGLI UT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li utenti ora capiscono bene che “What’s happening è clicca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 piace l’icona di Technology &amp; Developers: si ha l’impressione che il fulmine distrugga la macchina rappresentata dagli ingranaggi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 piace l’icone della Corporate Overview: sembra il grafico della febbre, oppure sembra che l’andamento di borsa sia turbato da un terrem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 tutti capiscono l’icona del globo in Sun on the Net: alcuni lo scambiano per la faccia di un astronauta dentro il casco, o altre 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igliorato il triangolo sul bottone What’s happening, per far capire meglio che si tratta di un bot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a figura della cover story è stata rimpiazzata da una realizzata in modo più profess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ambiate le icone insoddisfac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 colori intorno alla tazza sono meno sfumati, per rendere l’immagine più leggera e quindi il tempo di caricamento più rap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ne tuning dei colori per la resa sul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a pagina fi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441DE5-75FC-446D-B8BF-2DB224BBC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Sketch rough pictures of screen layouts. Initial goal is to work on the overall layout and stru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Many UI designers have a graphic design or art background (over half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need to often throw away sketches and start ov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hard to visualize the different decision points of the design process. Design his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annotations are often more valuable to the client than the design itself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manual translations may need to occur several times as we it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must have a human “play computer” to test the design. this is often unrealis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0C527C-6C21-4C32-B261-3B893D51E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FDFEC5-04F1-4A86-ADA2-57E5A5A7D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978-74CB-4287-8480-B302CD05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046-86AC-4B69-A17B-1A9C2E56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EA3-F3FE-4BFC-A959-201F5C5A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12D-4BD3-4A1C-AAF2-E09BA6B0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D47-DDBD-47FB-A7C5-919ABC94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C85-97C7-43D2-9F10-7D84018C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2C5-701E-4548-A613-FD8F9C2A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9BE-AC9A-4623-8F38-B38992A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1B1-D3EE-4FBE-99AF-2C540681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014-CCD5-4E77-80A7-909888A6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379-6363-4294-B73A-F7AB50DA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81E-BD47-4244-ACCB-AF0EFE2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1CC3-F9E8-4CF8-A876-6AA8D0448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7880" y="27432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B DESIG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empio: contenitore per acqua miner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tent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o consumatore di acqua min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sportatori di confezioni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esto d’u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quisto in supermercato o in nego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rvazione in frigorif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o in tav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t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sporto manuale di confezione multi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azione del contenitore singolo dalla confezione multi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sporto manuale di contenitore sing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caggio/estrazione nel/dal frigorif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rtura e chiusura del conteni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cita nel bicch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iacciamento verticale per dis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2286000"/>
            <a:ext cx="2667240" cy="1676520"/>
          </a:xfrm>
          <a:prstGeom prst="flowChartAlternateProcess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 utenti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sti e compit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 priorita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33597" t="44625" r="44535" b="11290"/>
          <a:stretch/>
        </p:blipFill>
        <p:spPr>
          <a:xfrm>
            <a:off x="0" y="0"/>
            <a:ext cx="468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58596" t="22046" r="19532" b="43552"/>
          <a:stretch/>
        </p:blipFill>
        <p:spPr>
          <a:xfrm>
            <a:off x="4648320" y="0"/>
            <a:ext cx="4495680" cy="5105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58596" t="61833" r="19532" b="22350"/>
          <a:stretch/>
        </p:blipFill>
        <p:spPr>
          <a:xfrm>
            <a:off x="4648320" y="44956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tore per acqua minerale: una possibile propo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00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6840" y="990720"/>
            <a:ext cx="7304040" cy="48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ome si progetta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 sito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e nascono gli artefatt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34080" y="2876400"/>
            <a:ext cx="3546360" cy="2017440"/>
            <a:chOff x="4834080" y="2876400"/>
            <a:chExt cx="3546360" cy="2017440"/>
          </a:xfrm>
        </p:grpSpPr>
        <p:sp>
          <p:nvSpPr>
            <p:cNvPr id="111" name=""/>
            <p:cNvSpPr/>
            <p:nvPr/>
          </p:nvSpPr>
          <p:spPr>
            <a:xfrm>
              <a:off x="5883120" y="2876400"/>
              <a:ext cx="1241640" cy="5986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Necessità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221440" y="3129120"/>
              <a:ext cx="698400" cy="1534680"/>
              <a:chOff x="5221440" y="3129120"/>
              <a:chExt cx="698400" cy="1534680"/>
            </a:xfrm>
          </p:grpSpPr>
          <p:sp>
            <p:nvSpPr>
              <p:cNvPr id="113" name=""/>
              <p:cNvSpPr/>
              <p:nvPr/>
            </p:nvSpPr>
            <p:spPr>
              <a:xfrm>
                <a:off x="5221440" y="3960720"/>
                <a:ext cx="698400" cy="703080"/>
              </a:xfrm>
              <a:custGeom>
                <a:avLst/>
                <a:gdLst/>
                <a:ahLst/>
                <a:rect l="l" t="t" r="r" b="b"/>
                <a:pathLst>
                  <a:path w="900" h="808">
                    <a:moveTo>
                      <a:pt x="876" y="807"/>
                    </a:moveTo>
                    <a:lnTo>
                      <a:pt x="891" y="805"/>
                    </a:lnTo>
                    <a:lnTo>
                      <a:pt x="899" y="660"/>
                    </a:lnTo>
                    <a:lnTo>
                      <a:pt x="883" y="659"/>
                    </a:lnTo>
                    <a:lnTo>
                      <a:pt x="872" y="658"/>
                    </a:lnTo>
                    <a:lnTo>
                      <a:pt x="859" y="659"/>
                    </a:lnTo>
                    <a:lnTo>
                      <a:pt x="844" y="659"/>
                    </a:lnTo>
                    <a:lnTo>
                      <a:pt x="829" y="656"/>
                    </a:lnTo>
                    <a:lnTo>
                      <a:pt x="815" y="656"/>
                    </a:lnTo>
                    <a:lnTo>
                      <a:pt x="803" y="655"/>
                    </a:lnTo>
                    <a:lnTo>
                      <a:pt x="788" y="653"/>
                    </a:lnTo>
                    <a:lnTo>
                      <a:pt x="775" y="651"/>
                    </a:lnTo>
                    <a:lnTo>
                      <a:pt x="760" y="649"/>
                    </a:lnTo>
                    <a:lnTo>
                      <a:pt x="747" y="646"/>
                    </a:lnTo>
                    <a:lnTo>
                      <a:pt x="733" y="643"/>
                    </a:lnTo>
                    <a:lnTo>
                      <a:pt x="720" y="640"/>
                    </a:lnTo>
                    <a:lnTo>
                      <a:pt x="708" y="637"/>
                    </a:lnTo>
                    <a:lnTo>
                      <a:pt x="698" y="634"/>
                    </a:lnTo>
                    <a:lnTo>
                      <a:pt x="685" y="630"/>
                    </a:lnTo>
                    <a:lnTo>
                      <a:pt x="673" y="627"/>
                    </a:lnTo>
                    <a:lnTo>
                      <a:pt x="659" y="623"/>
                    </a:lnTo>
                    <a:lnTo>
                      <a:pt x="646" y="618"/>
                    </a:lnTo>
                    <a:lnTo>
                      <a:pt x="637" y="616"/>
                    </a:lnTo>
                    <a:lnTo>
                      <a:pt x="626" y="611"/>
                    </a:lnTo>
                    <a:lnTo>
                      <a:pt x="612" y="607"/>
                    </a:lnTo>
                    <a:lnTo>
                      <a:pt x="598" y="599"/>
                    </a:lnTo>
                    <a:lnTo>
                      <a:pt x="580" y="592"/>
                    </a:lnTo>
                    <a:lnTo>
                      <a:pt x="563" y="584"/>
                    </a:lnTo>
                    <a:lnTo>
                      <a:pt x="546" y="576"/>
                    </a:lnTo>
                    <a:lnTo>
                      <a:pt x="530" y="568"/>
                    </a:lnTo>
                    <a:lnTo>
                      <a:pt x="512" y="557"/>
                    </a:lnTo>
                    <a:lnTo>
                      <a:pt x="498" y="548"/>
                    </a:lnTo>
                    <a:lnTo>
                      <a:pt x="483" y="539"/>
                    </a:lnTo>
                    <a:lnTo>
                      <a:pt x="468" y="528"/>
                    </a:lnTo>
                    <a:lnTo>
                      <a:pt x="451" y="515"/>
                    </a:lnTo>
                    <a:lnTo>
                      <a:pt x="434" y="503"/>
                    </a:lnTo>
                    <a:lnTo>
                      <a:pt x="419" y="491"/>
                    </a:lnTo>
                    <a:lnTo>
                      <a:pt x="401" y="477"/>
                    </a:lnTo>
                    <a:lnTo>
                      <a:pt x="385" y="462"/>
                    </a:lnTo>
                    <a:lnTo>
                      <a:pt x="371" y="447"/>
                    </a:lnTo>
                    <a:lnTo>
                      <a:pt x="357" y="432"/>
                    </a:lnTo>
                    <a:lnTo>
                      <a:pt x="344" y="420"/>
                    </a:lnTo>
                    <a:lnTo>
                      <a:pt x="332" y="407"/>
                    </a:lnTo>
                    <a:lnTo>
                      <a:pt x="319" y="392"/>
                    </a:lnTo>
                    <a:lnTo>
                      <a:pt x="308" y="376"/>
                    </a:lnTo>
                    <a:lnTo>
                      <a:pt x="297" y="362"/>
                    </a:lnTo>
                    <a:lnTo>
                      <a:pt x="284" y="345"/>
                    </a:lnTo>
                    <a:lnTo>
                      <a:pt x="275" y="332"/>
                    </a:lnTo>
                    <a:lnTo>
                      <a:pt x="263" y="313"/>
                    </a:lnTo>
                    <a:lnTo>
                      <a:pt x="251" y="296"/>
                    </a:lnTo>
                    <a:lnTo>
                      <a:pt x="241" y="277"/>
                    </a:lnTo>
                    <a:lnTo>
                      <a:pt x="231" y="258"/>
                    </a:lnTo>
                    <a:lnTo>
                      <a:pt x="221" y="238"/>
                    </a:lnTo>
                    <a:lnTo>
                      <a:pt x="214" y="221"/>
                    </a:lnTo>
                    <a:lnTo>
                      <a:pt x="205" y="201"/>
                    </a:lnTo>
                    <a:lnTo>
                      <a:pt x="197" y="180"/>
                    </a:lnTo>
                    <a:lnTo>
                      <a:pt x="190" y="161"/>
                    </a:lnTo>
                    <a:lnTo>
                      <a:pt x="184" y="138"/>
                    </a:lnTo>
                    <a:lnTo>
                      <a:pt x="232" y="122"/>
                    </a:lnTo>
                    <a:lnTo>
                      <a:pt x="69" y="0"/>
                    </a:lnTo>
                    <a:lnTo>
                      <a:pt x="0" y="197"/>
                    </a:lnTo>
                    <a:lnTo>
                      <a:pt x="46" y="182"/>
                    </a:lnTo>
                    <a:lnTo>
                      <a:pt x="55" y="208"/>
                    </a:lnTo>
                    <a:lnTo>
                      <a:pt x="62" y="231"/>
                    </a:lnTo>
                    <a:lnTo>
                      <a:pt x="72" y="253"/>
                    </a:lnTo>
                    <a:lnTo>
                      <a:pt x="80" y="274"/>
                    </a:lnTo>
                    <a:lnTo>
                      <a:pt x="89" y="294"/>
                    </a:lnTo>
                    <a:lnTo>
                      <a:pt x="97" y="312"/>
                    </a:lnTo>
                    <a:lnTo>
                      <a:pt x="108" y="332"/>
                    </a:lnTo>
                    <a:lnTo>
                      <a:pt x="117" y="350"/>
                    </a:lnTo>
                    <a:lnTo>
                      <a:pt x="126" y="366"/>
                    </a:lnTo>
                    <a:lnTo>
                      <a:pt x="136" y="384"/>
                    </a:lnTo>
                    <a:lnTo>
                      <a:pt x="151" y="406"/>
                    </a:lnTo>
                    <a:lnTo>
                      <a:pt x="161" y="424"/>
                    </a:lnTo>
                    <a:lnTo>
                      <a:pt x="173" y="440"/>
                    </a:lnTo>
                    <a:lnTo>
                      <a:pt x="184" y="457"/>
                    </a:lnTo>
                    <a:lnTo>
                      <a:pt x="199" y="475"/>
                    </a:lnTo>
                    <a:lnTo>
                      <a:pt x="213" y="491"/>
                    </a:lnTo>
                    <a:lnTo>
                      <a:pt x="227" y="507"/>
                    </a:lnTo>
                    <a:lnTo>
                      <a:pt x="240" y="521"/>
                    </a:lnTo>
                    <a:lnTo>
                      <a:pt x="257" y="538"/>
                    </a:lnTo>
                    <a:lnTo>
                      <a:pt x="271" y="555"/>
                    </a:lnTo>
                    <a:lnTo>
                      <a:pt x="287" y="568"/>
                    </a:lnTo>
                    <a:lnTo>
                      <a:pt x="302" y="582"/>
                    </a:lnTo>
                    <a:lnTo>
                      <a:pt x="316" y="596"/>
                    </a:lnTo>
                    <a:lnTo>
                      <a:pt x="331" y="609"/>
                    </a:lnTo>
                    <a:lnTo>
                      <a:pt x="346" y="620"/>
                    </a:lnTo>
                    <a:lnTo>
                      <a:pt x="363" y="634"/>
                    </a:lnTo>
                    <a:lnTo>
                      <a:pt x="381" y="647"/>
                    </a:lnTo>
                    <a:lnTo>
                      <a:pt x="398" y="658"/>
                    </a:lnTo>
                    <a:lnTo>
                      <a:pt x="416" y="669"/>
                    </a:lnTo>
                    <a:lnTo>
                      <a:pt x="432" y="680"/>
                    </a:lnTo>
                    <a:lnTo>
                      <a:pt x="449" y="689"/>
                    </a:lnTo>
                    <a:lnTo>
                      <a:pt x="463" y="697"/>
                    </a:lnTo>
                    <a:lnTo>
                      <a:pt x="482" y="707"/>
                    </a:lnTo>
                    <a:lnTo>
                      <a:pt x="501" y="716"/>
                    </a:lnTo>
                    <a:lnTo>
                      <a:pt x="517" y="724"/>
                    </a:lnTo>
                    <a:lnTo>
                      <a:pt x="536" y="732"/>
                    </a:lnTo>
                    <a:lnTo>
                      <a:pt x="554" y="739"/>
                    </a:lnTo>
                    <a:lnTo>
                      <a:pt x="574" y="747"/>
                    </a:lnTo>
                    <a:lnTo>
                      <a:pt x="593" y="754"/>
                    </a:lnTo>
                    <a:lnTo>
                      <a:pt x="610" y="760"/>
                    </a:lnTo>
                    <a:lnTo>
                      <a:pt x="630" y="768"/>
                    </a:lnTo>
                    <a:lnTo>
                      <a:pt x="646" y="772"/>
                    </a:lnTo>
                    <a:lnTo>
                      <a:pt x="663" y="777"/>
                    </a:lnTo>
                    <a:lnTo>
                      <a:pt x="674" y="779"/>
                    </a:lnTo>
                    <a:lnTo>
                      <a:pt x="685" y="784"/>
                    </a:lnTo>
                    <a:lnTo>
                      <a:pt x="694" y="787"/>
                    </a:lnTo>
                    <a:lnTo>
                      <a:pt x="703" y="787"/>
                    </a:lnTo>
                    <a:lnTo>
                      <a:pt x="714" y="790"/>
                    </a:lnTo>
                    <a:lnTo>
                      <a:pt x="724" y="791"/>
                    </a:lnTo>
                    <a:lnTo>
                      <a:pt x="736" y="792"/>
                    </a:lnTo>
                    <a:lnTo>
                      <a:pt x="748" y="794"/>
                    </a:lnTo>
                    <a:lnTo>
                      <a:pt x="757" y="796"/>
                    </a:lnTo>
                    <a:lnTo>
                      <a:pt x="767" y="798"/>
                    </a:lnTo>
                    <a:lnTo>
                      <a:pt x="779" y="801"/>
                    </a:lnTo>
                    <a:lnTo>
                      <a:pt x="791" y="801"/>
                    </a:lnTo>
                    <a:lnTo>
                      <a:pt x="803" y="803"/>
                    </a:lnTo>
                    <a:lnTo>
                      <a:pt x="814" y="803"/>
                    </a:lnTo>
                    <a:lnTo>
                      <a:pt x="824" y="805"/>
                    </a:lnTo>
                    <a:lnTo>
                      <a:pt x="835" y="806"/>
                    </a:lnTo>
                    <a:lnTo>
                      <a:pt x="846" y="806"/>
                    </a:lnTo>
                    <a:lnTo>
                      <a:pt x="858" y="806"/>
                    </a:lnTo>
                    <a:lnTo>
                      <a:pt x="866" y="806"/>
                    </a:lnTo>
                    <a:lnTo>
                      <a:pt x="876" y="807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000" rIns="63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29000" y="3129120"/>
                <a:ext cx="626400" cy="770040"/>
              </a:xfrm>
              <a:custGeom>
                <a:avLst/>
                <a:gdLst/>
                <a:ahLst/>
                <a:rect l="l" t="t" r="r" b="b"/>
                <a:pathLst>
                  <a:path w="807" h="885">
                    <a:moveTo>
                      <a:pt x="1" y="876"/>
                    </a:moveTo>
                    <a:lnTo>
                      <a:pt x="148" y="884"/>
                    </a:lnTo>
                    <a:lnTo>
                      <a:pt x="148" y="871"/>
                    </a:lnTo>
                    <a:lnTo>
                      <a:pt x="149" y="860"/>
                    </a:lnTo>
                    <a:lnTo>
                      <a:pt x="149" y="843"/>
                    </a:lnTo>
                    <a:lnTo>
                      <a:pt x="150" y="828"/>
                    </a:lnTo>
                    <a:lnTo>
                      <a:pt x="151" y="814"/>
                    </a:lnTo>
                    <a:lnTo>
                      <a:pt x="152" y="803"/>
                    </a:lnTo>
                    <a:lnTo>
                      <a:pt x="155" y="787"/>
                    </a:lnTo>
                    <a:lnTo>
                      <a:pt x="156" y="775"/>
                    </a:lnTo>
                    <a:lnTo>
                      <a:pt x="159" y="761"/>
                    </a:lnTo>
                    <a:lnTo>
                      <a:pt x="160" y="746"/>
                    </a:lnTo>
                    <a:lnTo>
                      <a:pt x="164" y="733"/>
                    </a:lnTo>
                    <a:lnTo>
                      <a:pt x="167" y="718"/>
                    </a:lnTo>
                    <a:lnTo>
                      <a:pt x="169" y="708"/>
                    </a:lnTo>
                    <a:lnTo>
                      <a:pt x="172" y="697"/>
                    </a:lnTo>
                    <a:lnTo>
                      <a:pt x="177" y="684"/>
                    </a:lnTo>
                    <a:lnTo>
                      <a:pt x="181" y="672"/>
                    </a:lnTo>
                    <a:lnTo>
                      <a:pt x="185" y="659"/>
                    </a:lnTo>
                    <a:lnTo>
                      <a:pt x="189" y="645"/>
                    </a:lnTo>
                    <a:lnTo>
                      <a:pt x="192" y="637"/>
                    </a:lnTo>
                    <a:lnTo>
                      <a:pt x="196" y="625"/>
                    </a:lnTo>
                    <a:lnTo>
                      <a:pt x="202" y="610"/>
                    </a:lnTo>
                    <a:lnTo>
                      <a:pt x="207" y="598"/>
                    </a:lnTo>
                    <a:lnTo>
                      <a:pt x="215" y="579"/>
                    </a:lnTo>
                    <a:lnTo>
                      <a:pt x="222" y="563"/>
                    </a:lnTo>
                    <a:lnTo>
                      <a:pt x="230" y="544"/>
                    </a:lnTo>
                    <a:lnTo>
                      <a:pt x="239" y="528"/>
                    </a:lnTo>
                    <a:lnTo>
                      <a:pt x="250" y="511"/>
                    </a:lnTo>
                    <a:lnTo>
                      <a:pt x="259" y="496"/>
                    </a:lnTo>
                    <a:lnTo>
                      <a:pt x="268" y="483"/>
                    </a:lnTo>
                    <a:lnTo>
                      <a:pt x="279" y="467"/>
                    </a:lnTo>
                    <a:lnTo>
                      <a:pt x="291" y="450"/>
                    </a:lnTo>
                    <a:lnTo>
                      <a:pt x="303" y="433"/>
                    </a:lnTo>
                    <a:lnTo>
                      <a:pt x="315" y="418"/>
                    </a:lnTo>
                    <a:lnTo>
                      <a:pt x="330" y="401"/>
                    </a:lnTo>
                    <a:lnTo>
                      <a:pt x="344" y="384"/>
                    </a:lnTo>
                    <a:lnTo>
                      <a:pt x="360" y="370"/>
                    </a:lnTo>
                    <a:lnTo>
                      <a:pt x="374" y="356"/>
                    </a:lnTo>
                    <a:lnTo>
                      <a:pt x="387" y="344"/>
                    </a:lnTo>
                    <a:lnTo>
                      <a:pt x="400" y="332"/>
                    </a:lnTo>
                    <a:lnTo>
                      <a:pt x="416" y="318"/>
                    </a:lnTo>
                    <a:lnTo>
                      <a:pt x="431" y="307"/>
                    </a:lnTo>
                    <a:lnTo>
                      <a:pt x="445" y="296"/>
                    </a:lnTo>
                    <a:lnTo>
                      <a:pt x="462" y="284"/>
                    </a:lnTo>
                    <a:lnTo>
                      <a:pt x="477" y="273"/>
                    </a:lnTo>
                    <a:lnTo>
                      <a:pt x="493" y="262"/>
                    </a:lnTo>
                    <a:lnTo>
                      <a:pt x="511" y="252"/>
                    </a:lnTo>
                    <a:lnTo>
                      <a:pt x="530" y="241"/>
                    </a:lnTo>
                    <a:lnTo>
                      <a:pt x="549" y="231"/>
                    </a:lnTo>
                    <a:lnTo>
                      <a:pt x="569" y="221"/>
                    </a:lnTo>
                    <a:lnTo>
                      <a:pt x="586" y="212"/>
                    </a:lnTo>
                    <a:lnTo>
                      <a:pt x="605" y="205"/>
                    </a:lnTo>
                    <a:lnTo>
                      <a:pt x="628" y="196"/>
                    </a:lnTo>
                    <a:lnTo>
                      <a:pt x="646" y="191"/>
                    </a:lnTo>
                    <a:lnTo>
                      <a:pt x="669" y="183"/>
                    </a:lnTo>
                    <a:lnTo>
                      <a:pt x="684" y="231"/>
                    </a:lnTo>
                    <a:lnTo>
                      <a:pt x="806" y="69"/>
                    </a:lnTo>
                    <a:lnTo>
                      <a:pt x="609" y="0"/>
                    </a:lnTo>
                    <a:lnTo>
                      <a:pt x="624" y="46"/>
                    </a:lnTo>
                    <a:lnTo>
                      <a:pt x="599" y="54"/>
                    </a:lnTo>
                    <a:lnTo>
                      <a:pt x="576" y="63"/>
                    </a:lnTo>
                    <a:lnTo>
                      <a:pt x="554" y="70"/>
                    </a:lnTo>
                    <a:lnTo>
                      <a:pt x="533" y="79"/>
                    </a:lnTo>
                    <a:lnTo>
                      <a:pt x="513" y="87"/>
                    </a:lnTo>
                    <a:lnTo>
                      <a:pt x="495" y="97"/>
                    </a:lnTo>
                    <a:lnTo>
                      <a:pt x="475" y="106"/>
                    </a:lnTo>
                    <a:lnTo>
                      <a:pt x="457" y="116"/>
                    </a:lnTo>
                    <a:lnTo>
                      <a:pt x="441" y="125"/>
                    </a:lnTo>
                    <a:lnTo>
                      <a:pt x="424" y="136"/>
                    </a:lnTo>
                    <a:lnTo>
                      <a:pt x="401" y="150"/>
                    </a:lnTo>
                    <a:lnTo>
                      <a:pt x="384" y="161"/>
                    </a:lnTo>
                    <a:lnTo>
                      <a:pt x="367" y="172"/>
                    </a:lnTo>
                    <a:lnTo>
                      <a:pt x="351" y="184"/>
                    </a:lnTo>
                    <a:lnTo>
                      <a:pt x="333" y="198"/>
                    </a:lnTo>
                    <a:lnTo>
                      <a:pt x="316" y="212"/>
                    </a:lnTo>
                    <a:lnTo>
                      <a:pt x="301" y="225"/>
                    </a:lnTo>
                    <a:lnTo>
                      <a:pt x="285" y="238"/>
                    </a:lnTo>
                    <a:lnTo>
                      <a:pt x="269" y="255"/>
                    </a:lnTo>
                    <a:lnTo>
                      <a:pt x="253" y="272"/>
                    </a:lnTo>
                    <a:lnTo>
                      <a:pt x="238" y="284"/>
                    </a:lnTo>
                    <a:lnTo>
                      <a:pt x="224" y="300"/>
                    </a:lnTo>
                    <a:lnTo>
                      <a:pt x="211" y="314"/>
                    </a:lnTo>
                    <a:lnTo>
                      <a:pt x="199" y="330"/>
                    </a:lnTo>
                    <a:lnTo>
                      <a:pt x="186" y="345"/>
                    </a:lnTo>
                    <a:lnTo>
                      <a:pt x="173" y="362"/>
                    </a:lnTo>
                    <a:lnTo>
                      <a:pt x="160" y="381"/>
                    </a:lnTo>
                    <a:lnTo>
                      <a:pt x="148" y="397"/>
                    </a:lnTo>
                    <a:lnTo>
                      <a:pt x="137" y="415"/>
                    </a:lnTo>
                    <a:lnTo>
                      <a:pt x="127" y="432"/>
                    </a:lnTo>
                    <a:lnTo>
                      <a:pt x="118" y="447"/>
                    </a:lnTo>
                    <a:lnTo>
                      <a:pt x="110" y="462"/>
                    </a:lnTo>
                    <a:lnTo>
                      <a:pt x="99" y="482"/>
                    </a:lnTo>
                    <a:lnTo>
                      <a:pt x="92" y="502"/>
                    </a:lnTo>
                    <a:lnTo>
                      <a:pt x="83" y="517"/>
                    </a:lnTo>
                    <a:lnTo>
                      <a:pt x="75" y="535"/>
                    </a:lnTo>
                    <a:lnTo>
                      <a:pt x="68" y="553"/>
                    </a:lnTo>
                    <a:lnTo>
                      <a:pt x="61" y="572"/>
                    </a:lnTo>
                    <a:lnTo>
                      <a:pt x="53" y="591"/>
                    </a:lnTo>
                    <a:lnTo>
                      <a:pt x="47" y="609"/>
                    </a:lnTo>
                    <a:lnTo>
                      <a:pt x="39" y="630"/>
                    </a:lnTo>
                    <a:lnTo>
                      <a:pt x="35" y="646"/>
                    </a:lnTo>
                    <a:lnTo>
                      <a:pt x="30" y="663"/>
                    </a:lnTo>
                    <a:lnTo>
                      <a:pt x="27" y="674"/>
                    </a:lnTo>
                    <a:lnTo>
                      <a:pt x="23" y="685"/>
                    </a:lnTo>
                    <a:lnTo>
                      <a:pt x="21" y="694"/>
                    </a:lnTo>
                    <a:lnTo>
                      <a:pt x="20" y="702"/>
                    </a:lnTo>
                    <a:lnTo>
                      <a:pt x="18" y="712"/>
                    </a:lnTo>
                    <a:lnTo>
                      <a:pt x="16" y="725"/>
                    </a:lnTo>
                    <a:lnTo>
                      <a:pt x="15" y="736"/>
                    </a:lnTo>
                    <a:lnTo>
                      <a:pt x="13" y="745"/>
                    </a:lnTo>
                    <a:lnTo>
                      <a:pt x="11" y="755"/>
                    </a:lnTo>
                    <a:lnTo>
                      <a:pt x="9" y="767"/>
                    </a:lnTo>
                    <a:lnTo>
                      <a:pt x="7" y="778"/>
                    </a:lnTo>
                    <a:lnTo>
                      <a:pt x="6" y="789"/>
                    </a:lnTo>
                    <a:lnTo>
                      <a:pt x="4" y="802"/>
                    </a:lnTo>
                    <a:lnTo>
                      <a:pt x="3" y="813"/>
                    </a:lnTo>
                    <a:lnTo>
                      <a:pt x="2" y="823"/>
                    </a:lnTo>
                    <a:lnTo>
                      <a:pt x="2" y="834"/>
                    </a:lnTo>
                    <a:lnTo>
                      <a:pt x="1" y="845"/>
                    </a:lnTo>
                    <a:lnTo>
                      <a:pt x="0" y="857"/>
                    </a:lnTo>
                    <a:lnTo>
                      <a:pt x="1" y="865"/>
                    </a:lnTo>
                    <a:lnTo>
                      <a:pt x="1" y="876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000" rIns="63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967360" y="3129120"/>
              <a:ext cx="1906200" cy="1764720"/>
              <a:chOff x="5967360" y="3129120"/>
              <a:chExt cx="1906200" cy="17647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7360" y="4294800"/>
                <a:ext cx="1240560" cy="5990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GB" sz="1700" spc="-1" strike="noStrike">
                    <a:solidFill>
                      <a:srgbClr val="000000"/>
                    </a:solidFill>
                    <a:latin typeface="Arial"/>
                  </a:rPr>
                  <a:t>Artefatt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7167600" y="3129120"/>
                <a:ext cx="705960" cy="1492560"/>
                <a:chOff x="7167600" y="3129120"/>
                <a:chExt cx="705960" cy="14925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167600" y="3129120"/>
                  <a:ext cx="705600" cy="671040"/>
                </a:xfrm>
                <a:custGeom>
                  <a:avLst/>
                  <a:gdLst/>
                  <a:ahLst/>
                  <a:rect l="l" t="t" r="r" b="b"/>
                  <a:pathLst>
                    <a:path w="910" h="771">
                      <a:moveTo>
                        <a:pt x="22" y="0"/>
                      </a:moveTo>
                      <a:lnTo>
                        <a:pt x="7" y="3"/>
                      </a:lnTo>
                      <a:lnTo>
                        <a:pt x="0" y="144"/>
                      </a:lnTo>
                      <a:lnTo>
                        <a:pt x="17" y="145"/>
                      </a:lnTo>
                      <a:lnTo>
                        <a:pt x="29" y="145"/>
                      </a:lnTo>
                      <a:lnTo>
                        <a:pt x="41" y="144"/>
                      </a:lnTo>
                      <a:lnTo>
                        <a:pt x="57" y="145"/>
                      </a:lnTo>
                      <a:lnTo>
                        <a:pt x="71" y="146"/>
                      </a:lnTo>
                      <a:lnTo>
                        <a:pt x="85" y="146"/>
                      </a:lnTo>
                      <a:lnTo>
                        <a:pt x="97" y="148"/>
                      </a:lnTo>
                      <a:lnTo>
                        <a:pt x="112" y="149"/>
                      </a:lnTo>
                      <a:lnTo>
                        <a:pt x="125" y="151"/>
                      </a:lnTo>
                      <a:lnTo>
                        <a:pt x="140" y="153"/>
                      </a:lnTo>
                      <a:lnTo>
                        <a:pt x="153" y="155"/>
                      </a:lnTo>
                      <a:lnTo>
                        <a:pt x="168" y="158"/>
                      </a:lnTo>
                      <a:lnTo>
                        <a:pt x="180" y="161"/>
                      </a:lnTo>
                      <a:lnTo>
                        <a:pt x="191" y="163"/>
                      </a:lnTo>
                      <a:lnTo>
                        <a:pt x="204" y="166"/>
                      </a:lnTo>
                      <a:lnTo>
                        <a:pt x="216" y="168"/>
                      </a:lnTo>
                      <a:lnTo>
                        <a:pt x="229" y="172"/>
                      </a:lnTo>
                      <a:lnTo>
                        <a:pt x="241" y="177"/>
                      </a:lnTo>
                      <a:lnTo>
                        <a:pt x="255" y="180"/>
                      </a:lnTo>
                      <a:lnTo>
                        <a:pt x="264" y="183"/>
                      </a:lnTo>
                      <a:lnTo>
                        <a:pt x="275" y="187"/>
                      </a:lnTo>
                      <a:lnTo>
                        <a:pt x="289" y="191"/>
                      </a:lnTo>
                      <a:lnTo>
                        <a:pt x="304" y="197"/>
                      </a:lnTo>
                      <a:lnTo>
                        <a:pt x="323" y="203"/>
                      </a:lnTo>
                      <a:lnTo>
                        <a:pt x="339" y="212"/>
                      </a:lnTo>
                      <a:lnTo>
                        <a:pt x="357" y="219"/>
                      </a:lnTo>
                      <a:lnTo>
                        <a:pt x="372" y="228"/>
                      </a:lnTo>
                      <a:lnTo>
                        <a:pt x="391" y="237"/>
                      </a:lnTo>
                      <a:lnTo>
                        <a:pt x="406" y="245"/>
                      </a:lnTo>
                      <a:lnTo>
                        <a:pt x="420" y="255"/>
                      </a:lnTo>
                      <a:lnTo>
                        <a:pt x="435" y="264"/>
                      </a:lnTo>
                      <a:lnTo>
                        <a:pt x="452" y="276"/>
                      </a:lnTo>
                      <a:lnTo>
                        <a:pt x="470" y="288"/>
                      </a:lnTo>
                      <a:lnTo>
                        <a:pt x="486" y="300"/>
                      </a:lnTo>
                      <a:lnTo>
                        <a:pt x="502" y="313"/>
                      </a:lnTo>
                      <a:lnTo>
                        <a:pt x="519" y="327"/>
                      </a:lnTo>
                      <a:lnTo>
                        <a:pt x="535" y="340"/>
                      </a:lnTo>
                      <a:lnTo>
                        <a:pt x="548" y="356"/>
                      </a:lnTo>
                      <a:lnTo>
                        <a:pt x="560" y="367"/>
                      </a:lnTo>
                      <a:lnTo>
                        <a:pt x="572" y="380"/>
                      </a:lnTo>
                      <a:lnTo>
                        <a:pt x="586" y="395"/>
                      </a:lnTo>
                      <a:lnTo>
                        <a:pt x="597" y="407"/>
                      </a:lnTo>
                      <a:lnTo>
                        <a:pt x="609" y="423"/>
                      </a:lnTo>
                      <a:lnTo>
                        <a:pt x="622" y="439"/>
                      </a:lnTo>
                      <a:lnTo>
                        <a:pt x="632" y="453"/>
                      </a:lnTo>
                      <a:lnTo>
                        <a:pt x="644" y="470"/>
                      </a:lnTo>
                      <a:lnTo>
                        <a:pt x="655" y="486"/>
                      </a:lnTo>
                      <a:lnTo>
                        <a:pt x="665" y="504"/>
                      </a:lnTo>
                      <a:lnTo>
                        <a:pt x="676" y="523"/>
                      </a:lnTo>
                      <a:lnTo>
                        <a:pt x="687" y="541"/>
                      </a:lnTo>
                      <a:lnTo>
                        <a:pt x="694" y="559"/>
                      </a:lnTo>
                      <a:lnTo>
                        <a:pt x="703" y="577"/>
                      </a:lnTo>
                      <a:lnTo>
                        <a:pt x="712" y="598"/>
                      </a:lnTo>
                      <a:lnTo>
                        <a:pt x="717" y="616"/>
                      </a:lnTo>
                      <a:lnTo>
                        <a:pt x="726" y="639"/>
                      </a:lnTo>
                      <a:lnTo>
                        <a:pt x="678" y="654"/>
                      </a:lnTo>
                      <a:lnTo>
                        <a:pt x="841" y="770"/>
                      </a:lnTo>
                      <a:lnTo>
                        <a:pt x="909" y="577"/>
                      </a:lnTo>
                      <a:lnTo>
                        <a:pt x="863" y="592"/>
                      </a:lnTo>
                      <a:lnTo>
                        <a:pt x="854" y="567"/>
                      </a:lnTo>
                      <a:lnTo>
                        <a:pt x="846" y="545"/>
                      </a:lnTo>
                      <a:lnTo>
                        <a:pt x="836" y="525"/>
                      </a:lnTo>
                      <a:lnTo>
                        <a:pt x="827" y="504"/>
                      </a:lnTo>
                      <a:lnTo>
                        <a:pt x="818" y="485"/>
                      </a:lnTo>
                      <a:lnTo>
                        <a:pt x="810" y="468"/>
                      </a:lnTo>
                      <a:lnTo>
                        <a:pt x="799" y="448"/>
                      </a:lnTo>
                      <a:lnTo>
                        <a:pt x="790" y="431"/>
                      </a:lnTo>
                      <a:lnTo>
                        <a:pt x="779" y="416"/>
                      </a:lnTo>
                      <a:lnTo>
                        <a:pt x="769" y="397"/>
                      </a:lnTo>
                      <a:lnTo>
                        <a:pt x="756" y="376"/>
                      </a:lnTo>
                      <a:lnTo>
                        <a:pt x="743" y="360"/>
                      </a:lnTo>
                      <a:lnTo>
                        <a:pt x="732" y="344"/>
                      </a:lnTo>
                      <a:lnTo>
                        <a:pt x="719" y="329"/>
                      </a:lnTo>
                      <a:lnTo>
                        <a:pt x="705" y="312"/>
                      </a:lnTo>
                      <a:lnTo>
                        <a:pt x="691" y="295"/>
                      </a:lnTo>
                      <a:lnTo>
                        <a:pt x="677" y="280"/>
                      </a:lnTo>
                      <a:lnTo>
                        <a:pt x="664" y="266"/>
                      </a:lnTo>
                      <a:lnTo>
                        <a:pt x="648" y="250"/>
                      </a:lnTo>
                      <a:lnTo>
                        <a:pt x="631" y="234"/>
                      </a:lnTo>
                      <a:lnTo>
                        <a:pt x="618" y="221"/>
                      </a:lnTo>
                      <a:lnTo>
                        <a:pt x="601" y="209"/>
                      </a:lnTo>
                      <a:lnTo>
                        <a:pt x="587" y="197"/>
                      </a:lnTo>
                      <a:lnTo>
                        <a:pt x="571" y="184"/>
                      </a:lnTo>
                      <a:lnTo>
                        <a:pt x="555" y="172"/>
                      </a:lnTo>
                      <a:lnTo>
                        <a:pt x="538" y="160"/>
                      </a:lnTo>
                      <a:lnTo>
                        <a:pt x="520" y="147"/>
                      </a:lnTo>
                      <a:lnTo>
                        <a:pt x="502" y="136"/>
                      </a:lnTo>
                      <a:lnTo>
                        <a:pt x="485" y="126"/>
                      </a:lnTo>
                      <a:lnTo>
                        <a:pt x="469" y="117"/>
                      </a:lnTo>
                      <a:lnTo>
                        <a:pt x="451" y="108"/>
                      </a:lnTo>
                      <a:lnTo>
                        <a:pt x="438" y="101"/>
                      </a:lnTo>
                      <a:lnTo>
                        <a:pt x="418" y="90"/>
                      </a:lnTo>
                      <a:lnTo>
                        <a:pt x="398" y="82"/>
                      </a:lnTo>
                      <a:lnTo>
                        <a:pt x="383" y="73"/>
                      </a:lnTo>
                      <a:lnTo>
                        <a:pt x="364" y="67"/>
                      </a:lnTo>
                      <a:lnTo>
                        <a:pt x="346" y="60"/>
                      </a:lnTo>
                      <a:lnTo>
                        <a:pt x="326" y="53"/>
                      </a:lnTo>
                      <a:lnTo>
                        <a:pt x="308" y="48"/>
                      </a:lnTo>
                      <a:lnTo>
                        <a:pt x="290" y="42"/>
                      </a:lnTo>
                      <a:lnTo>
                        <a:pt x="270" y="34"/>
                      </a:lnTo>
                      <a:lnTo>
                        <a:pt x="252" y="30"/>
                      </a:lnTo>
                      <a:lnTo>
                        <a:pt x="236" y="27"/>
                      </a:lnTo>
                      <a:lnTo>
                        <a:pt x="224" y="24"/>
                      </a:lnTo>
                      <a:lnTo>
                        <a:pt x="214" y="20"/>
                      </a:lnTo>
                      <a:lnTo>
                        <a:pt x="203" y="17"/>
                      </a:lnTo>
                      <a:lnTo>
                        <a:pt x="195" y="17"/>
                      </a:lnTo>
                      <a:lnTo>
                        <a:pt x="185" y="15"/>
                      </a:lnTo>
                      <a:lnTo>
                        <a:pt x="174" y="14"/>
                      </a:lnTo>
                      <a:lnTo>
                        <a:pt x="162" y="13"/>
                      </a:lnTo>
                      <a:lnTo>
                        <a:pt x="151" y="10"/>
                      </a:lnTo>
                      <a:lnTo>
                        <a:pt x="142" y="9"/>
                      </a:lnTo>
                      <a:lnTo>
                        <a:pt x="131" y="8"/>
                      </a:lnTo>
                      <a:lnTo>
                        <a:pt x="119" y="6"/>
                      </a:lnTo>
                      <a:lnTo>
                        <a:pt x="107" y="5"/>
                      </a:lnTo>
                      <a:lnTo>
                        <a:pt x="94" y="3"/>
                      </a:lnTo>
                      <a:lnTo>
                        <a:pt x="84" y="3"/>
                      </a:lnTo>
                      <a:lnTo>
                        <a:pt x="74" y="2"/>
                      </a:lnTo>
                      <a:lnTo>
                        <a:pt x="63" y="3"/>
                      </a:lnTo>
                      <a:lnTo>
                        <a:pt x="52" y="1"/>
                      </a:lnTo>
                      <a:lnTo>
                        <a:pt x="41" y="1"/>
                      </a:lnTo>
                      <a:lnTo>
                        <a:pt x="33" y="2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000" rIns="63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55800" y="3864600"/>
                  <a:ext cx="617760" cy="757080"/>
                </a:xfrm>
                <a:custGeom>
                  <a:avLst/>
                  <a:gdLst/>
                  <a:ahLst/>
                  <a:rect l="l" t="t" r="r" b="b"/>
                  <a:pathLst>
                    <a:path w="797" h="870">
                      <a:moveTo>
                        <a:pt x="796" y="5"/>
                      </a:moveTo>
                      <a:lnTo>
                        <a:pt x="647" y="0"/>
                      </a:lnTo>
                      <a:lnTo>
                        <a:pt x="648" y="11"/>
                      </a:lnTo>
                      <a:lnTo>
                        <a:pt x="648" y="24"/>
                      </a:lnTo>
                      <a:lnTo>
                        <a:pt x="647" y="39"/>
                      </a:lnTo>
                      <a:lnTo>
                        <a:pt x="647" y="53"/>
                      </a:lnTo>
                      <a:lnTo>
                        <a:pt x="645" y="67"/>
                      </a:lnTo>
                      <a:lnTo>
                        <a:pt x="645" y="78"/>
                      </a:lnTo>
                      <a:lnTo>
                        <a:pt x="643" y="93"/>
                      </a:lnTo>
                      <a:lnTo>
                        <a:pt x="642" y="107"/>
                      </a:lnTo>
                      <a:lnTo>
                        <a:pt x="640" y="120"/>
                      </a:lnTo>
                      <a:lnTo>
                        <a:pt x="638" y="133"/>
                      </a:lnTo>
                      <a:lnTo>
                        <a:pt x="634" y="148"/>
                      </a:lnTo>
                      <a:lnTo>
                        <a:pt x="631" y="160"/>
                      </a:lnTo>
                      <a:lnTo>
                        <a:pt x="628" y="171"/>
                      </a:lnTo>
                      <a:lnTo>
                        <a:pt x="625" y="182"/>
                      </a:lnTo>
                      <a:lnTo>
                        <a:pt x="623" y="194"/>
                      </a:lnTo>
                      <a:lnTo>
                        <a:pt x="619" y="206"/>
                      </a:lnTo>
                      <a:lnTo>
                        <a:pt x="615" y="219"/>
                      </a:lnTo>
                      <a:lnTo>
                        <a:pt x="610" y="232"/>
                      </a:lnTo>
                      <a:lnTo>
                        <a:pt x="608" y="241"/>
                      </a:lnTo>
                      <a:lnTo>
                        <a:pt x="604" y="253"/>
                      </a:lnTo>
                      <a:lnTo>
                        <a:pt x="599" y="266"/>
                      </a:lnTo>
                      <a:lnTo>
                        <a:pt x="593" y="279"/>
                      </a:lnTo>
                      <a:lnTo>
                        <a:pt x="586" y="298"/>
                      </a:lnTo>
                      <a:lnTo>
                        <a:pt x="578" y="313"/>
                      </a:lnTo>
                      <a:lnTo>
                        <a:pt x="570" y="330"/>
                      </a:lnTo>
                      <a:lnTo>
                        <a:pt x="561" y="347"/>
                      </a:lnTo>
                      <a:lnTo>
                        <a:pt x="551" y="365"/>
                      </a:lnTo>
                      <a:lnTo>
                        <a:pt x="542" y="378"/>
                      </a:lnTo>
                      <a:lnTo>
                        <a:pt x="533" y="393"/>
                      </a:lnTo>
                      <a:lnTo>
                        <a:pt x="522" y="408"/>
                      </a:lnTo>
                      <a:lnTo>
                        <a:pt x="512" y="424"/>
                      </a:lnTo>
                      <a:lnTo>
                        <a:pt x="498" y="441"/>
                      </a:lnTo>
                      <a:lnTo>
                        <a:pt x="487" y="457"/>
                      </a:lnTo>
                      <a:lnTo>
                        <a:pt x="473" y="473"/>
                      </a:lnTo>
                      <a:lnTo>
                        <a:pt x="458" y="490"/>
                      </a:lnTo>
                      <a:lnTo>
                        <a:pt x="443" y="503"/>
                      </a:lnTo>
                      <a:lnTo>
                        <a:pt x="429" y="517"/>
                      </a:lnTo>
                      <a:lnTo>
                        <a:pt x="417" y="529"/>
                      </a:lnTo>
                      <a:lnTo>
                        <a:pt x="404" y="541"/>
                      </a:lnTo>
                      <a:lnTo>
                        <a:pt x="387" y="554"/>
                      </a:lnTo>
                      <a:lnTo>
                        <a:pt x="373" y="565"/>
                      </a:lnTo>
                      <a:lnTo>
                        <a:pt x="359" y="577"/>
                      </a:lnTo>
                      <a:lnTo>
                        <a:pt x="343" y="590"/>
                      </a:lnTo>
                      <a:lnTo>
                        <a:pt x="327" y="600"/>
                      </a:lnTo>
                      <a:lnTo>
                        <a:pt x="311" y="611"/>
                      </a:lnTo>
                      <a:lnTo>
                        <a:pt x="293" y="623"/>
                      </a:lnTo>
                      <a:lnTo>
                        <a:pt x="276" y="633"/>
                      </a:lnTo>
                      <a:lnTo>
                        <a:pt x="256" y="644"/>
                      </a:lnTo>
                      <a:lnTo>
                        <a:pt x="237" y="653"/>
                      </a:lnTo>
                      <a:lnTo>
                        <a:pt x="218" y="661"/>
                      </a:lnTo>
                      <a:lnTo>
                        <a:pt x="200" y="670"/>
                      </a:lnTo>
                      <a:lnTo>
                        <a:pt x="177" y="677"/>
                      </a:lnTo>
                      <a:lnTo>
                        <a:pt x="158" y="685"/>
                      </a:lnTo>
                      <a:lnTo>
                        <a:pt x="136" y="692"/>
                      </a:lnTo>
                      <a:lnTo>
                        <a:pt x="120" y="644"/>
                      </a:lnTo>
                      <a:lnTo>
                        <a:pt x="0" y="806"/>
                      </a:lnTo>
                      <a:lnTo>
                        <a:pt x="200" y="869"/>
                      </a:lnTo>
                      <a:lnTo>
                        <a:pt x="184" y="826"/>
                      </a:lnTo>
                      <a:lnTo>
                        <a:pt x="208" y="816"/>
                      </a:lnTo>
                      <a:lnTo>
                        <a:pt x="232" y="809"/>
                      </a:lnTo>
                      <a:lnTo>
                        <a:pt x="254" y="799"/>
                      </a:lnTo>
                      <a:lnTo>
                        <a:pt x="275" y="790"/>
                      </a:lnTo>
                      <a:lnTo>
                        <a:pt x="293" y="781"/>
                      </a:lnTo>
                      <a:lnTo>
                        <a:pt x="311" y="772"/>
                      </a:lnTo>
                      <a:lnTo>
                        <a:pt x="331" y="762"/>
                      </a:lnTo>
                      <a:lnTo>
                        <a:pt x="349" y="754"/>
                      </a:lnTo>
                      <a:lnTo>
                        <a:pt x="366" y="743"/>
                      </a:lnTo>
                      <a:lnTo>
                        <a:pt x="384" y="733"/>
                      </a:lnTo>
                      <a:lnTo>
                        <a:pt x="406" y="719"/>
                      </a:lnTo>
                      <a:lnTo>
                        <a:pt x="423" y="708"/>
                      </a:lnTo>
                      <a:lnTo>
                        <a:pt x="438" y="696"/>
                      </a:lnTo>
                      <a:lnTo>
                        <a:pt x="455" y="685"/>
                      </a:lnTo>
                      <a:lnTo>
                        <a:pt x="473" y="671"/>
                      </a:lnTo>
                      <a:lnTo>
                        <a:pt x="490" y="656"/>
                      </a:lnTo>
                      <a:lnTo>
                        <a:pt x="505" y="643"/>
                      </a:lnTo>
                      <a:lnTo>
                        <a:pt x="520" y="630"/>
                      </a:lnTo>
                      <a:lnTo>
                        <a:pt x="536" y="613"/>
                      </a:lnTo>
                      <a:lnTo>
                        <a:pt x="551" y="598"/>
                      </a:lnTo>
                      <a:lnTo>
                        <a:pt x="567" y="584"/>
                      </a:lnTo>
                      <a:lnTo>
                        <a:pt x="580" y="568"/>
                      </a:lnTo>
                      <a:lnTo>
                        <a:pt x="592" y="555"/>
                      </a:lnTo>
                      <a:lnTo>
                        <a:pt x="605" y="539"/>
                      </a:lnTo>
                      <a:lnTo>
                        <a:pt x="617" y="524"/>
                      </a:lnTo>
                      <a:lnTo>
                        <a:pt x="630" y="507"/>
                      </a:lnTo>
                      <a:lnTo>
                        <a:pt x="644" y="490"/>
                      </a:lnTo>
                      <a:lnTo>
                        <a:pt x="653" y="473"/>
                      </a:lnTo>
                      <a:lnTo>
                        <a:pt x="664" y="455"/>
                      </a:lnTo>
                      <a:lnTo>
                        <a:pt x="675" y="440"/>
                      </a:lnTo>
                      <a:lnTo>
                        <a:pt x="684" y="423"/>
                      </a:lnTo>
                      <a:lnTo>
                        <a:pt x="692" y="409"/>
                      </a:lnTo>
                      <a:lnTo>
                        <a:pt x="702" y="390"/>
                      </a:lnTo>
                      <a:lnTo>
                        <a:pt x="711" y="371"/>
                      </a:lnTo>
                      <a:lnTo>
                        <a:pt x="718" y="355"/>
                      </a:lnTo>
                      <a:lnTo>
                        <a:pt x="725" y="337"/>
                      </a:lnTo>
                      <a:lnTo>
                        <a:pt x="733" y="320"/>
                      </a:lnTo>
                      <a:lnTo>
                        <a:pt x="741" y="300"/>
                      </a:lnTo>
                      <a:lnTo>
                        <a:pt x="747" y="283"/>
                      </a:lnTo>
                      <a:lnTo>
                        <a:pt x="753" y="264"/>
                      </a:lnTo>
                      <a:lnTo>
                        <a:pt x="761" y="246"/>
                      </a:lnTo>
                      <a:lnTo>
                        <a:pt x="766" y="229"/>
                      </a:lnTo>
                      <a:lnTo>
                        <a:pt x="769" y="213"/>
                      </a:lnTo>
                      <a:lnTo>
                        <a:pt x="773" y="203"/>
                      </a:lnTo>
                      <a:lnTo>
                        <a:pt x="776" y="190"/>
                      </a:lnTo>
                      <a:lnTo>
                        <a:pt x="778" y="181"/>
                      </a:lnTo>
                      <a:lnTo>
                        <a:pt x="780" y="172"/>
                      </a:lnTo>
                      <a:lnTo>
                        <a:pt x="782" y="163"/>
                      </a:lnTo>
                      <a:lnTo>
                        <a:pt x="781" y="153"/>
                      </a:lnTo>
                      <a:lnTo>
                        <a:pt x="784" y="141"/>
                      </a:lnTo>
                      <a:lnTo>
                        <a:pt x="786" y="131"/>
                      </a:lnTo>
                      <a:lnTo>
                        <a:pt x="787" y="121"/>
                      </a:lnTo>
                      <a:lnTo>
                        <a:pt x="789" y="111"/>
                      </a:lnTo>
                      <a:lnTo>
                        <a:pt x="791" y="99"/>
                      </a:lnTo>
                      <a:lnTo>
                        <a:pt x="791" y="87"/>
                      </a:lnTo>
                      <a:lnTo>
                        <a:pt x="794" y="75"/>
                      </a:lnTo>
                      <a:lnTo>
                        <a:pt x="793" y="66"/>
                      </a:lnTo>
                      <a:lnTo>
                        <a:pt x="795" y="56"/>
                      </a:lnTo>
                      <a:lnTo>
                        <a:pt x="795" y="45"/>
                      </a:lnTo>
                      <a:lnTo>
                        <a:pt x="795" y="34"/>
                      </a:lnTo>
                      <a:lnTo>
                        <a:pt x="795" y="24"/>
                      </a:lnTo>
                      <a:lnTo>
                        <a:pt x="796" y="15"/>
                      </a:lnTo>
                      <a:lnTo>
                        <a:pt x="796" y="5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3000" rIns="63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4834080" y="3656160"/>
              <a:ext cx="354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l ciclo “compito - artefatt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419720" y="50896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40000"/>
                </a:solidFill>
                <a:latin typeface="Arial"/>
              </a:rPr>
              <a:t>FORM FOLLOWS FAILU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53960" y="3257640"/>
            <a:ext cx="1874880" cy="1469520"/>
            <a:chOff x="1353960" y="3257640"/>
            <a:chExt cx="1874880" cy="1469520"/>
          </a:xfrm>
        </p:grpSpPr>
        <p:sp>
          <p:nvSpPr>
            <p:cNvPr id="123" name=""/>
            <p:cNvSpPr/>
            <p:nvPr/>
          </p:nvSpPr>
          <p:spPr>
            <a:xfrm>
              <a:off x="1353960" y="3257640"/>
              <a:ext cx="1874880" cy="521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cessit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53960" y="4205880"/>
              <a:ext cx="1874880" cy="521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tefat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91040" y="3778920"/>
              <a:ext cx="0" cy="426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28600" y="5068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40000"/>
                </a:solidFill>
                <a:latin typeface="Arial"/>
              </a:rPr>
              <a:t>FORM FOLLOWS FUNC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05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isione sta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05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isione evolu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0554" t="35237" r="7609" b="43544"/>
          <a:stretch/>
        </p:blipFill>
        <p:spPr>
          <a:xfrm>
            <a:off x="762120" y="3276720"/>
            <a:ext cx="8076960" cy="3190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120" y="838080"/>
            <a:ext cx="739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si introduce un nuovo strumento, si verifica una co-evoluzione fra lo strumento ed il suo utente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C.Engel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 corollario importan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è possibile, se non nei casi più semplici, specificare completamente le funzioni di un sistema comples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la sua realizzazio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l sistema cambierà i comportamenti dell’utente, e questi richiederanno modifiche al sistem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ciclo di vita del del software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e sta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5720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ettualmente sbagliato: nessun artefatto di successo può nascere cos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2286000"/>
            <a:ext cx="7467480" cy="3429000"/>
            <a:chOff x="914400" y="2286000"/>
            <a:chExt cx="7467480" cy="3429000"/>
          </a:xfrm>
        </p:grpSpPr>
        <p:grpSp>
          <p:nvGrpSpPr>
            <p:cNvPr id="137" name=""/>
            <p:cNvGrpSpPr/>
            <p:nvPr/>
          </p:nvGrpSpPr>
          <p:grpSpPr>
            <a:xfrm>
              <a:off x="914400" y="2286000"/>
              <a:ext cx="7467480" cy="3429000"/>
              <a:chOff x="914400" y="2286000"/>
              <a:chExt cx="7467480" cy="3429000"/>
            </a:xfrm>
          </p:grpSpPr>
          <p:sp>
            <p:nvSpPr>
              <p:cNvPr id="138" name=""/>
              <p:cNvSpPr/>
              <p:nvPr/>
            </p:nvSpPr>
            <p:spPr>
              <a:xfrm>
                <a:off x="1828800" y="2666880"/>
                <a:ext cx="5638680" cy="266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14400" y="2286000"/>
                <a:ext cx="175248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equisit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00400" y="3505320"/>
                <a:ext cx="175248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esig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33720" y="2895480"/>
                <a:ext cx="175248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Funzio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43400" y="4114800"/>
                <a:ext cx="175248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vilup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8680" y="4724280"/>
                <a:ext cx="175284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Te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29400" y="5334120"/>
                <a:ext cx="175248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Rilas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572000" y="243828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it-IT" sz="2800" spc="-1" strike="noStrike">
                  <a:solidFill>
                    <a:srgbClr val="ff0000"/>
                  </a:solidFill>
                  <a:latin typeface="Arial"/>
                </a:rPr>
                <a:t>Waterfall model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ciclo di vita del del software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e dinam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90920" y="2133720"/>
            <a:ext cx="6172200" cy="3200400"/>
            <a:chOff x="2590920" y="2133720"/>
            <a:chExt cx="6172200" cy="3200400"/>
          </a:xfrm>
        </p:grpSpPr>
        <p:grpSp>
          <p:nvGrpSpPr>
            <p:cNvPr id="148" name=""/>
            <p:cNvGrpSpPr/>
            <p:nvPr/>
          </p:nvGrpSpPr>
          <p:grpSpPr>
            <a:xfrm>
              <a:off x="2590920" y="2133720"/>
              <a:ext cx="3886200" cy="3200400"/>
              <a:chOff x="2590920" y="2133720"/>
              <a:chExt cx="3886200" cy="32004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590920" y="2133720"/>
                <a:ext cx="3886200" cy="3200400"/>
                <a:chOff x="2590920" y="2133720"/>
                <a:chExt cx="3886200" cy="32004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156120" y="2621160"/>
                  <a:ext cx="2755800" cy="2712960"/>
                </a:xfrm>
                <a:prstGeom prst="ellipse">
                  <a:avLst/>
                </a:prstGeom>
                <a:noFill/>
                <a:ln w="127080">
                  <a:solidFill>
                    <a:srgbClr val="e4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4081680"/>
                  <a:ext cx="1271880" cy="12524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Prototyp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600" y="4081680"/>
                  <a:ext cx="1271520" cy="12524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934080" y="2133720"/>
                  <a:ext cx="1271520" cy="12528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Desig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rot="10281600">
                <a:off x="3014640" y="3942000"/>
                <a:ext cx="282600" cy="279360"/>
              </a:xfrm>
              <a:prstGeom prst="triangle">
                <a:avLst>
                  <a:gd name="adj" fmla="val 50000"/>
                </a:avLst>
              </a:prstGeom>
              <a:solidFill>
                <a:srgbClr val="e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3529200">
                <a:off x="5207760" y="4914360"/>
                <a:ext cx="277560" cy="282600"/>
              </a:xfrm>
              <a:prstGeom prst="triangle">
                <a:avLst>
                  <a:gd name="adj" fmla="val 50000"/>
                </a:avLst>
              </a:prstGeom>
              <a:solidFill>
                <a:srgbClr val="e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8454200">
                <a:off x="5066640" y="2618640"/>
                <a:ext cx="277920" cy="282600"/>
              </a:xfrm>
              <a:prstGeom prst="triangle">
                <a:avLst>
                  <a:gd name="adj" fmla="val 50000"/>
                </a:avLst>
              </a:prstGeom>
              <a:solidFill>
                <a:srgbClr val="e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248520" y="213372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Sviluppo per prototipi successi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14400" y="5943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ettualmente corr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gettazione di un si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1219320"/>
            <a:ext cx="3886200" cy="5104800"/>
            <a:chOff x="1295280" y="1219320"/>
            <a:chExt cx="3886200" cy="5104800"/>
          </a:xfrm>
        </p:grpSpPr>
        <p:sp>
          <p:nvSpPr>
            <p:cNvPr id="161" name=""/>
            <p:cNvSpPr/>
            <p:nvPr/>
          </p:nvSpPr>
          <p:spPr>
            <a:xfrm>
              <a:off x="1860480" y="3611520"/>
              <a:ext cx="2755800" cy="2712600"/>
            </a:xfrm>
            <a:prstGeom prst="ellipse">
              <a:avLst/>
            </a:prstGeom>
            <a:noFill/>
            <a:ln w="12708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507204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to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09960" y="507204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38440" y="312408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0281600">
              <a:off x="1718640" y="4932000"/>
              <a:ext cx="282600" cy="2790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3529200">
              <a:off x="3912120" y="5904360"/>
              <a:ext cx="277560" cy="2826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454200">
              <a:off x="3771000" y="3608640"/>
              <a:ext cx="277200" cy="2826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66880" y="1219320"/>
              <a:ext cx="1219320" cy="1218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go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2438280"/>
              <a:ext cx="0" cy="685440"/>
            </a:xfrm>
            <a:prstGeom prst="line">
              <a:avLst/>
            </a:prstGeom>
            <a:ln w="12708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46200">
              <a:off x="3151080" y="2971440"/>
              <a:ext cx="277920" cy="28224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819520" y="1219320"/>
            <a:ext cx="5790960" cy="4114800"/>
            <a:chOff x="2819520" y="1219320"/>
            <a:chExt cx="5790960" cy="4114800"/>
          </a:xfrm>
        </p:grpSpPr>
        <p:sp>
          <p:nvSpPr>
            <p:cNvPr id="172" name=""/>
            <p:cNvSpPr/>
            <p:nvPr/>
          </p:nvSpPr>
          <p:spPr>
            <a:xfrm>
              <a:off x="4952880" y="1676520"/>
              <a:ext cx="3657600" cy="3657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Quali obbietti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Quali contenu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Quali uten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Quali compi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Quale cont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oncept graf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6720" y="1219320"/>
              <a:ext cx="35812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19520" y="2209680"/>
              <a:ext cx="266688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295280" y="1219320"/>
            <a:ext cx="3886200" cy="5104800"/>
            <a:chOff x="1295280" y="1219320"/>
            <a:chExt cx="3886200" cy="5104800"/>
          </a:xfrm>
        </p:grpSpPr>
        <p:sp>
          <p:nvSpPr>
            <p:cNvPr id="176" name=""/>
            <p:cNvSpPr/>
            <p:nvPr/>
          </p:nvSpPr>
          <p:spPr>
            <a:xfrm>
              <a:off x="1860480" y="3611520"/>
              <a:ext cx="2755800" cy="2712600"/>
            </a:xfrm>
            <a:prstGeom prst="ellipse">
              <a:avLst/>
            </a:prstGeom>
            <a:noFill/>
            <a:ln w="12708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507204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to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9960" y="507204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38440" y="312408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281600">
              <a:off x="1718640" y="4932000"/>
              <a:ext cx="282600" cy="2790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529200">
              <a:off x="3912120" y="5904360"/>
              <a:ext cx="277560" cy="2826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8454200">
              <a:off x="3771000" y="3608640"/>
              <a:ext cx="277200" cy="2826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6880" y="1219320"/>
              <a:ext cx="1219320" cy="1218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go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360" y="2438280"/>
              <a:ext cx="0" cy="685440"/>
            </a:xfrm>
            <a:prstGeom prst="line">
              <a:avLst/>
            </a:prstGeom>
            <a:ln w="12708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46200">
              <a:off x="3151080" y="2971440"/>
              <a:ext cx="277920" cy="28224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71800" y="1676520"/>
            <a:ext cx="5638680" cy="3657600"/>
            <a:chOff x="2971800" y="1676520"/>
            <a:chExt cx="5638680" cy="3657600"/>
          </a:xfrm>
        </p:grpSpPr>
        <p:sp>
          <p:nvSpPr>
            <p:cNvPr id="187" name=""/>
            <p:cNvSpPr/>
            <p:nvPr/>
          </p:nvSpPr>
          <p:spPr>
            <a:xfrm>
              <a:off x="4952880" y="1676520"/>
              <a:ext cx="3657600" cy="3657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truttura del s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Graf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cenari ut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nterazio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4080" y="4343400"/>
              <a:ext cx="32004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971800" y="1828800"/>
              <a:ext cx="304812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gettazione di un si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7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880" y="1501560"/>
            <a:ext cx="79423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. Progettazione centrata sull’u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 Come si progetta un sito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 Paper prot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4. Evoluzione dei siti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Struttura" descr=""/>
          <p:cNvPicPr/>
          <p:nvPr/>
        </p:nvPicPr>
        <p:blipFill>
          <a:blip r:embed="rId1"/>
          <a:srcRect l="0" t="9737" r="0" b="0"/>
          <a:stretch/>
        </p:blipFill>
        <p:spPr>
          <a:xfrm>
            <a:off x="533520" y="1143000"/>
            <a:ext cx="8096040" cy="5295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truttura del sito: esem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Layout1" descr=""/>
          <p:cNvPicPr/>
          <p:nvPr/>
        </p:nvPicPr>
        <p:blipFill>
          <a:blip r:embed="rId1"/>
          <a:srcRect l="0" t="15959" r="0" b="0"/>
          <a:stretch/>
        </p:blipFill>
        <p:spPr>
          <a:xfrm>
            <a:off x="523800" y="1447920"/>
            <a:ext cx="8096400" cy="4890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rafica: esempio (home p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Layout2" descr=""/>
          <p:cNvPicPr/>
          <p:nvPr/>
        </p:nvPicPr>
        <p:blipFill>
          <a:blip r:embed="rId1"/>
          <a:srcRect l="0" t="10559" r="0" b="0"/>
          <a:stretch/>
        </p:blipFill>
        <p:spPr>
          <a:xfrm>
            <a:off x="304920" y="1219320"/>
            <a:ext cx="8096040" cy="5162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rafica: esempio (secondo live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Layout3" descr=""/>
          <p:cNvPicPr/>
          <p:nvPr/>
        </p:nvPicPr>
        <p:blipFill>
          <a:blip r:embed="rId1"/>
          <a:srcRect l="0" t="16889" r="0" b="0"/>
          <a:stretch/>
        </p:blipFill>
        <p:spPr>
          <a:xfrm>
            <a:off x="523800" y="1523880"/>
            <a:ext cx="8096400" cy="4781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rafica: esempio (secondo live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Layout4" descr=""/>
          <p:cNvPicPr/>
          <p:nvPr/>
        </p:nvPicPr>
        <p:blipFill>
          <a:blip r:embed="rId1"/>
          <a:srcRect l="0" t="10679" r="0" b="0"/>
          <a:stretch/>
        </p:blipFill>
        <p:spPr>
          <a:xfrm>
            <a:off x="523800" y="1219320"/>
            <a:ext cx="8096400" cy="5019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rafica: esempio (terzo live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layout5" descr=""/>
          <p:cNvPicPr/>
          <p:nvPr/>
        </p:nvPicPr>
        <p:blipFill>
          <a:blip r:embed="rId1"/>
          <a:srcRect l="0" t="9321" r="0" b="0"/>
          <a:stretch/>
        </p:blipFill>
        <p:spPr>
          <a:xfrm>
            <a:off x="523800" y="1143000"/>
            <a:ext cx="80964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rafica: esempio (artisti e disch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Navigaz" descr=""/>
          <p:cNvPicPr/>
          <p:nvPr/>
        </p:nvPicPr>
        <p:blipFill>
          <a:blip r:embed="rId1"/>
          <a:srcRect l="0" t="9042" r="0" b="7681"/>
          <a:stretch/>
        </p:blipFill>
        <p:spPr>
          <a:xfrm>
            <a:off x="152280" y="1523880"/>
            <a:ext cx="8686800" cy="4988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enari utente: esem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295280" y="1219320"/>
            <a:ext cx="3886200" cy="5104800"/>
            <a:chOff x="1295280" y="1219320"/>
            <a:chExt cx="3886200" cy="5104800"/>
          </a:xfrm>
        </p:grpSpPr>
        <p:sp>
          <p:nvSpPr>
            <p:cNvPr id="206" name=""/>
            <p:cNvSpPr/>
            <p:nvPr/>
          </p:nvSpPr>
          <p:spPr>
            <a:xfrm>
              <a:off x="1860480" y="3611520"/>
              <a:ext cx="2755800" cy="2712600"/>
            </a:xfrm>
            <a:prstGeom prst="ellipse">
              <a:avLst/>
            </a:prstGeom>
            <a:noFill/>
            <a:ln w="12708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95280" y="507204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to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9960" y="507204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38440" y="312408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281600">
              <a:off x="1718640" y="4932000"/>
              <a:ext cx="282600" cy="2790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3529200">
              <a:off x="3912120" y="5904360"/>
              <a:ext cx="277560" cy="2826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454200">
              <a:off x="3771000" y="3608640"/>
              <a:ext cx="277200" cy="2826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66880" y="1219320"/>
              <a:ext cx="1219320" cy="1218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go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76360" y="2438280"/>
              <a:ext cx="0" cy="685440"/>
            </a:xfrm>
            <a:prstGeom prst="line">
              <a:avLst/>
            </a:prstGeom>
            <a:ln w="12708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46200">
              <a:off x="3151080" y="2971440"/>
              <a:ext cx="277920" cy="28224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gettazione di un si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676520" y="1676520"/>
            <a:ext cx="6933960" cy="4647600"/>
            <a:chOff x="1676520" y="1676520"/>
            <a:chExt cx="6933960" cy="4647600"/>
          </a:xfrm>
        </p:grpSpPr>
        <p:sp>
          <p:nvSpPr>
            <p:cNvPr id="218" name=""/>
            <p:cNvSpPr/>
            <p:nvPr/>
          </p:nvSpPr>
          <p:spPr>
            <a:xfrm>
              <a:off x="4952880" y="1676520"/>
              <a:ext cx="3657600" cy="3657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O-FI prototy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HI-FI prototy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676520" y="2057040"/>
              <a:ext cx="3962160" cy="304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905120" y="5333760"/>
              <a:ext cx="510516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deltà nei prototip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77600" y="1655280"/>
            <a:ext cx="798516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  Alta fedeltà (HI-FI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l prototipo “assomiglia” in tutti gli aspetti al prodott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  Bassa fedeltà (LO-FI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l prototipo “assomiglia” alla lontana al prodotto finale, con molti dettagli mancanti (es.: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paper prototy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o di prototyping tools per il web: un’indag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5782" t="25004" r="20315" b="38544"/>
          <a:stretch/>
        </p:blipFill>
        <p:spPr>
          <a:xfrm>
            <a:off x="228600" y="1676520"/>
            <a:ext cx="8686800" cy="4633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09480" y="63244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guuui.com/issues/01_03_02.asp (settembre 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00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6840" y="990720"/>
            <a:ext cx="7304040" cy="4876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gettazione centrata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ull’uten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295280" y="1219320"/>
            <a:ext cx="3886200" cy="5104800"/>
            <a:chOff x="1295280" y="1219320"/>
            <a:chExt cx="3886200" cy="5104800"/>
          </a:xfrm>
        </p:grpSpPr>
        <p:sp>
          <p:nvSpPr>
            <p:cNvPr id="227" name=""/>
            <p:cNvSpPr/>
            <p:nvPr/>
          </p:nvSpPr>
          <p:spPr>
            <a:xfrm>
              <a:off x="1860480" y="3611520"/>
              <a:ext cx="2755800" cy="2712600"/>
            </a:xfrm>
            <a:prstGeom prst="ellipse">
              <a:avLst/>
            </a:prstGeom>
            <a:noFill/>
            <a:ln w="12708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07204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to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9960" y="507204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38440" y="3124080"/>
              <a:ext cx="1271520" cy="12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281600">
              <a:off x="1718640" y="4932000"/>
              <a:ext cx="282600" cy="2790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3529200">
              <a:off x="3912120" y="5904360"/>
              <a:ext cx="277560" cy="2826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8454200">
              <a:off x="3771000" y="3608640"/>
              <a:ext cx="277200" cy="28260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6880" y="1219320"/>
              <a:ext cx="1219320" cy="1218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go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76360" y="2438280"/>
              <a:ext cx="0" cy="685440"/>
            </a:xfrm>
            <a:prstGeom prst="line">
              <a:avLst/>
            </a:prstGeom>
            <a:ln w="12708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846200">
              <a:off x="3151080" y="2971440"/>
              <a:ext cx="277920" cy="282240"/>
            </a:xfrm>
            <a:prstGeom prst="triangle">
              <a:avLst>
                <a:gd name="adj" fmla="val 50000"/>
              </a:avLst>
            </a:prstGeom>
            <a:solidFill>
              <a:srgbClr val="e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gettazione di un si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962520" y="1676520"/>
            <a:ext cx="4647960" cy="4572000"/>
            <a:chOff x="3962520" y="1676520"/>
            <a:chExt cx="4647960" cy="4572000"/>
          </a:xfrm>
        </p:grpSpPr>
        <p:sp>
          <p:nvSpPr>
            <p:cNvPr id="239" name=""/>
            <p:cNvSpPr/>
            <p:nvPr/>
          </p:nvSpPr>
          <p:spPr>
            <a:xfrm>
              <a:off x="4952880" y="1676520"/>
              <a:ext cx="3657600" cy="3657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st funzion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st di usabilit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ontrollo dei </a:t>
              </a:r>
              <a:br>
                <a:rPr sz="2400"/>
              </a:b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contenu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962520" y="2590560"/>
              <a:ext cx="1218960" cy="28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800600" y="5181480"/>
              <a:ext cx="274320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est funz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Che cosa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sercizio </a:t>
            </a:r>
            <a:r>
              <a:rPr b="0" i="1" lang="it-IT" sz="2800" spc="-1" strike="noStrike">
                <a:solidFill>
                  <a:srgbClr val="808080"/>
                </a:solidFill>
                <a:latin typeface="Arial"/>
              </a:rPr>
              <a:t>sistematic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tutte le funzioni presenti nel sito </a:t>
            </a:r>
            <a:br>
              <a:rPr sz="28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links e forms in tutte le condizioni, comprese quelle di err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Chi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viluppatori del sito (eventualmente con il committente in fase di accettazi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Come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 possono utilizzare check-list strutturate, e tools appositi (ad es. per la scoperta di link aper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Quando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urante lo sviluppo, e prima del primo rilas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est di usabilit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Che cosa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utilizzo del sito in scenari d’uso predefin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Chi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utenti camp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Come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vedi lezione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Quando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quando opportuno, durante lo sviluppo per prototipi successivi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anche all’inizio: 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paper sketch &amp; simulatio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ontrollo dei contenut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Che cosa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verifica dei contenuti (correttezza, adeguatezza, st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Chi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responsabile dei 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Come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lettura delle pagin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0000"/>
                </a:solidFill>
                <a:latin typeface="Arial"/>
              </a:rPr>
              <a:t>Quando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rima del rilas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00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58000" cy="4876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aper prototyp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he cos’è un prototip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modello approssimato o parziale del sistema che vogliamo sviluppare, realizzato allo scopo di valutarne le caratter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 permette di condurre dei test prima di avere il prodotto fin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Auto-Prototye01" descr=""/>
          <p:cNvPicPr/>
          <p:nvPr/>
        </p:nvPicPr>
        <p:blipFill>
          <a:blip r:embed="rId1"/>
          <a:srcRect l="0" t="25626" r="0" b="6053"/>
          <a:stretch/>
        </p:blipFill>
        <p:spPr>
          <a:xfrm>
            <a:off x="2362320" y="4419720"/>
            <a:ext cx="4572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hè creare prototipi di un sito web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avere un feedback anticipato da parte degli utenti, per correggere il desig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scrivere il co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sperimentare design altern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amente e a costi 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Paper prototyp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ito viene prototipato sulla carta, e il suo funzionamento viene simulato a mano, per condurre rapidamente test di us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Esem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user testing della hom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user testing della struttura del 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user testing di funzioni specif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apertest" descr="Usability lab set up for paper prototype testing: oversized color printout of homepage placed on desk, within an area marked by masking tape."/>
          <p:cNvPicPr/>
          <p:nvPr/>
        </p:nvPicPr>
        <p:blipFill>
          <a:blip r:embed="rId1"/>
          <a:srcRect l="0" t="0" r="0" b="1548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3520" y="1522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empio: usability enquiry di una hom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2209680"/>
            <a:ext cx="3352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alizzazione della home page di Sun, (Jakob Nielsen,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agea" descr=""/>
          <p:cNvPicPr/>
          <p:nvPr/>
        </p:nvPicPr>
        <p:blipFill>
          <a:blip r:embed="rId1"/>
          <a:stretch/>
        </p:blipFill>
        <p:spPr>
          <a:xfrm>
            <a:off x="1387440" y="109440"/>
            <a:ext cx="6232680" cy="667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8077320" y="59436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ettazione centrata sull’uten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ser Centered Design, UC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66680" y="1903320"/>
            <a:ext cx="4346280" cy="4346640"/>
            <a:chOff x="1066680" y="1903320"/>
            <a:chExt cx="4346280" cy="4346640"/>
          </a:xfrm>
        </p:grpSpPr>
        <p:grpSp>
          <p:nvGrpSpPr>
            <p:cNvPr id="58" name=""/>
            <p:cNvGrpSpPr/>
            <p:nvPr/>
          </p:nvGrpSpPr>
          <p:grpSpPr>
            <a:xfrm>
              <a:off x="1066680" y="1903320"/>
              <a:ext cx="4346280" cy="4346640"/>
              <a:chOff x="1066680" y="1903320"/>
              <a:chExt cx="4346280" cy="43466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1066680" y="1903320"/>
                <a:ext cx="4346280" cy="4346640"/>
                <a:chOff x="1066680" y="1903320"/>
                <a:chExt cx="4346280" cy="434664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1066680" y="1903320"/>
                  <a:ext cx="4346280" cy="4346640"/>
                  <a:chOff x="1066680" y="1903320"/>
                  <a:chExt cx="4346280" cy="4346640"/>
                </a:xfrm>
              </p:grpSpPr>
              <p:grpSp>
                <p:nvGrpSpPr>
                  <p:cNvPr id="61" name=""/>
                  <p:cNvGrpSpPr/>
                  <p:nvPr/>
                </p:nvGrpSpPr>
                <p:grpSpPr>
                  <a:xfrm>
                    <a:off x="1066680" y="1903320"/>
                    <a:ext cx="4346280" cy="4346640"/>
                    <a:chOff x="1066680" y="1903320"/>
                    <a:chExt cx="4346280" cy="4346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1066680" y="1903320"/>
                      <a:ext cx="4346280" cy="43466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1526760" y="2341440"/>
                      <a:ext cx="3422880" cy="345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" name=""/>
                  <p:cNvSpPr/>
                  <p:nvPr/>
                </p:nvSpPr>
                <p:spPr>
                  <a:xfrm>
                    <a:off x="1989000" y="2809800"/>
                    <a:ext cx="2496960" cy="25178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444400" y="3270240"/>
                  <a:ext cx="1587600" cy="1596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04840" y="3730680"/>
                <a:ext cx="666720" cy="676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516040" y="1981080"/>
              <a:ext cx="214344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5792760" y="1828800"/>
            <a:ext cx="2741760" cy="2057400"/>
          </a:xfrm>
          <a:prstGeom prst="wedgeRoundRectCallout">
            <a:avLst>
              <a:gd name="adj1" fmla="val -118384"/>
              <a:gd name="adj2" fmla="val 5987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tere l’ute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centr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 processo d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ttazio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ageb" descr=""/>
          <p:cNvPicPr/>
          <p:nvPr/>
        </p:nvPicPr>
        <p:blipFill>
          <a:blip r:embed="rId1"/>
          <a:stretch/>
        </p:blipFill>
        <p:spPr>
          <a:xfrm>
            <a:off x="1257480" y="39600"/>
            <a:ext cx="6629400" cy="677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8077320" y="59436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agec" descr=""/>
          <p:cNvPicPr/>
          <p:nvPr/>
        </p:nvPicPr>
        <p:blipFill>
          <a:blip r:embed="rId1"/>
          <a:stretch/>
        </p:blipFill>
        <p:spPr>
          <a:xfrm>
            <a:off x="1257480" y="138240"/>
            <a:ext cx="6629400" cy="658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077320" y="59436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aged" descr=""/>
          <p:cNvPicPr/>
          <p:nvPr/>
        </p:nvPicPr>
        <p:blipFill>
          <a:blip r:embed="rId1"/>
          <a:stretch/>
        </p:blipFill>
        <p:spPr>
          <a:xfrm>
            <a:off x="1257480" y="160200"/>
            <a:ext cx="6629400" cy="653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8" name=""/>
          <p:cNvSpPr/>
          <p:nvPr/>
        </p:nvSpPr>
        <p:spPr>
          <a:xfrm>
            <a:off x="8077320" y="59436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agee" descr=""/>
          <p:cNvPicPr/>
          <p:nvPr/>
        </p:nvPicPr>
        <p:blipFill>
          <a:blip r:embed="rId1"/>
          <a:stretch/>
        </p:blipFill>
        <p:spPr>
          <a:xfrm>
            <a:off x="1257480" y="160200"/>
            <a:ext cx="6629400" cy="653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0" name=""/>
          <p:cNvSpPr/>
          <p:nvPr/>
        </p:nvSpPr>
        <p:spPr>
          <a:xfrm>
            <a:off x="8077320" y="59436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agef" descr=""/>
          <p:cNvPicPr/>
          <p:nvPr/>
        </p:nvPicPr>
        <p:blipFill>
          <a:blip r:embed="rId1"/>
          <a:stretch/>
        </p:blipFill>
        <p:spPr>
          <a:xfrm>
            <a:off x="1257480" y="138240"/>
            <a:ext cx="6629400" cy="658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"/>
          <p:cNvSpPr/>
          <p:nvPr/>
        </p:nvSpPr>
        <p:spPr>
          <a:xfrm>
            <a:off x="8077320" y="59436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ageg" descr=""/>
          <p:cNvPicPr/>
          <p:nvPr/>
        </p:nvPicPr>
        <p:blipFill>
          <a:blip r:embed="rId1"/>
          <a:stretch/>
        </p:blipFill>
        <p:spPr>
          <a:xfrm>
            <a:off x="1257480" y="138240"/>
            <a:ext cx="6629400" cy="658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8077320" y="59436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ageh" descr=""/>
          <p:cNvPicPr/>
          <p:nvPr/>
        </p:nvPicPr>
        <p:blipFill>
          <a:blip r:embed="rId1"/>
          <a:stretch/>
        </p:blipFill>
        <p:spPr>
          <a:xfrm>
            <a:off x="1257480" y="138240"/>
            <a:ext cx="6629400" cy="658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8077320" y="59436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agei" descr=""/>
          <p:cNvPicPr/>
          <p:nvPr/>
        </p:nvPicPr>
        <p:blipFill>
          <a:blip r:embed="rId1"/>
          <a:stretch/>
        </p:blipFill>
        <p:spPr>
          <a:xfrm>
            <a:off x="1257480" y="138240"/>
            <a:ext cx="6629400" cy="658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8" name=""/>
          <p:cNvSpPr/>
          <p:nvPr/>
        </p:nvSpPr>
        <p:spPr>
          <a:xfrm>
            <a:off x="8077320" y="59436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homepages" descr="Miniatures of nine home page designs"/>
          <p:cNvPicPr/>
          <p:nvPr/>
        </p:nvPicPr>
        <p:blipFill>
          <a:blip r:embed="rId1"/>
          <a:stretch/>
        </p:blipFill>
        <p:spPr>
          <a:xfrm>
            <a:off x="1295280" y="152280"/>
            <a:ext cx="64627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783" t="10840" r="21876" b="1887"/>
          <a:stretch/>
        </p:blipFill>
        <p:spPr>
          <a:xfrm>
            <a:off x="228600" y="152280"/>
            <a:ext cx="8305920" cy="6543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477120" y="5791320"/>
            <a:ext cx="25146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8 anni dopo…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aprile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ettazione centrata sull’uten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 domande a cui rispond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ut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ono i compiti che deve svolg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 è il contesto d’u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38080" y="12193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cuni scenari d’uso vengono simulati manualmente, alla presenza di utenti-cavi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04920" y="2459160"/>
            <a:ext cx="8458200" cy="4856040"/>
            <a:chOff x="304920" y="2459160"/>
            <a:chExt cx="8458200" cy="4856040"/>
          </a:xfrm>
        </p:grpSpPr>
        <p:sp>
          <p:nvSpPr>
            <p:cNvPr id="284" name=""/>
            <p:cNvSpPr/>
            <p:nvPr/>
          </p:nvSpPr>
          <p:spPr>
            <a:xfrm>
              <a:off x="762120" y="2459160"/>
              <a:ext cx="7619760" cy="2189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04920" y="2598840"/>
              <a:ext cx="8458200" cy="4716360"/>
              <a:chOff x="304920" y="2598840"/>
              <a:chExt cx="8458200" cy="4716360"/>
            </a:xfrm>
          </p:grpSpPr>
          <p:pic>
            <p:nvPicPr>
              <p:cNvPr id="286" name="Layout1" descr=""/>
              <p:cNvPicPr/>
              <p:nvPr/>
            </p:nvPicPr>
            <p:blipFill>
              <a:blip r:embed="rId1"/>
              <a:srcRect l="26474" t="26432" r="28355" b="26432"/>
              <a:stretch/>
            </p:blipFill>
            <p:spPr>
              <a:xfrm>
                <a:off x="3886200" y="2827440"/>
                <a:ext cx="1544760" cy="13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4952880" y="2598840"/>
                <a:ext cx="2465640" cy="4716360"/>
              </a:xfrm>
              <a:custGeom>
                <a:avLst/>
                <a:gdLst/>
                <a:ahLst/>
                <a:rect l="l" t="t" r="r" b="b"/>
                <a:pathLst>
                  <a:path w="1553" h="2971">
                    <a:moveTo>
                      <a:pt x="1058" y="755"/>
                    </a:moveTo>
                    <a:cubicBezTo>
                      <a:pt x="1060" y="738"/>
                      <a:pt x="1072" y="629"/>
                      <a:pt x="1088" y="613"/>
                    </a:cubicBezTo>
                    <a:cubicBezTo>
                      <a:pt x="1099" y="602"/>
                      <a:pt x="1140" y="595"/>
                      <a:pt x="1155" y="591"/>
                    </a:cubicBezTo>
                    <a:cubicBezTo>
                      <a:pt x="1184" y="546"/>
                      <a:pt x="1153" y="587"/>
                      <a:pt x="1192" y="553"/>
                    </a:cubicBezTo>
                    <a:cubicBezTo>
                      <a:pt x="1208" y="539"/>
                      <a:pt x="1237" y="509"/>
                      <a:pt x="1237" y="509"/>
                    </a:cubicBezTo>
                    <a:cubicBezTo>
                      <a:pt x="1263" y="434"/>
                      <a:pt x="1251" y="345"/>
                      <a:pt x="1245" y="269"/>
                    </a:cubicBezTo>
                    <a:cubicBezTo>
                      <a:pt x="1234" y="127"/>
                      <a:pt x="1149" y="32"/>
                      <a:pt x="1013" y="0"/>
                    </a:cubicBezTo>
                    <a:cubicBezTo>
                      <a:pt x="857" y="9"/>
                      <a:pt x="914" y="4"/>
                      <a:pt x="811" y="37"/>
                    </a:cubicBezTo>
                    <a:cubicBezTo>
                      <a:pt x="757" y="91"/>
                      <a:pt x="773" y="70"/>
                      <a:pt x="721" y="105"/>
                    </a:cubicBezTo>
                    <a:cubicBezTo>
                      <a:pt x="697" y="140"/>
                      <a:pt x="708" y="119"/>
                      <a:pt x="691" y="172"/>
                    </a:cubicBezTo>
                    <a:cubicBezTo>
                      <a:pt x="689" y="179"/>
                      <a:pt x="684" y="194"/>
                      <a:pt x="684" y="194"/>
                    </a:cubicBezTo>
                    <a:cubicBezTo>
                      <a:pt x="672" y="275"/>
                      <a:pt x="659" y="349"/>
                      <a:pt x="631" y="426"/>
                    </a:cubicBezTo>
                    <a:cubicBezTo>
                      <a:pt x="656" y="443"/>
                      <a:pt x="662" y="462"/>
                      <a:pt x="691" y="471"/>
                    </a:cubicBezTo>
                    <a:cubicBezTo>
                      <a:pt x="701" y="499"/>
                      <a:pt x="714" y="517"/>
                      <a:pt x="721" y="546"/>
                    </a:cubicBezTo>
                    <a:cubicBezTo>
                      <a:pt x="719" y="610"/>
                      <a:pt x="744" y="817"/>
                      <a:pt x="669" y="868"/>
                    </a:cubicBezTo>
                    <a:cubicBezTo>
                      <a:pt x="646" y="931"/>
                      <a:pt x="679" y="845"/>
                      <a:pt x="646" y="913"/>
                    </a:cubicBezTo>
                    <a:cubicBezTo>
                      <a:pt x="631" y="943"/>
                      <a:pt x="629" y="988"/>
                      <a:pt x="601" y="1010"/>
                    </a:cubicBezTo>
                    <a:cubicBezTo>
                      <a:pt x="587" y="1021"/>
                      <a:pt x="566" y="1020"/>
                      <a:pt x="549" y="1025"/>
                    </a:cubicBezTo>
                    <a:cubicBezTo>
                      <a:pt x="519" y="1022"/>
                      <a:pt x="489" y="1021"/>
                      <a:pt x="459" y="1017"/>
                    </a:cubicBezTo>
                    <a:cubicBezTo>
                      <a:pt x="432" y="1013"/>
                      <a:pt x="408" y="991"/>
                      <a:pt x="384" y="980"/>
                    </a:cubicBezTo>
                    <a:cubicBezTo>
                      <a:pt x="353" y="966"/>
                      <a:pt x="319" y="953"/>
                      <a:pt x="287" y="942"/>
                    </a:cubicBezTo>
                    <a:cubicBezTo>
                      <a:pt x="252" y="907"/>
                      <a:pt x="271" y="929"/>
                      <a:pt x="235" y="875"/>
                    </a:cubicBezTo>
                    <a:cubicBezTo>
                      <a:pt x="231" y="868"/>
                      <a:pt x="220" y="871"/>
                      <a:pt x="212" y="868"/>
                    </a:cubicBezTo>
                    <a:cubicBezTo>
                      <a:pt x="190" y="861"/>
                      <a:pt x="167" y="853"/>
                      <a:pt x="145" y="845"/>
                    </a:cubicBezTo>
                    <a:cubicBezTo>
                      <a:pt x="113" y="848"/>
                      <a:pt x="79" y="845"/>
                      <a:pt x="48" y="853"/>
                    </a:cubicBezTo>
                    <a:cubicBezTo>
                      <a:pt x="33" y="857"/>
                      <a:pt x="8" y="933"/>
                      <a:pt x="3" y="950"/>
                    </a:cubicBezTo>
                    <a:cubicBezTo>
                      <a:pt x="5" y="989"/>
                      <a:pt x="0" y="1068"/>
                      <a:pt x="25" y="1114"/>
                    </a:cubicBezTo>
                    <a:cubicBezTo>
                      <a:pt x="38" y="1138"/>
                      <a:pt x="70" y="1191"/>
                      <a:pt x="93" y="1212"/>
                    </a:cubicBezTo>
                    <a:cubicBezTo>
                      <a:pt x="142" y="1255"/>
                      <a:pt x="224" y="1295"/>
                      <a:pt x="287" y="1309"/>
                    </a:cubicBezTo>
                    <a:cubicBezTo>
                      <a:pt x="327" y="1318"/>
                      <a:pt x="368" y="1321"/>
                      <a:pt x="407" y="1331"/>
                    </a:cubicBezTo>
                    <a:cubicBezTo>
                      <a:pt x="436" y="1339"/>
                      <a:pt x="461" y="1352"/>
                      <a:pt x="489" y="1361"/>
                    </a:cubicBezTo>
                    <a:cubicBezTo>
                      <a:pt x="514" y="1377"/>
                      <a:pt x="528" y="1397"/>
                      <a:pt x="556" y="1406"/>
                    </a:cubicBezTo>
                    <a:cubicBezTo>
                      <a:pt x="584" y="1427"/>
                      <a:pt x="605" y="1445"/>
                      <a:pt x="624" y="1474"/>
                    </a:cubicBezTo>
                    <a:cubicBezTo>
                      <a:pt x="631" y="1510"/>
                      <a:pt x="640" y="1542"/>
                      <a:pt x="646" y="1578"/>
                    </a:cubicBezTo>
                    <a:cubicBezTo>
                      <a:pt x="644" y="1655"/>
                      <a:pt x="643" y="1733"/>
                      <a:pt x="639" y="1810"/>
                    </a:cubicBezTo>
                    <a:cubicBezTo>
                      <a:pt x="638" y="1824"/>
                      <a:pt x="627" y="1861"/>
                      <a:pt x="624" y="1877"/>
                    </a:cubicBezTo>
                    <a:cubicBezTo>
                      <a:pt x="609" y="1958"/>
                      <a:pt x="597" y="2037"/>
                      <a:pt x="579" y="2117"/>
                    </a:cubicBezTo>
                    <a:cubicBezTo>
                      <a:pt x="563" y="2191"/>
                      <a:pt x="557" y="2269"/>
                      <a:pt x="534" y="2341"/>
                    </a:cubicBezTo>
                    <a:cubicBezTo>
                      <a:pt x="525" y="2409"/>
                      <a:pt x="511" y="2475"/>
                      <a:pt x="504" y="2543"/>
                    </a:cubicBezTo>
                    <a:cubicBezTo>
                      <a:pt x="507" y="2628"/>
                      <a:pt x="473" y="2726"/>
                      <a:pt x="519" y="2798"/>
                    </a:cubicBezTo>
                    <a:cubicBezTo>
                      <a:pt x="598" y="2921"/>
                      <a:pt x="777" y="2925"/>
                      <a:pt x="901" y="2932"/>
                    </a:cubicBezTo>
                    <a:cubicBezTo>
                      <a:pt x="1008" y="2945"/>
                      <a:pt x="1115" y="2952"/>
                      <a:pt x="1222" y="2962"/>
                    </a:cubicBezTo>
                    <a:cubicBezTo>
                      <a:pt x="1381" y="2953"/>
                      <a:pt x="1324" y="2971"/>
                      <a:pt x="1417" y="2910"/>
                    </a:cubicBezTo>
                    <a:cubicBezTo>
                      <a:pt x="1472" y="2835"/>
                      <a:pt x="1533" y="2815"/>
                      <a:pt x="1551" y="2715"/>
                    </a:cubicBezTo>
                    <a:cubicBezTo>
                      <a:pt x="1544" y="2476"/>
                      <a:pt x="1553" y="2447"/>
                      <a:pt x="1477" y="2259"/>
                    </a:cubicBezTo>
                    <a:cubicBezTo>
                      <a:pt x="1460" y="2216"/>
                      <a:pt x="1450" y="2170"/>
                      <a:pt x="1424" y="2132"/>
                    </a:cubicBezTo>
                    <a:cubicBezTo>
                      <a:pt x="1415" y="2092"/>
                      <a:pt x="1405" y="2052"/>
                      <a:pt x="1394" y="2012"/>
                    </a:cubicBezTo>
                    <a:cubicBezTo>
                      <a:pt x="1374" y="1828"/>
                      <a:pt x="1381" y="1627"/>
                      <a:pt x="1297" y="1459"/>
                    </a:cubicBezTo>
                    <a:lnTo>
                      <a:pt x="1260" y="1384"/>
                    </a:lnTo>
                    <a:cubicBezTo>
                      <a:pt x="1260" y="1384"/>
                      <a:pt x="1260" y="1384"/>
                      <a:pt x="1260" y="1384"/>
                    </a:cubicBezTo>
                    <a:cubicBezTo>
                      <a:pt x="1235" y="1308"/>
                      <a:pt x="1219" y="1229"/>
                      <a:pt x="1200" y="1152"/>
                    </a:cubicBezTo>
                    <a:cubicBezTo>
                      <a:pt x="1181" y="1075"/>
                      <a:pt x="1157" y="997"/>
                      <a:pt x="1140" y="920"/>
                    </a:cubicBezTo>
                    <a:cubicBezTo>
                      <a:pt x="1132" y="881"/>
                      <a:pt x="1124" y="848"/>
                      <a:pt x="1102" y="815"/>
                    </a:cubicBezTo>
                    <a:cubicBezTo>
                      <a:pt x="1092" y="783"/>
                      <a:pt x="1076" y="758"/>
                      <a:pt x="1065" y="725"/>
                    </a:cubicBezTo>
                    <a:cubicBezTo>
                      <a:pt x="1063" y="718"/>
                      <a:pt x="1058" y="703"/>
                      <a:pt x="1058" y="703"/>
                    </a:cubicBez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34320" y="282744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COMPUTER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3056040"/>
                <a:ext cx="1841400" cy="4043520"/>
              </a:xfrm>
              <a:custGeom>
                <a:avLst/>
                <a:gdLst/>
                <a:ahLst/>
                <a:rect l="l" t="t" r="r" b="b"/>
                <a:pathLst>
                  <a:path w="1160" h="2547">
                    <a:moveTo>
                      <a:pt x="524" y="564"/>
                    </a:moveTo>
                    <a:cubicBezTo>
                      <a:pt x="532" y="562"/>
                      <a:pt x="541" y="563"/>
                      <a:pt x="547" y="557"/>
                    </a:cubicBezTo>
                    <a:cubicBezTo>
                      <a:pt x="560" y="544"/>
                      <a:pt x="577" y="512"/>
                      <a:pt x="577" y="512"/>
                    </a:cubicBezTo>
                    <a:cubicBezTo>
                      <a:pt x="598" y="445"/>
                      <a:pt x="578" y="340"/>
                      <a:pt x="554" y="273"/>
                    </a:cubicBezTo>
                    <a:cubicBezTo>
                      <a:pt x="557" y="228"/>
                      <a:pt x="556" y="183"/>
                      <a:pt x="562" y="138"/>
                    </a:cubicBezTo>
                    <a:cubicBezTo>
                      <a:pt x="574" y="43"/>
                      <a:pt x="651" y="30"/>
                      <a:pt x="726" y="3"/>
                    </a:cubicBezTo>
                    <a:cubicBezTo>
                      <a:pt x="796" y="8"/>
                      <a:pt x="868" y="0"/>
                      <a:pt x="928" y="41"/>
                    </a:cubicBezTo>
                    <a:cubicBezTo>
                      <a:pt x="949" y="71"/>
                      <a:pt x="987" y="87"/>
                      <a:pt x="1018" y="108"/>
                    </a:cubicBezTo>
                    <a:cubicBezTo>
                      <a:pt x="1026" y="113"/>
                      <a:pt x="1041" y="123"/>
                      <a:pt x="1041" y="123"/>
                    </a:cubicBezTo>
                    <a:cubicBezTo>
                      <a:pt x="1046" y="130"/>
                      <a:pt x="1049" y="138"/>
                      <a:pt x="1055" y="145"/>
                    </a:cubicBezTo>
                    <a:cubicBezTo>
                      <a:pt x="1062" y="153"/>
                      <a:pt x="1072" y="159"/>
                      <a:pt x="1078" y="168"/>
                    </a:cubicBezTo>
                    <a:cubicBezTo>
                      <a:pt x="1096" y="195"/>
                      <a:pt x="1105" y="230"/>
                      <a:pt x="1123" y="258"/>
                    </a:cubicBezTo>
                    <a:cubicBezTo>
                      <a:pt x="1137" y="301"/>
                      <a:pt x="1152" y="341"/>
                      <a:pt x="1160" y="385"/>
                    </a:cubicBezTo>
                    <a:cubicBezTo>
                      <a:pt x="1155" y="447"/>
                      <a:pt x="1160" y="468"/>
                      <a:pt x="1130" y="512"/>
                    </a:cubicBezTo>
                    <a:cubicBezTo>
                      <a:pt x="1109" y="577"/>
                      <a:pt x="991" y="639"/>
                      <a:pt x="928" y="654"/>
                    </a:cubicBezTo>
                    <a:cubicBezTo>
                      <a:pt x="902" y="672"/>
                      <a:pt x="901" y="688"/>
                      <a:pt x="883" y="714"/>
                    </a:cubicBezTo>
                    <a:cubicBezTo>
                      <a:pt x="855" y="801"/>
                      <a:pt x="870" y="746"/>
                      <a:pt x="883" y="946"/>
                    </a:cubicBezTo>
                    <a:cubicBezTo>
                      <a:pt x="884" y="962"/>
                      <a:pt x="898" y="999"/>
                      <a:pt x="906" y="1013"/>
                    </a:cubicBezTo>
                    <a:cubicBezTo>
                      <a:pt x="915" y="1029"/>
                      <a:pt x="936" y="1058"/>
                      <a:pt x="936" y="1058"/>
                    </a:cubicBezTo>
                    <a:cubicBezTo>
                      <a:pt x="952" y="1111"/>
                      <a:pt x="980" y="1169"/>
                      <a:pt x="1011" y="1215"/>
                    </a:cubicBezTo>
                    <a:cubicBezTo>
                      <a:pt x="1027" y="1268"/>
                      <a:pt x="1041" y="1316"/>
                      <a:pt x="1048" y="1372"/>
                    </a:cubicBezTo>
                    <a:cubicBezTo>
                      <a:pt x="1042" y="1572"/>
                      <a:pt x="1070" y="1793"/>
                      <a:pt x="1003" y="1986"/>
                    </a:cubicBezTo>
                    <a:cubicBezTo>
                      <a:pt x="995" y="2040"/>
                      <a:pt x="978" y="2090"/>
                      <a:pt x="966" y="2143"/>
                    </a:cubicBezTo>
                    <a:cubicBezTo>
                      <a:pt x="957" y="2183"/>
                      <a:pt x="954" y="2223"/>
                      <a:pt x="943" y="2262"/>
                    </a:cubicBezTo>
                    <a:cubicBezTo>
                      <a:pt x="938" y="2307"/>
                      <a:pt x="932" y="2352"/>
                      <a:pt x="928" y="2397"/>
                    </a:cubicBezTo>
                    <a:cubicBezTo>
                      <a:pt x="922" y="2471"/>
                      <a:pt x="951" y="2529"/>
                      <a:pt x="883" y="2547"/>
                    </a:cubicBezTo>
                    <a:cubicBezTo>
                      <a:pt x="843" y="2544"/>
                      <a:pt x="804" y="2543"/>
                      <a:pt x="764" y="2539"/>
                    </a:cubicBezTo>
                    <a:cubicBezTo>
                      <a:pt x="712" y="2534"/>
                      <a:pt x="659" y="2510"/>
                      <a:pt x="607" y="2502"/>
                    </a:cubicBezTo>
                    <a:cubicBezTo>
                      <a:pt x="567" y="2489"/>
                      <a:pt x="529" y="2480"/>
                      <a:pt x="487" y="2472"/>
                    </a:cubicBezTo>
                    <a:cubicBezTo>
                      <a:pt x="384" y="2477"/>
                      <a:pt x="374" y="2477"/>
                      <a:pt x="300" y="2494"/>
                    </a:cubicBezTo>
                    <a:cubicBezTo>
                      <a:pt x="198" y="2488"/>
                      <a:pt x="137" y="2482"/>
                      <a:pt x="53" y="2427"/>
                    </a:cubicBezTo>
                    <a:cubicBezTo>
                      <a:pt x="0" y="2268"/>
                      <a:pt x="32" y="2094"/>
                      <a:pt x="90" y="1941"/>
                    </a:cubicBezTo>
                    <a:cubicBezTo>
                      <a:pt x="98" y="1887"/>
                      <a:pt x="121" y="1850"/>
                      <a:pt x="135" y="1799"/>
                    </a:cubicBezTo>
                    <a:cubicBezTo>
                      <a:pt x="151" y="1740"/>
                      <a:pt x="165" y="1680"/>
                      <a:pt x="173" y="1619"/>
                    </a:cubicBezTo>
                    <a:cubicBezTo>
                      <a:pt x="190" y="1301"/>
                      <a:pt x="173" y="1697"/>
                      <a:pt x="173" y="1297"/>
                    </a:cubicBezTo>
                    <a:cubicBezTo>
                      <a:pt x="173" y="1119"/>
                      <a:pt x="113" y="815"/>
                      <a:pt x="352" y="751"/>
                    </a:cubicBezTo>
                    <a:cubicBezTo>
                      <a:pt x="385" y="730"/>
                      <a:pt x="419" y="719"/>
                      <a:pt x="450" y="692"/>
                    </a:cubicBezTo>
                    <a:cubicBezTo>
                      <a:pt x="527" y="625"/>
                      <a:pt x="425" y="709"/>
                      <a:pt x="487" y="647"/>
                    </a:cubicBezTo>
                    <a:cubicBezTo>
                      <a:pt x="497" y="637"/>
                      <a:pt x="526" y="618"/>
                      <a:pt x="539" y="609"/>
                    </a:cubicBezTo>
                    <a:cubicBezTo>
                      <a:pt x="553" y="589"/>
                      <a:pt x="559" y="571"/>
                      <a:pt x="569" y="549"/>
                    </a:cubicBez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514600" y="4046760"/>
                <a:ext cx="1900080" cy="2979720"/>
              </a:xfrm>
              <a:custGeom>
                <a:avLst/>
                <a:gdLst/>
                <a:ahLst/>
                <a:rect l="l" t="t" r="r" b="b"/>
                <a:pathLst>
                  <a:path w="1197" h="1877">
                    <a:moveTo>
                      <a:pt x="501" y="620"/>
                    </a:moveTo>
                    <a:cubicBezTo>
                      <a:pt x="476" y="636"/>
                      <a:pt x="462" y="656"/>
                      <a:pt x="434" y="665"/>
                    </a:cubicBezTo>
                    <a:cubicBezTo>
                      <a:pt x="365" y="710"/>
                      <a:pt x="332" y="690"/>
                      <a:pt x="224" y="695"/>
                    </a:cubicBezTo>
                    <a:cubicBezTo>
                      <a:pt x="166" y="716"/>
                      <a:pt x="176" y="745"/>
                      <a:pt x="134" y="785"/>
                    </a:cubicBezTo>
                    <a:cubicBezTo>
                      <a:pt x="121" y="826"/>
                      <a:pt x="100" y="862"/>
                      <a:pt x="89" y="905"/>
                    </a:cubicBezTo>
                    <a:cubicBezTo>
                      <a:pt x="84" y="984"/>
                      <a:pt x="73" y="1053"/>
                      <a:pt x="59" y="1129"/>
                    </a:cubicBezTo>
                    <a:cubicBezTo>
                      <a:pt x="53" y="1266"/>
                      <a:pt x="52" y="1404"/>
                      <a:pt x="37" y="1541"/>
                    </a:cubicBezTo>
                    <a:cubicBezTo>
                      <a:pt x="34" y="1606"/>
                      <a:pt x="0" y="1826"/>
                      <a:pt x="74" y="1877"/>
                    </a:cubicBezTo>
                    <a:cubicBezTo>
                      <a:pt x="169" y="1872"/>
                      <a:pt x="265" y="1851"/>
                      <a:pt x="359" y="1847"/>
                    </a:cubicBezTo>
                    <a:cubicBezTo>
                      <a:pt x="466" y="1843"/>
                      <a:pt x="573" y="1842"/>
                      <a:pt x="680" y="1840"/>
                    </a:cubicBezTo>
                    <a:cubicBezTo>
                      <a:pt x="807" y="1842"/>
                      <a:pt x="935" y="1847"/>
                      <a:pt x="1062" y="1847"/>
                    </a:cubicBezTo>
                    <a:cubicBezTo>
                      <a:pt x="1082" y="1847"/>
                      <a:pt x="1103" y="1847"/>
                      <a:pt x="1122" y="1840"/>
                    </a:cubicBezTo>
                    <a:cubicBezTo>
                      <a:pt x="1149" y="1829"/>
                      <a:pt x="1186" y="1743"/>
                      <a:pt x="1197" y="1713"/>
                    </a:cubicBezTo>
                    <a:cubicBezTo>
                      <a:pt x="1190" y="1629"/>
                      <a:pt x="1175" y="1560"/>
                      <a:pt x="1152" y="1481"/>
                    </a:cubicBezTo>
                    <a:cubicBezTo>
                      <a:pt x="1145" y="1458"/>
                      <a:pt x="1142" y="1433"/>
                      <a:pt x="1129" y="1413"/>
                    </a:cubicBezTo>
                    <a:cubicBezTo>
                      <a:pt x="1119" y="1398"/>
                      <a:pt x="1099" y="1368"/>
                      <a:pt x="1099" y="1368"/>
                    </a:cubicBezTo>
                    <a:cubicBezTo>
                      <a:pt x="1085" y="1325"/>
                      <a:pt x="1072" y="1286"/>
                      <a:pt x="1047" y="1249"/>
                    </a:cubicBezTo>
                    <a:cubicBezTo>
                      <a:pt x="1033" y="1197"/>
                      <a:pt x="1020" y="1145"/>
                      <a:pt x="1010" y="1092"/>
                    </a:cubicBezTo>
                    <a:cubicBezTo>
                      <a:pt x="1007" y="1010"/>
                      <a:pt x="1007" y="927"/>
                      <a:pt x="1002" y="845"/>
                    </a:cubicBezTo>
                    <a:cubicBezTo>
                      <a:pt x="997" y="748"/>
                      <a:pt x="873" y="738"/>
                      <a:pt x="800" y="725"/>
                    </a:cubicBezTo>
                    <a:cubicBezTo>
                      <a:pt x="769" y="694"/>
                      <a:pt x="753" y="641"/>
                      <a:pt x="778" y="598"/>
                    </a:cubicBezTo>
                    <a:cubicBezTo>
                      <a:pt x="780" y="595"/>
                      <a:pt x="836" y="557"/>
                      <a:pt x="852" y="546"/>
                    </a:cubicBezTo>
                    <a:cubicBezTo>
                      <a:pt x="865" y="537"/>
                      <a:pt x="897" y="531"/>
                      <a:pt x="897" y="531"/>
                    </a:cubicBezTo>
                    <a:cubicBezTo>
                      <a:pt x="920" y="516"/>
                      <a:pt x="939" y="509"/>
                      <a:pt x="965" y="501"/>
                    </a:cubicBezTo>
                    <a:cubicBezTo>
                      <a:pt x="998" y="479"/>
                      <a:pt x="1002" y="465"/>
                      <a:pt x="1010" y="426"/>
                    </a:cubicBezTo>
                    <a:cubicBezTo>
                      <a:pt x="1000" y="354"/>
                      <a:pt x="985" y="287"/>
                      <a:pt x="1010" y="216"/>
                    </a:cubicBezTo>
                    <a:cubicBezTo>
                      <a:pt x="1008" y="196"/>
                      <a:pt x="1005" y="86"/>
                      <a:pt x="965" y="74"/>
                    </a:cubicBezTo>
                    <a:cubicBezTo>
                      <a:pt x="817" y="29"/>
                      <a:pt x="672" y="10"/>
                      <a:pt x="516" y="0"/>
                    </a:cubicBezTo>
                    <a:cubicBezTo>
                      <a:pt x="352" y="9"/>
                      <a:pt x="415" y="0"/>
                      <a:pt x="314" y="37"/>
                    </a:cubicBezTo>
                    <a:cubicBezTo>
                      <a:pt x="281" y="86"/>
                      <a:pt x="259" y="124"/>
                      <a:pt x="239" y="179"/>
                    </a:cubicBezTo>
                    <a:cubicBezTo>
                      <a:pt x="231" y="249"/>
                      <a:pt x="239" y="311"/>
                      <a:pt x="247" y="381"/>
                    </a:cubicBezTo>
                    <a:cubicBezTo>
                      <a:pt x="251" y="413"/>
                      <a:pt x="238" y="455"/>
                      <a:pt x="261" y="478"/>
                    </a:cubicBezTo>
                    <a:cubicBezTo>
                      <a:pt x="281" y="498"/>
                      <a:pt x="359" y="514"/>
                      <a:pt x="389" y="523"/>
                    </a:cubicBezTo>
                    <a:cubicBezTo>
                      <a:pt x="448" y="562"/>
                      <a:pt x="421" y="535"/>
                      <a:pt x="448" y="576"/>
                    </a:cubicBezTo>
                    <a:cubicBezTo>
                      <a:pt x="458" y="591"/>
                      <a:pt x="478" y="620"/>
                      <a:pt x="478" y="620"/>
                    </a:cubicBezTo>
                    <a:cubicBezTo>
                      <a:pt x="481" y="630"/>
                      <a:pt x="491" y="641"/>
                      <a:pt x="486" y="650"/>
                    </a:cubicBezTo>
                    <a:cubicBezTo>
                      <a:pt x="466" y="682"/>
                      <a:pt x="435" y="674"/>
                      <a:pt x="411" y="695"/>
                    </a:cubicBez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275112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FACILITA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86000" y="374184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UTENTE-CAV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Usability test &amp; paper sim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aper simulation: materi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85800" y="1663560"/>
            <a:ext cx="3124080" cy="2469240"/>
            <a:chOff x="685800" y="1663560"/>
            <a:chExt cx="3124080" cy="2469240"/>
          </a:xfrm>
        </p:grpSpPr>
        <p:pic>
          <p:nvPicPr>
            <p:cNvPr id="296" name="Struttura" descr=""/>
            <p:cNvPicPr/>
            <p:nvPr/>
          </p:nvPicPr>
          <p:blipFill>
            <a:blip r:embed="rId1"/>
            <a:srcRect l="0" t="9737" r="0" b="0"/>
            <a:stretch/>
          </p:blipFill>
          <p:spPr>
            <a:xfrm>
              <a:off x="685800" y="1663560"/>
              <a:ext cx="3048120" cy="1994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97" name=""/>
            <p:cNvSpPr/>
            <p:nvPr/>
          </p:nvSpPr>
          <p:spPr>
            <a:xfrm>
              <a:off x="685800" y="37339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chema generale del s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495680" y="1600200"/>
            <a:ext cx="3962520" cy="3218400"/>
            <a:chOff x="4495680" y="1600200"/>
            <a:chExt cx="3962520" cy="3218400"/>
          </a:xfrm>
        </p:grpSpPr>
        <p:grpSp>
          <p:nvGrpSpPr>
            <p:cNvPr id="299" name=""/>
            <p:cNvGrpSpPr/>
            <p:nvPr/>
          </p:nvGrpSpPr>
          <p:grpSpPr>
            <a:xfrm>
              <a:off x="4495680" y="1600200"/>
              <a:ext cx="3962520" cy="2751120"/>
              <a:chOff x="4495680" y="1600200"/>
              <a:chExt cx="3962520" cy="2751120"/>
            </a:xfrm>
          </p:grpSpPr>
          <p:pic>
            <p:nvPicPr>
              <p:cNvPr id="300" name="Layout2" descr=""/>
              <p:cNvPicPr/>
              <p:nvPr/>
            </p:nvPicPr>
            <p:blipFill>
              <a:blip r:embed="rId2"/>
              <a:srcRect l="4704" t="26406" r="49177" b="24754"/>
              <a:stretch/>
            </p:blipFill>
            <p:spPr>
              <a:xfrm>
                <a:off x="4964040" y="2848320"/>
                <a:ext cx="1135440" cy="108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Layout2" descr=""/>
              <p:cNvPicPr/>
              <p:nvPr/>
            </p:nvPicPr>
            <p:blipFill>
              <a:blip r:embed="rId3"/>
              <a:srcRect l="53651" t="26406" r="1178" b="24754"/>
              <a:stretch/>
            </p:blipFill>
            <p:spPr>
              <a:xfrm>
                <a:off x="6422400" y="2764800"/>
                <a:ext cx="1112040" cy="108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Layout3" descr=""/>
              <p:cNvPicPr/>
              <p:nvPr/>
            </p:nvPicPr>
            <p:blipFill>
              <a:blip r:embed="rId4"/>
              <a:srcRect l="4704" t="24836" r="49177" b="26162"/>
              <a:stretch/>
            </p:blipFill>
            <p:spPr>
              <a:xfrm>
                <a:off x="6167160" y="3264120"/>
                <a:ext cx="1135800" cy="108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Layout3" descr=""/>
              <p:cNvPicPr/>
              <p:nvPr/>
            </p:nvPicPr>
            <p:blipFill>
              <a:blip r:embed="rId5"/>
              <a:srcRect l="52708" t="24836" r="1178" b="26162"/>
              <a:stretch/>
            </p:blipFill>
            <p:spPr>
              <a:xfrm>
                <a:off x="7322400" y="2302920"/>
                <a:ext cx="1135800" cy="108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Layout1" descr=""/>
              <p:cNvPicPr/>
              <p:nvPr/>
            </p:nvPicPr>
            <p:blipFill>
              <a:blip r:embed="rId6"/>
              <a:srcRect l="26474" t="26432" r="28355" b="26432"/>
              <a:stretch/>
            </p:blipFill>
            <p:spPr>
              <a:xfrm>
                <a:off x="4495680" y="3234240"/>
                <a:ext cx="1112400" cy="105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layout5" descr=""/>
              <p:cNvPicPr/>
              <p:nvPr/>
            </p:nvPicPr>
            <p:blipFill>
              <a:blip r:embed="rId7"/>
              <a:srcRect l="52823" t="25593" r="1058" b="25593"/>
              <a:stretch/>
            </p:blipFill>
            <p:spPr>
              <a:xfrm>
                <a:off x="6349320" y="1600200"/>
                <a:ext cx="1134720" cy="105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layout5" descr=""/>
              <p:cNvPicPr/>
              <p:nvPr/>
            </p:nvPicPr>
            <p:blipFill>
              <a:blip r:embed="rId8"/>
              <a:srcRect l="5767" t="25593" r="49062" b="25593"/>
              <a:stretch/>
            </p:blipFill>
            <p:spPr>
              <a:xfrm>
                <a:off x="4854600" y="1698120"/>
                <a:ext cx="1112040" cy="1057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7" name=""/>
            <p:cNvSpPr/>
            <p:nvPr/>
          </p:nvSpPr>
          <p:spPr>
            <a:xfrm>
              <a:off x="4648320" y="4419720"/>
              <a:ext cx="373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ingole pagine su cartonc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990720" y="51814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onenti dell’interfaccia (menu, forms, messaggi di errore,…) su cartonc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rcRect l="1664" t="2126" r="1664" b="2060"/>
          <a:stretch/>
        </p:blipFill>
        <p:spPr>
          <a:xfrm>
            <a:off x="0" y="-76320"/>
            <a:ext cx="9144000" cy="70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ntaggi e svantagg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è richiesto lavoro di program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ossono avere subito le reazioni dell’u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ossono confrontare rapidamente soluzioni d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ossono analizzare in dettaglio interazioni particolarmente complesse (forms, menu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si coprono tutti 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ogna poi trasporre il disegno manualmente in forma elettro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e f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600" y="1676160"/>
            <a:ext cx="7985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o tre pers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cilitatore: l’unico che parla (dà istruzioni, incoraggia commenti, non fa comm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uter: conosce l’applicazione e la controlla, simulando le risposte; non fornisce mai spieg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sservatori: prendono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e tip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1 ora tutto 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dei risultat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ordinate le osserv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sa era importa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sono m olti problemi correla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assumete i risultati per iscr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ttuate le modifiche al prot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etete le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558608702.01.LZZZZZZZ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321080" cy="54295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638680" y="5257800"/>
            <a:ext cx="3200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. Morgan Kaufmann; (Aprile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00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58000" cy="48765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voluzione di un sito we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concetto di “release” del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gni prodotto software evolve per versioni successive, dette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elease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i nuova release costituisce un “miglioramento” rispetto alla release preced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- correzione di err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- perfezionamenti di funzionalità esist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- introduzione di nuove funziona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- compatibilità con ambiente più evo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oluzione del software: classificazione delle modifich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371600" y="914400"/>
          <a:ext cx="658188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14400"/>
                    <a:ext cx="6581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861120" y="5778360"/>
            <a:ext cx="24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rce: IT Metrics, March 199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e utent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li categorie di utenti è destinato il prodotto che dobbiamo progettar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 queste categorie, quali sono quelle prioritarie e quali quelle secondari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possiamo definire con precisione ciascuna categoria di utenti, in rapporto al prodotto che dobbiamo progettare? (sesso, età, cultura, esperienza, abilità/disabilità, interessi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zione dei prodotti tecnologici in rapporto ai bisogni dell’uten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447920" y="3429000"/>
            <a:ext cx="7315200" cy="1310760"/>
            <a:chOff x="1447920" y="3429000"/>
            <a:chExt cx="7315200" cy="1310760"/>
          </a:xfrm>
        </p:grpSpPr>
        <p:sp>
          <p:nvSpPr>
            <p:cNvPr id="329" name=""/>
            <p:cNvSpPr/>
            <p:nvPr/>
          </p:nvSpPr>
          <p:spPr>
            <a:xfrm>
              <a:off x="1447920" y="411480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43800" y="3429000"/>
              <a:ext cx="1219320" cy="13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vello di prestazioni richiesto dall’utent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5562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se centrata sulla tecn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5562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se centrata sull’u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200400" y="1755720"/>
            <a:ext cx="2666880" cy="4416480"/>
            <a:chOff x="3200400" y="1755720"/>
            <a:chExt cx="2666880" cy="4416480"/>
          </a:xfrm>
        </p:grpSpPr>
        <p:sp>
          <p:nvSpPr>
            <p:cNvPr id="334" name=""/>
            <p:cNvSpPr/>
            <p:nvPr/>
          </p:nvSpPr>
          <p:spPr>
            <a:xfrm>
              <a:off x="4572000" y="2666880"/>
              <a:ext cx="0" cy="350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00400" y="1755720"/>
              <a:ext cx="266688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nto di transizione in cui la tecnologia soddisfa le necessità primar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600200" y="4267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necessità non soddisfa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3352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estazioni in e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90720" y="1980360"/>
            <a:ext cx="7543800" cy="4940640"/>
            <a:chOff x="990720" y="1980360"/>
            <a:chExt cx="7543800" cy="4940640"/>
          </a:xfrm>
        </p:grpSpPr>
        <p:sp>
          <p:nvSpPr>
            <p:cNvPr id="339" name=""/>
            <p:cNvSpPr/>
            <p:nvPr/>
          </p:nvSpPr>
          <p:spPr>
            <a:xfrm>
              <a:off x="1447920" y="5410080"/>
              <a:ext cx="670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447920" y="2666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53280" y="5181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5400000">
              <a:off x="-562320" y="353304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stazioni del prodot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76920" y="6400800"/>
              <a:ext cx="365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: D.A.Norman, Il computer invisibile, 19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447920" y="2241000"/>
            <a:ext cx="6996240" cy="3169080"/>
            <a:chOff x="1447920" y="2241000"/>
            <a:chExt cx="6996240" cy="3169080"/>
          </a:xfrm>
        </p:grpSpPr>
        <p:sp>
          <p:nvSpPr>
            <p:cNvPr id="345" name=""/>
            <p:cNvSpPr/>
            <p:nvPr/>
          </p:nvSpPr>
          <p:spPr>
            <a:xfrm>
              <a:off x="1447920" y="2895480"/>
              <a:ext cx="6553080" cy="2514600"/>
            </a:xfrm>
            <a:custGeom>
              <a:avLst/>
              <a:gdLst/>
              <a:ahLst/>
              <a:rect l="l" t="t" r="r" b="b"/>
              <a:pathLst>
                <a:path w="4128" h="1584">
                  <a:moveTo>
                    <a:pt x="0" y="1584"/>
                  </a:moveTo>
                  <a:cubicBezTo>
                    <a:pt x="120" y="1576"/>
                    <a:pt x="240" y="1568"/>
                    <a:pt x="384" y="1536"/>
                  </a:cubicBezTo>
                  <a:cubicBezTo>
                    <a:pt x="528" y="1504"/>
                    <a:pt x="696" y="1456"/>
                    <a:pt x="864" y="1392"/>
                  </a:cubicBezTo>
                  <a:cubicBezTo>
                    <a:pt x="1032" y="1328"/>
                    <a:pt x="1224" y="1240"/>
                    <a:pt x="1392" y="1152"/>
                  </a:cubicBezTo>
                  <a:cubicBezTo>
                    <a:pt x="1560" y="1064"/>
                    <a:pt x="1704" y="984"/>
                    <a:pt x="1872" y="864"/>
                  </a:cubicBezTo>
                  <a:cubicBezTo>
                    <a:pt x="2040" y="744"/>
                    <a:pt x="2216" y="544"/>
                    <a:pt x="2400" y="432"/>
                  </a:cubicBezTo>
                  <a:cubicBezTo>
                    <a:pt x="2584" y="320"/>
                    <a:pt x="2776" y="256"/>
                    <a:pt x="2976" y="192"/>
                  </a:cubicBezTo>
                  <a:cubicBezTo>
                    <a:pt x="3176" y="128"/>
                    <a:pt x="3408" y="80"/>
                    <a:pt x="3600" y="48"/>
                  </a:cubicBezTo>
                  <a:cubicBezTo>
                    <a:pt x="3792" y="16"/>
                    <a:pt x="4040" y="8"/>
                    <a:pt x="4128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289600">
              <a:off x="4648680" y="2895120"/>
              <a:ext cx="169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volu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1003600">
              <a:off x="6095880" y="2438280"/>
              <a:ext cx="232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el prodot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715000" y="4267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estazioni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necess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voluzione di un sito we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sito web è un prodotto software particolare, in qua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gli altri prodotti software, tende a “crescere” nel t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tilizzabile dalla rete</a:t>
            </a:r>
            <a:br>
              <a:rPr sz="24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quindi nuove release possono essere rese disponibili “immediatament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costituito logicamente da un </a:t>
            </a:r>
            <a:r>
              <a:rPr b="0" i="1" lang="it-IT" sz="2400" spc="-1" strike="noStrike">
                <a:solidFill>
                  <a:srgbClr val="808080"/>
                </a:solidFill>
                <a:latin typeface="Arial"/>
              </a:rPr>
              <a:t>contenit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da un </a:t>
            </a:r>
            <a:r>
              <a:rPr b="0" i="1" lang="it-IT" sz="2400" spc="-1" strike="noStrike">
                <a:solidFill>
                  <a:srgbClr val="808080"/>
                </a:solidFill>
                <a:latin typeface="Arial"/>
              </a:rPr>
              <a:t>contenuto</a:t>
            </a:r>
            <a:br>
              <a:rPr sz="24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ontenitore e contenuto devono poter essere modificati con procedure dive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crescita di un sito we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990720" y="1773360"/>
          <a:ext cx="777240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73360"/>
                    <a:ext cx="77724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610200" y="1827720"/>
            <a:ext cx="7999560" cy="3599280"/>
            <a:chOff x="610200" y="1827720"/>
            <a:chExt cx="7999560" cy="3599280"/>
          </a:xfrm>
        </p:grpSpPr>
        <p:sp>
          <p:nvSpPr>
            <p:cNvPr id="355" name=""/>
            <p:cNvSpPr/>
            <p:nvPr/>
          </p:nvSpPr>
          <p:spPr>
            <a:xfrm>
              <a:off x="7722000" y="502812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10200" y="1827720"/>
              <a:ext cx="7162200" cy="3430080"/>
              <a:chOff x="610200" y="1827720"/>
              <a:chExt cx="7162200" cy="3430080"/>
            </a:xfrm>
          </p:grpSpPr>
          <p:sp>
            <p:nvSpPr>
              <p:cNvPr id="357" name=""/>
              <p:cNvSpPr/>
              <p:nvPr/>
            </p:nvSpPr>
            <p:spPr>
              <a:xfrm>
                <a:off x="1219320" y="5257800"/>
                <a:ext cx="6553080" cy="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219320" y="2209320"/>
                <a:ext cx="0" cy="304812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10200" y="1827720"/>
                <a:ext cx="127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Arial"/>
                  </a:rPr>
                  <a:t>modific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1295280" y="3505320"/>
            <a:ext cx="6629400" cy="3050280"/>
            <a:chOff x="1295280" y="3505320"/>
            <a:chExt cx="6629400" cy="3050280"/>
          </a:xfrm>
        </p:grpSpPr>
        <p:sp>
          <p:nvSpPr>
            <p:cNvPr id="361" name=""/>
            <p:cNvSpPr/>
            <p:nvPr/>
          </p:nvSpPr>
          <p:spPr>
            <a:xfrm>
              <a:off x="1371600" y="3505320"/>
              <a:ext cx="6553080" cy="1752480"/>
            </a:xfrm>
            <a:custGeom>
              <a:avLst/>
              <a:gdLst/>
              <a:ahLst/>
              <a:rect l="l" t="t" r="r" b="b"/>
              <a:pathLst>
                <a:path w="4128" h="1104">
                  <a:moveTo>
                    <a:pt x="0" y="1008"/>
                  </a:moveTo>
                  <a:lnTo>
                    <a:pt x="96" y="768"/>
                  </a:lnTo>
                  <a:lnTo>
                    <a:pt x="192" y="1056"/>
                  </a:lnTo>
                  <a:lnTo>
                    <a:pt x="288" y="864"/>
                  </a:lnTo>
                  <a:lnTo>
                    <a:pt x="384" y="1056"/>
                  </a:lnTo>
                  <a:lnTo>
                    <a:pt x="528" y="912"/>
                  </a:lnTo>
                  <a:lnTo>
                    <a:pt x="624" y="1056"/>
                  </a:lnTo>
                  <a:lnTo>
                    <a:pt x="672" y="816"/>
                  </a:lnTo>
                  <a:lnTo>
                    <a:pt x="768" y="1056"/>
                  </a:lnTo>
                  <a:lnTo>
                    <a:pt x="912" y="672"/>
                  </a:lnTo>
                  <a:lnTo>
                    <a:pt x="1008" y="1104"/>
                  </a:lnTo>
                  <a:lnTo>
                    <a:pt x="1104" y="816"/>
                  </a:lnTo>
                  <a:lnTo>
                    <a:pt x="1200" y="1104"/>
                  </a:lnTo>
                  <a:lnTo>
                    <a:pt x="1344" y="864"/>
                  </a:lnTo>
                  <a:lnTo>
                    <a:pt x="1440" y="1056"/>
                  </a:lnTo>
                  <a:lnTo>
                    <a:pt x="1728" y="144"/>
                  </a:lnTo>
                  <a:lnTo>
                    <a:pt x="1728" y="1056"/>
                  </a:lnTo>
                  <a:lnTo>
                    <a:pt x="1872" y="768"/>
                  </a:lnTo>
                  <a:lnTo>
                    <a:pt x="2016" y="1056"/>
                  </a:lnTo>
                  <a:lnTo>
                    <a:pt x="2208" y="816"/>
                  </a:lnTo>
                  <a:lnTo>
                    <a:pt x="2304" y="1008"/>
                  </a:lnTo>
                  <a:lnTo>
                    <a:pt x="2448" y="240"/>
                  </a:lnTo>
                  <a:lnTo>
                    <a:pt x="2592" y="1056"/>
                  </a:lnTo>
                  <a:lnTo>
                    <a:pt x="2736" y="432"/>
                  </a:lnTo>
                  <a:lnTo>
                    <a:pt x="2880" y="1056"/>
                  </a:lnTo>
                  <a:lnTo>
                    <a:pt x="2976" y="624"/>
                  </a:lnTo>
                  <a:lnTo>
                    <a:pt x="3216" y="1056"/>
                  </a:lnTo>
                  <a:lnTo>
                    <a:pt x="3312" y="624"/>
                  </a:lnTo>
                  <a:lnTo>
                    <a:pt x="3456" y="1056"/>
                  </a:lnTo>
                  <a:lnTo>
                    <a:pt x="3600" y="672"/>
                  </a:lnTo>
                  <a:lnTo>
                    <a:pt x="3744" y="1104"/>
                  </a:lnTo>
                  <a:lnTo>
                    <a:pt x="3984" y="0"/>
                  </a:lnTo>
                  <a:lnTo>
                    <a:pt x="4128" y="1008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95280" y="6248520"/>
              <a:ext cx="30492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6095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Arial"/>
                </a:rPr>
                <a:t>contenu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295280" y="1981080"/>
            <a:ext cx="6477120" cy="4269960"/>
            <a:chOff x="1295280" y="1981080"/>
            <a:chExt cx="6477120" cy="4269960"/>
          </a:xfrm>
        </p:grpSpPr>
        <p:sp>
          <p:nvSpPr>
            <p:cNvPr id="365" name=""/>
            <p:cNvSpPr/>
            <p:nvPr/>
          </p:nvSpPr>
          <p:spPr>
            <a:xfrm>
              <a:off x="2209680" y="52578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80808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9000" y="5257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80808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00600" y="5257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80808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5257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808080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295280" y="1981080"/>
              <a:ext cx="6477120" cy="4269960"/>
              <a:chOff x="1295280" y="1981080"/>
              <a:chExt cx="6477120" cy="4269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1295280" y="2590920"/>
                <a:ext cx="6248520" cy="3660120"/>
                <a:chOff x="1295280" y="2590920"/>
                <a:chExt cx="6248520" cy="36601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295280" y="2590920"/>
                  <a:ext cx="6248520" cy="2666880"/>
                </a:xfrm>
                <a:custGeom>
                  <a:avLst/>
                  <a:gdLst/>
                  <a:ahLst/>
                  <a:rect l="l" t="t" r="r" b="b"/>
                  <a:pathLst>
                    <a:path w="3936" h="1680">
                      <a:moveTo>
                        <a:pt x="0" y="1568"/>
                      </a:moveTo>
                      <a:cubicBezTo>
                        <a:pt x="188" y="1604"/>
                        <a:pt x="376" y="1640"/>
                        <a:pt x="480" y="1568"/>
                      </a:cubicBezTo>
                      <a:cubicBezTo>
                        <a:pt x="584" y="1496"/>
                        <a:pt x="576" y="1216"/>
                        <a:pt x="624" y="1136"/>
                      </a:cubicBezTo>
                      <a:cubicBezTo>
                        <a:pt x="672" y="1056"/>
                        <a:pt x="736" y="1056"/>
                        <a:pt x="768" y="1088"/>
                      </a:cubicBezTo>
                      <a:cubicBezTo>
                        <a:pt x="800" y="1120"/>
                        <a:pt x="792" y="1248"/>
                        <a:pt x="816" y="1328"/>
                      </a:cubicBezTo>
                      <a:cubicBezTo>
                        <a:pt x="840" y="1408"/>
                        <a:pt x="832" y="1528"/>
                        <a:pt x="912" y="1568"/>
                      </a:cubicBezTo>
                      <a:cubicBezTo>
                        <a:pt x="992" y="1608"/>
                        <a:pt x="1216" y="1608"/>
                        <a:pt x="1296" y="1568"/>
                      </a:cubicBezTo>
                      <a:cubicBezTo>
                        <a:pt x="1376" y="1528"/>
                        <a:pt x="1360" y="1368"/>
                        <a:pt x="1392" y="1328"/>
                      </a:cubicBezTo>
                      <a:cubicBezTo>
                        <a:pt x="1424" y="1288"/>
                        <a:pt x="1464" y="1312"/>
                        <a:pt x="1488" y="1328"/>
                      </a:cubicBezTo>
                      <a:cubicBezTo>
                        <a:pt x="1512" y="1344"/>
                        <a:pt x="1528" y="1392"/>
                        <a:pt x="1536" y="1424"/>
                      </a:cubicBezTo>
                      <a:cubicBezTo>
                        <a:pt x="1544" y="1456"/>
                        <a:pt x="1520" y="1496"/>
                        <a:pt x="1536" y="1520"/>
                      </a:cubicBezTo>
                      <a:cubicBezTo>
                        <a:pt x="1552" y="1544"/>
                        <a:pt x="1552" y="1560"/>
                        <a:pt x="1632" y="1568"/>
                      </a:cubicBezTo>
                      <a:cubicBezTo>
                        <a:pt x="1712" y="1576"/>
                        <a:pt x="1920" y="1656"/>
                        <a:pt x="2016" y="1568"/>
                      </a:cubicBezTo>
                      <a:cubicBezTo>
                        <a:pt x="2112" y="1480"/>
                        <a:pt x="2168" y="1248"/>
                        <a:pt x="2208" y="1040"/>
                      </a:cubicBezTo>
                      <a:cubicBezTo>
                        <a:pt x="2248" y="832"/>
                        <a:pt x="2248" y="472"/>
                        <a:pt x="2256" y="320"/>
                      </a:cubicBezTo>
                      <a:cubicBezTo>
                        <a:pt x="2264" y="168"/>
                        <a:pt x="2224" y="176"/>
                        <a:pt x="2256" y="128"/>
                      </a:cubicBezTo>
                      <a:cubicBezTo>
                        <a:pt x="2288" y="80"/>
                        <a:pt x="2400" y="0"/>
                        <a:pt x="2448" y="32"/>
                      </a:cubicBezTo>
                      <a:cubicBezTo>
                        <a:pt x="2496" y="64"/>
                        <a:pt x="2528" y="216"/>
                        <a:pt x="2544" y="320"/>
                      </a:cubicBezTo>
                      <a:cubicBezTo>
                        <a:pt x="2560" y="424"/>
                        <a:pt x="2528" y="488"/>
                        <a:pt x="2544" y="656"/>
                      </a:cubicBezTo>
                      <a:cubicBezTo>
                        <a:pt x="2560" y="824"/>
                        <a:pt x="2600" y="1168"/>
                        <a:pt x="2640" y="1328"/>
                      </a:cubicBezTo>
                      <a:cubicBezTo>
                        <a:pt x="2680" y="1488"/>
                        <a:pt x="2672" y="1568"/>
                        <a:pt x="2784" y="1616"/>
                      </a:cubicBezTo>
                      <a:cubicBezTo>
                        <a:pt x="2896" y="1664"/>
                        <a:pt x="3200" y="1680"/>
                        <a:pt x="3312" y="1616"/>
                      </a:cubicBezTo>
                      <a:cubicBezTo>
                        <a:pt x="3424" y="1552"/>
                        <a:pt x="3416" y="1456"/>
                        <a:pt x="3456" y="1232"/>
                      </a:cubicBezTo>
                      <a:cubicBezTo>
                        <a:pt x="3496" y="1008"/>
                        <a:pt x="3496" y="440"/>
                        <a:pt x="3552" y="272"/>
                      </a:cubicBezTo>
                      <a:cubicBezTo>
                        <a:pt x="3608" y="104"/>
                        <a:pt x="3728" y="16"/>
                        <a:pt x="3792" y="224"/>
                      </a:cubicBezTo>
                      <a:cubicBezTo>
                        <a:pt x="3856" y="432"/>
                        <a:pt x="3912" y="1304"/>
                        <a:pt x="3936" y="1520"/>
                      </a:cubicBezTo>
                    </a:path>
                  </a:pathLst>
                </a:custGeom>
                <a:noFill/>
                <a:ln w="10152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1295280" y="5791320"/>
                  <a:ext cx="1752840" cy="459720"/>
                  <a:chOff x="1295280" y="5791320"/>
                  <a:chExt cx="1752840" cy="45972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1295280" y="5943600"/>
                    <a:ext cx="304920" cy="228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600200" y="5791320"/>
                    <a:ext cx="144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3333cc"/>
                        </a:solidFill>
                        <a:latin typeface="Arial"/>
                      </a:rPr>
                      <a:t>softwar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5" name=""/>
              <p:cNvSpPr/>
              <p:nvPr/>
            </p:nvSpPr>
            <p:spPr>
              <a:xfrm>
                <a:off x="5334120" y="1981080"/>
                <a:ext cx="243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808080"/>
                    </a:solidFill>
                    <a:latin typeface="Arial"/>
                  </a:rPr>
                  <a:t>major relea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133720" y="3352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808080"/>
                    </a:solidFill>
                    <a:latin typeface="Arial"/>
                  </a:rPr>
                  <a:t>minor relea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2438280" y="3733920"/>
                <a:ext cx="76320" cy="457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666880" y="3657600"/>
                <a:ext cx="838440" cy="914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5333760" y="2362320"/>
                <a:ext cx="53316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95880" y="2362320"/>
                <a:ext cx="838440" cy="380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voluzione di un sito we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luidità dei medi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724040" y="2697120"/>
            <a:ext cx="5920560" cy="654120"/>
            <a:chOff x="1724040" y="2697120"/>
            <a:chExt cx="5920560" cy="654120"/>
          </a:xfrm>
        </p:grpSpPr>
        <p:sp>
          <p:nvSpPr>
            <p:cNvPr id="384" name=""/>
            <p:cNvSpPr/>
            <p:nvPr/>
          </p:nvSpPr>
          <p:spPr>
            <a:xfrm>
              <a:off x="1921320" y="3351240"/>
              <a:ext cx="56646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24040" y="2697120"/>
              <a:ext cx="116604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br>
                <a:rPr sz="1300"/>
              </a:b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ERMANEN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34960" y="2697120"/>
              <a:ext cx="80964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br>
                <a:rPr sz="1300"/>
              </a:b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VOLATIL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85440" y="2697120"/>
              <a:ext cx="654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br>
                <a:rPr sz="1300"/>
              </a:b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FLUID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635480" y="3678120"/>
            <a:ext cx="5801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" rIns="43200" tIns="21600" bIns="21600" anchor="t">
            <a:spAutoFit/>
          </a:bodyPr>
          <a:p>
            <a:pPr lvl="1" marL="379440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GB" sz="1700" spc="-1" strike="noStrike">
                <a:solidFill>
                  <a:srgbClr val="ff3300"/>
                </a:solidFill>
                <a:latin typeface="Arial"/>
              </a:rPr>
              <a:t>libro           CD-ROM</a:t>
            </a:r>
            <a:r>
              <a:rPr b="1" lang="en-GB" sz="17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ff3300"/>
                </a:solidFill>
                <a:latin typeface="Arial"/>
              </a:rPr>
              <a:t>             giornali        T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170240" y="3320640"/>
            <a:ext cx="2590920" cy="1251360"/>
            <a:chOff x="4170240" y="3320640"/>
            <a:chExt cx="2590920" cy="1251360"/>
          </a:xfrm>
        </p:grpSpPr>
        <p:sp>
          <p:nvSpPr>
            <p:cNvPr id="390" name=""/>
            <p:cNvSpPr/>
            <p:nvPr/>
          </p:nvSpPr>
          <p:spPr>
            <a:xfrm flipV="1">
              <a:off x="4170240" y="3339720"/>
              <a:ext cx="0" cy="84780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761160" y="3320640"/>
              <a:ext cx="0" cy="88740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94440" y="42670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GB" sz="1500" spc="-1" strike="noStrike">
                  <a:solidFill>
                    <a:srgbClr val="cc0000"/>
                  </a:solidFill>
                  <a:latin typeface="Arial"/>
                </a:rPr>
                <a:t>WE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48000" y="4200480"/>
              <a:ext cx="2446560" cy="0"/>
            </a:xfrm>
            <a:prstGeom prst="line">
              <a:avLst/>
            </a:prstGeom>
            <a:ln w="127080">
              <a:solidFill>
                <a:srgbClr val="cc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fetime: indagini sperimentali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Tempo medio di vita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Files HTML</a:t>
            </a: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   Immag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ell, 19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75 g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07 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wertzman et al,1996      50 g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85 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3124080"/>
            <a:ext cx="693432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48520" y="2743200"/>
            <a:ext cx="0" cy="137160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533520" y="4267080"/>
            <a:ext cx="3673440" cy="2135520"/>
            <a:chOff x="533520" y="4267080"/>
            <a:chExt cx="3673440" cy="2135520"/>
          </a:xfrm>
        </p:grpSpPr>
        <p:graphicFrame>
          <p:nvGraphicFramePr>
            <p:cNvPr id="74" name=""/>
            <p:cNvGraphicFramePr/>
            <p:nvPr/>
          </p:nvGraphicFramePr>
          <p:xfrm>
            <a:off x="533520" y="4267080"/>
            <a:ext cx="3673440" cy="1846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4267080"/>
                      <a:ext cx="3673440" cy="18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686160" y="60037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fficienz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495680" y="4267080"/>
            <a:ext cx="3809880" cy="2151720"/>
            <a:chOff x="4495680" y="4267080"/>
            <a:chExt cx="3809880" cy="2151720"/>
          </a:xfrm>
        </p:grpSpPr>
        <p:graphicFrame>
          <p:nvGraphicFramePr>
            <p:cNvPr id="78" name=""/>
            <p:cNvGraphicFramePr/>
            <p:nvPr/>
          </p:nvGraphicFramePr>
          <p:xfrm>
            <a:off x="4495680" y="4267080"/>
            <a:ext cx="3809880" cy="1908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4267080"/>
                      <a:ext cx="3809880" cy="19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4724280" y="60199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ffica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648320" y="1600200"/>
            <a:ext cx="3741480" cy="2364480"/>
            <a:chOff x="4648320" y="1600200"/>
            <a:chExt cx="3741480" cy="2364480"/>
          </a:xfrm>
        </p:grpSpPr>
        <p:pic>
          <p:nvPicPr>
            <p:cNvPr id="82" name="" descr=""/>
            <p:cNvPicPr/>
            <p:nvPr/>
          </p:nvPicPr>
          <p:blipFill>
            <a:blip r:embed="rId5"/>
            <a:srcRect l="7412" t="18858" r="24695" b="14101"/>
            <a:stretch/>
          </p:blipFill>
          <p:spPr>
            <a:xfrm>
              <a:off x="4648320" y="1600200"/>
              <a:ext cx="37414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800600" y="35658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ddisf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usabilità di un prodotto è relativa al tipo di u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600200"/>
            <a:ext cx="396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emp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utazioni espresse da 10 utenti di diversa esperienza relativamente a efficienza, efficac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soddisfazione nell’uso del sito web www.dvd.it (0: pessimo, 5:otti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3200400"/>
            <a:ext cx="2437920" cy="990720"/>
            <a:chOff x="914400" y="3200400"/>
            <a:chExt cx="2437920" cy="990720"/>
          </a:xfrm>
        </p:grpSpPr>
        <p:sp>
          <p:nvSpPr>
            <p:cNvPr id="87" name=""/>
            <p:cNvSpPr/>
            <p:nvPr/>
          </p:nvSpPr>
          <p:spPr>
            <a:xfrm>
              <a:off x="914400" y="3276720"/>
              <a:ext cx="20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po di ut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904760" y="3200400"/>
              <a:ext cx="1447560" cy="990720"/>
              <a:chOff x="1904760" y="3200400"/>
              <a:chExt cx="1447560" cy="990720"/>
            </a:xfrm>
          </p:grpSpPr>
          <p:pic>
            <p:nvPicPr>
              <p:cNvPr id="89" name="" descr=""/>
              <p:cNvPicPr/>
              <p:nvPr/>
            </p:nvPicPr>
            <p:blipFill>
              <a:blip r:embed="rId6"/>
              <a:srcRect l="74284" t="35618" r="2266" b="37156"/>
              <a:stretch/>
            </p:blipFill>
            <p:spPr>
              <a:xfrm>
                <a:off x="1904760" y="3200400"/>
                <a:ext cx="144756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352320" y="32767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 compiti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 sono i compiti che le diverse categorie di utenti dovranno svolgere con il prodot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8120" y="3452760"/>
            <a:ext cx="2895480" cy="104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2895480"/>
            <a:ext cx="792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 sono quelli principali e quali quelli accesso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6483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 metriche di efficacia e di efficienza possiamo introdurre in rapporto a questi compit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e contesto d’us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ali diversi contesti le varie categorie di utenti dovranno svolgere i diversi compiti individua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 contesti sono prevalenti, e quali occasionali, in rapporto ai diversi compi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possiamo caratterizzare con precisione i diversi conte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11:22:04Z</dcterms:created>
  <dc:creator>Roberto Polillo</dc:creator>
  <dc:description/>
  <dc:language>en-US</dc:language>
  <cp:lastModifiedBy>rpolillo</cp:lastModifiedBy>
  <dcterms:modified xsi:type="dcterms:W3CDTF">2003-04-25T22:24:02Z</dcterms:modified>
  <cp:revision>603</cp:revision>
  <dc:subject/>
  <dc:title>No Slide Title</dc:title>
</cp:coreProperties>
</file>