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6.jpeg" ContentType="image/jpeg"/>
  <Override PartName="/ppt/media/image5.jpeg" ContentType="image/jpeg"/>
  <Override PartName="/ppt/media/image3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467A4E-DB06-4114-B27F-6C4FB0A0D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rimento fatto con 346 partecipanti, di cui 109 novizi (meno di un anno di esperienza sul web) e 237 con esperienza (più di tre anni di esperienza con il web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ll’analisi si vede che le aspettative sono sostanzialmente simili fra novizi e utenti esperti: ciò significa che le diverse aspettative si sviluppano molto pr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 M.Bernard, Developing Schemas for the Location of Common Web Objects, Usability News, Winter 20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ttp://wsupsy.psy.twsu.edu/optimalweb/print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www.pirelli.it, aprile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www.ibm.com, aprile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following list and pie chart show the average percentage of pixels used for each category across the sample of 50 homep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perating system and browser overhead: 1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avigation: 2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ent of interest to users: 2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dvertisements: 2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elf-promotions (ads for the site's own stuff): 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elcome, logo, tagline, and other site identifications: 5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ller (useless stock art, such as "smiling ladies"): 5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used: 2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82C-D037-418A-93B0-8385D81B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E27-B937-42A1-9B8B-20EDA57B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C59-8E92-4FAB-B005-5A694F0E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820-A985-4510-831C-32CF8911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D2B-8013-4B42-8836-7C90CA7E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0B2-31EE-41FA-BF63-08504AD0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3A4-3F0A-4CD3-8BF2-F97E9F49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BA2-80A4-40DD-9196-6D0A5763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ADC-DFA1-4306-BE91-EF9510C9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5FD-555B-4DBA-8431-FF8B9A25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7BB-593C-493B-811A-3A263A15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A70-C416-4488-95F3-4CC3E755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C223-7D67-4AB9-BF89-D2FB8B289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UNICAZIONE D’IMPRESA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54040" y="5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2oEb0gA4o=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5715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Home page: alcuni servizi stand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Lingu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elta della lin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Navig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ppa del s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Comunic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mail al s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Identific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29200" y="6172200"/>
            <a:ext cx="2971800" cy="438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 aspettative dell’utente: layout dei siti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90720" y="1295280"/>
            <a:ext cx="2717640" cy="1557360"/>
            <a:chOff x="990720" y="1295280"/>
            <a:chExt cx="2717640" cy="155736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1063800" y="1295280"/>
              <a:ext cx="144468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990720" y="2545560"/>
              <a:ext cx="271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interni al s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635280" y="1295280"/>
            <a:ext cx="2718000" cy="1557360"/>
            <a:chOff x="3635280" y="1295280"/>
            <a:chExt cx="2718000" cy="155736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3731400" y="1295280"/>
              <a:ext cx="1446480" cy="12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635280" y="2545560"/>
              <a:ext cx="271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esterni al s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426360" y="1295280"/>
            <a:ext cx="2717640" cy="1557360"/>
            <a:chOff x="6426360" y="1295280"/>
            <a:chExt cx="2717640" cy="15573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6499800" y="1295280"/>
              <a:ext cx="1438200" cy="12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426360" y="2545560"/>
              <a:ext cx="271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alla home 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990720" y="2892600"/>
            <a:ext cx="2717640" cy="1558440"/>
            <a:chOff x="990720" y="2892600"/>
            <a:chExt cx="2717640" cy="1558440"/>
          </a:xfrm>
        </p:grpSpPr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>
              <a:off x="1063800" y="2892600"/>
              <a:ext cx="1438200" cy="12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990720" y="4143960"/>
              <a:ext cx="271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arch engine inter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635280" y="2892600"/>
            <a:ext cx="2718000" cy="1558440"/>
            <a:chOff x="3635280" y="2892600"/>
            <a:chExt cx="2718000" cy="1558440"/>
          </a:xfrm>
        </p:grpSpPr>
        <p:pic>
          <p:nvPicPr>
            <p:cNvPr id="160" name="" descr=""/>
            <p:cNvPicPr/>
            <p:nvPr/>
          </p:nvPicPr>
          <p:blipFill>
            <a:blip r:embed="rId6"/>
            <a:stretch/>
          </p:blipFill>
          <p:spPr>
            <a:xfrm>
              <a:off x="3737520" y="2892600"/>
              <a:ext cx="1440360" cy="12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635280" y="4143960"/>
              <a:ext cx="271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nners pubblicita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426360" y="2892600"/>
            <a:ext cx="2717640" cy="1558440"/>
            <a:chOff x="6426360" y="2892600"/>
            <a:chExt cx="2717640" cy="1558440"/>
          </a:xfrm>
        </p:grpSpPr>
        <p:pic>
          <p:nvPicPr>
            <p:cNvPr id="163" name="" descr=""/>
            <p:cNvPicPr/>
            <p:nvPr/>
          </p:nvPicPr>
          <p:blipFill>
            <a:blip r:embed="rId7"/>
            <a:stretch/>
          </p:blipFill>
          <p:spPr>
            <a:xfrm>
              <a:off x="6499800" y="2892600"/>
              <a:ext cx="1458000" cy="12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426360" y="4143960"/>
              <a:ext cx="271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n /registr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990720" y="4421160"/>
            <a:ext cx="2717640" cy="1627200"/>
            <a:chOff x="990720" y="4421160"/>
            <a:chExt cx="2717640" cy="1627200"/>
          </a:xfrm>
        </p:grpSpPr>
        <p:pic>
          <p:nvPicPr>
            <p:cNvPr id="166" name="" descr=""/>
            <p:cNvPicPr/>
            <p:nvPr/>
          </p:nvPicPr>
          <p:blipFill>
            <a:blip r:embed="rId8"/>
            <a:stretch/>
          </p:blipFill>
          <p:spPr>
            <a:xfrm>
              <a:off x="1063800" y="4421160"/>
              <a:ext cx="1458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990720" y="5741280"/>
              <a:ext cx="271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pping c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635280" y="4473720"/>
            <a:ext cx="2718000" cy="1575000"/>
            <a:chOff x="3635280" y="4473720"/>
            <a:chExt cx="2718000" cy="1575000"/>
          </a:xfrm>
        </p:grpSpPr>
        <p:pic>
          <p:nvPicPr>
            <p:cNvPr id="169" name="" descr=""/>
            <p:cNvPicPr/>
            <p:nvPr/>
          </p:nvPicPr>
          <p:blipFill>
            <a:blip r:embed="rId9"/>
            <a:stretch/>
          </p:blipFill>
          <p:spPr>
            <a:xfrm>
              <a:off x="3720960" y="4473720"/>
              <a:ext cx="145692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635280" y="5741640"/>
              <a:ext cx="271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426360" y="4491000"/>
            <a:ext cx="2717640" cy="1557720"/>
            <a:chOff x="6426360" y="4491000"/>
            <a:chExt cx="2717640" cy="1557720"/>
          </a:xfrm>
        </p:grpSpPr>
        <p:pic>
          <p:nvPicPr>
            <p:cNvPr id="172" name="" descr=""/>
            <p:cNvPicPr/>
            <p:nvPr/>
          </p:nvPicPr>
          <p:blipFill>
            <a:blip r:embed="rId10"/>
            <a:stretch/>
          </p:blipFill>
          <p:spPr>
            <a:xfrm>
              <a:off x="6499800" y="4491000"/>
              <a:ext cx="1458000" cy="12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426360" y="5741640"/>
              <a:ext cx="271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s ai prodot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066680" y="62485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ard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10001" r="24394" b="14446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0" t="10001" r="25833" b="27780"/>
          <a:stretch/>
        </p:blipFill>
        <p:spPr>
          <a:xfrm>
            <a:off x="0" y="114480"/>
            <a:ext cx="914400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637" t="10840" r="21792" b="4128"/>
          <a:stretch/>
        </p:blipFill>
        <p:spPr>
          <a:xfrm>
            <a:off x="228600" y="76320"/>
            <a:ext cx="876312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70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m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La rete di comunicazione d’i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L’Enterprise Portal per la comunicazione d’i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se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Extranet port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14400" y="1371240"/>
            <a:ext cx="7238880" cy="4731480"/>
            <a:chOff x="914400" y="1371240"/>
            <a:chExt cx="7238880" cy="4731480"/>
          </a:xfrm>
        </p:grpSpPr>
        <p:sp>
          <p:nvSpPr>
            <p:cNvPr id="184" name=""/>
            <p:cNvSpPr/>
            <p:nvPr/>
          </p:nvSpPr>
          <p:spPr>
            <a:xfrm>
              <a:off x="5486400" y="4495680"/>
              <a:ext cx="2666880" cy="16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Fornit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Distribut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Ban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800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 …</a:t>
              </a: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it-IT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914400" y="1371240"/>
              <a:ext cx="7162920" cy="4191480"/>
              <a:chOff x="914400" y="1371240"/>
              <a:chExt cx="7162920" cy="419148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5334120" y="2209680"/>
                <a:ext cx="2743200" cy="914400"/>
                <a:chOff x="5334120" y="2209680"/>
                <a:chExt cx="2743200" cy="9144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400800" y="2209680"/>
                  <a:ext cx="1676520" cy="914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ffffff"/>
                      </a:solidFill>
                      <a:latin typeface="Arial"/>
                    </a:rPr>
                    <a:t>Ester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334120" y="2362320"/>
                  <a:ext cx="1066680" cy="685800"/>
                </a:xfrm>
                <a:prstGeom prst="leftRightArrow">
                  <a:avLst>
                    <a:gd name="adj1" fmla="val 50000"/>
                    <a:gd name="adj2" fmla="val 30964"/>
                  </a:avLst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914400" y="1371240"/>
                <a:ext cx="5184000" cy="4191480"/>
                <a:chOff x="914400" y="1371240"/>
                <a:chExt cx="5184000" cy="41914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57600" y="1905120"/>
                  <a:ext cx="1676520" cy="1676160"/>
                </a:xfrm>
                <a:prstGeom prst="ellipse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ffffff"/>
                      </a:solidFill>
                      <a:latin typeface="Arial"/>
                    </a:rPr>
                    <a:t>Impre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914400" y="2209680"/>
                  <a:ext cx="2743200" cy="914400"/>
                  <a:chOff x="914400" y="2209680"/>
                  <a:chExt cx="2743200" cy="9144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2590920" y="2362320"/>
                    <a:ext cx="1066680" cy="685800"/>
                  </a:xfrm>
                  <a:prstGeom prst="leftRightArrow">
                    <a:avLst>
                      <a:gd name="adj1" fmla="val 50000"/>
                      <a:gd name="adj2" fmla="val 30964"/>
                    </a:avLst>
                  </a:pr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914400" y="2209680"/>
                    <a:ext cx="1676520" cy="914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ntern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3733920" y="3581280"/>
                  <a:ext cx="1676160" cy="1981440"/>
                  <a:chOff x="3733920" y="3581280"/>
                  <a:chExt cx="1676160" cy="19814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3733920" y="4648320"/>
                    <a:ext cx="1676160" cy="914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ffffff"/>
                        </a:solidFill>
                        <a:latin typeface="Arial"/>
                      </a:rPr>
                      <a:t>Partne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3999960" y="3772080"/>
                    <a:ext cx="1067040" cy="685440"/>
                  </a:xfrm>
                  <a:prstGeom prst="leftRightArrow">
                    <a:avLst>
                      <a:gd name="adj1" fmla="val 50000"/>
                      <a:gd name="adj2" fmla="val 30990"/>
                    </a:avLst>
                  </a:pr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>
                  <a:off x="3200400" y="3886200"/>
                  <a:ext cx="2590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ff0000"/>
                      </a:solidFill>
                      <a:latin typeface="Arial"/>
                    </a:rPr>
                    <a:t>EXTRA</a:t>
                  </a:r>
                  <a:r>
                    <a:rPr b="1" lang="it-IT" sz="2400" spc="-1" strike="noStrike">
                      <a:solidFill>
                        <a:srgbClr val="3333cc"/>
                      </a:solidFill>
                      <a:latin typeface="Arial"/>
                    </a:rPr>
                    <a:t>NE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6200000">
                  <a:off x="4573080" y="2436840"/>
                  <a:ext cx="2590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3333cc"/>
                      </a:solidFill>
                      <a:latin typeface="Arial"/>
                    </a:rPr>
                    <a:t>INTERNE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16200000">
                  <a:off x="1829880" y="2513160"/>
                  <a:ext cx="2590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ff0000"/>
                      </a:solidFill>
                      <a:latin typeface="Arial"/>
                    </a:rPr>
                    <a:t>INTRA</a:t>
                  </a:r>
                  <a:r>
                    <a:rPr b="1" lang="it-IT" sz="2400" spc="-1" strike="noStrike">
                      <a:solidFill>
                        <a:srgbClr val="3333cc"/>
                      </a:solidFill>
                      <a:latin typeface="Arial"/>
                    </a:rPr>
                    <a:t>NE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0" name=""/>
          <p:cNvSpPr/>
          <p:nvPr/>
        </p:nvSpPr>
        <p:spPr>
          <a:xfrm rot="5400000">
            <a:off x="3962160" y="2285640"/>
            <a:ext cx="106704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Extranet 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752480"/>
            <a:ext cx="2133360" cy="1828800"/>
          </a:xfrm>
          <a:prstGeom prst="wedgeRectCallout">
            <a:avLst>
              <a:gd name="adj1" fmla="val 95236"/>
              <a:gd name="adj2" fmla="val 31250"/>
            </a:avLst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izi B2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-market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-proc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ntranet portal (Enterprise Portal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14400" y="1371240"/>
            <a:ext cx="7162920" cy="4191480"/>
            <a:chOff x="914400" y="1371240"/>
            <a:chExt cx="7162920" cy="4191480"/>
          </a:xfrm>
        </p:grpSpPr>
        <p:sp>
          <p:nvSpPr>
            <p:cNvPr id="204" name=""/>
            <p:cNvSpPr/>
            <p:nvPr/>
          </p:nvSpPr>
          <p:spPr>
            <a:xfrm>
              <a:off x="3657600" y="1905120"/>
              <a:ext cx="1676520" cy="1676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Arial"/>
                </a:rPr>
                <a:t>Impr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914400" y="2209680"/>
              <a:ext cx="2743200" cy="914400"/>
              <a:chOff x="914400" y="2209680"/>
              <a:chExt cx="2743200" cy="914400"/>
            </a:xfrm>
          </p:grpSpPr>
          <p:sp>
            <p:nvSpPr>
              <p:cNvPr id="206" name=""/>
              <p:cNvSpPr/>
              <p:nvPr/>
            </p:nvSpPr>
            <p:spPr>
              <a:xfrm>
                <a:off x="2590920" y="2362320"/>
                <a:ext cx="1066680" cy="685800"/>
              </a:xfrm>
              <a:prstGeom prst="leftRightArrow">
                <a:avLst>
                  <a:gd name="adj1" fmla="val 50000"/>
                  <a:gd name="adj2" fmla="val 30964"/>
                </a:avLst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914400" y="2209680"/>
                <a:ext cx="1676520" cy="9144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Inte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334120" y="2209680"/>
              <a:ext cx="2743200" cy="914400"/>
              <a:chOff x="5334120" y="2209680"/>
              <a:chExt cx="2743200" cy="914400"/>
            </a:xfrm>
          </p:grpSpPr>
          <p:sp>
            <p:nvSpPr>
              <p:cNvPr id="209" name=""/>
              <p:cNvSpPr/>
              <p:nvPr/>
            </p:nvSpPr>
            <p:spPr>
              <a:xfrm>
                <a:off x="6400800" y="2209680"/>
                <a:ext cx="1676520" cy="9144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Este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34120" y="2362320"/>
                <a:ext cx="1066680" cy="685800"/>
              </a:xfrm>
              <a:prstGeom prst="leftRightArrow">
                <a:avLst>
                  <a:gd name="adj1" fmla="val 50000"/>
                  <a:gd name="adj2" fmla="val 30964"/>
                </a:avLst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733920" y="3581280"/>
              <a:ext cx="1676160" cy="1981440"/>
              <a:chOff x="3733920" y="3581280"/>
              <a:chExt cx="1676160" cy="1981440"/>
            </a:xfrm>
          </p:grpSpPr>
          <p:sp>
            <p:nvSpPr>
              <p:cNvPr id="212" name=""/>
              <p:cNvSpPr/>
              <p:nvPr/>
            </p:nvSpPr>
            <p:spPr>
              <a:xfrm>
                <a:off x="3733920" y="4648320"/>
                <a:ext cx="1676160" cy="9144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Partn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6200000">
                <a:off x="3999960" y="3772080"/>
                <a:ext cx="1067040" cy="685440"/>
              </a:xfrm>
              <a:prstGeom prst="leftRightArrow">
                <a:avLst>
                  <a:gd name="adj1" fmla="val 50000"/>
                  <a:gd name="adj2" fmla="val 30990"/>
                </a:avLst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914400" y="2895480"/>
              <a:ext cx="266688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Dipenden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Consulen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Org. Sindaca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800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 …</a:t>
              </a:r>
              <a:r>
                <a:rPr b="0" lang="it-IT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00400" y="38862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EXTRA</a:t>
              </a:r>
              <a:r>
                <a:rPr b="1" lang="it-IT" sz="2400" spc="-1" strike="noStrike">
                  <a:solidFill>
                    <a:srgbClr val="3333cc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4573080" y="24368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33cc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1829880" y="251316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INTRA</a:t>
              </a:r>
              <a:r>
                <a:rPr b="1" lang="it-IT" sz="2400" spc="-1" strike="noStrike">
                  <a:solidFill>
                    <a:srgbClr val="3333cc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352680" y="1600200"/>
            <a:ext cx="114300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Intranet 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ntranet portal: funzion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605400" y="1239480"/>
            <a:ext cx="5538600" cy="3077280"/>
            <a:chOff x="3605400" y="1239480"/>
            <a:chExt cx="5538600" cy="3077280"/>
          </a:xfrm>
        </p:grpSpPr>
        <p:sp>
          <p:nvSpPr>
            <p:cNvPr id="221" name=""/>
            <p:cNvSpPr/>
            <p:nvPr/>
          </p:nvSpPr>
          <p:spPr>
            <a:xfrm rot="19264800">
              <a:off x="3781440" y="1980720"/>
              <a:ext cx="2924280" cy="15940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7120" y="1600200"/>
              <a:ext cx="2666880" cy="15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Arial"/>
                </a:rPr>
                <a:t>WORKSPACE </a:t>
              </a:r>
              <a:br>
                <a:rPr sz="2000"/>
              </a:br>
              <a:r>
                <a:rPr b="1" lang="it-IT" sz="2000" spc="-1" strike="noStrike">
                  <a:solidFill>
                    <a:srgbClr val="3333cc"/>
                  </a:solidFill>
                  <a:latin typeface="Arial"/>
                </a:rPr>
                <a:t>POR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Servizi, strumenti e </a:t>
              </a:r>
              <a:br>
                <a:rPr sz="1600"/>
              </a:b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applicazioni per lo </a:t>
              </a:r>
              <a:br>
                <a:rPr sz="1600"/>
              </a:b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svolgimento del lavo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209680" y="2305080"/>
            <a:ext cx="4496040" cy="3569760"/>
            <a:chOff x="2209680" y="2305080"/>
            <a:chExt cx="4496040" cy="3569760"/>
          </a:xfrm>
        </p:grpSpPr>
        <p:sp>
          <p:nvSpPr>
            <p:cNvPr id="224" name=""/>
            <p:cNvSpPr/>
            <p:nvPr/>
          </p:nvSpPr>
          <p:spPr>
            <a:xfrm rot="16453200">
              <a:off x="3124800" y="2885040"/>
              <a:ext cx="2741760" cy="16988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09680" y="5105520"/>
              <a:ext cx="44960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Arial"/>
                </a:rPr>
                <a:t>KNOWLEDGE POR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Servizi per la gestione della conoscenz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04920" y="1352160"/>
            <a:ext cx="5098320" cy="2978280"/>
            <a:chOff x="304920" y="1352160"/>
            <a:chExt cx="5098320" cy="2978280"/>
          </a:xfrm>
        </p:grpSpPr>
        <p:sp>
          <p:nvSpPr>
            <p:cNvPr id="227" name=""/>
            <p:cNvSpPr/>
            <p:nvPr/>
          </p:nvSpPr>
          <p:spPr>
            <a:xfrm rot="12890400">
              <a:off x="2285640" y="2044080"/>
              <a:ext cx="2924280" cy="15937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1600200"/>
              <a:ext cx="213336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Arial"/>
                </a:rPr>
                <a:t>CORPORATE </a:t>
              </a:r>
              <a:br>
                <a:rPr sz="2000"/>
              </a:br>
              <a:r>
                <a:rPr b="1" lang="it-IT" sz="2000" spc="-1" strike="noStrike">
                  <a:solidFill>
                    <a:srgbClr val="3333cc"/>
                  </a:solidFill>
                  <a:latin typeface="Arial"/>
                </a:rPr>
                <a:t>POR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Servizi informativi </a:t>
              </a:r>
              <a:br>
                <a:rPr sz="1600"/>
              </a:b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e di comunic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52600" y="795240"/>
            <a:ext cx="6237360" cy="5106960"/>
            <a:chOff x="1452600" y="795240"/>
            <a:chExt cx="6237360" cy="5106960"/>
          </a:xfrm>
        </p:grpSpPr>
        <p:grpSp>
          <p:nvGrpSpPr>
            <p:cNvPr id="230" name=""/>
            <p:cNvGrpSpPr/>
            <p:nvPr/>
          </p:nvGrpSpPr>
          <p:grpSpPr>
            <a:xfrm>
              <a:off x="1452600" y="795240"/>
              <a:ext cx="6237360" cy="5106960"/>
              <a:chOff x="1452600" y="795240"/>
              <a:chExt cx="6237360" cy="5106960"/>
            </a:xfrm>
          </p:grpSpPr>
          <p:graphicFrame>
            <p:nvGraphicFramePr>
              <p:cNvPr id="231" name=""/>
              <p:cNvGraphicFramePr/>
              <p:nvPr/>
            </p:nvGraphicFramePr>
            <p:xfrm>
              <a:off x="1452600" y="795240"/>
              <a:ext cx="6237360" cy="5106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52600" y="795240"/>
                        <a:ext cx="6237360" cy="510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3" name=""/>
              <p:cNvSpPr/>
              <p:nvPr/>
            </p:nvSpPr>
            <p:spPr>
              <a:xfrm rot="16200000">
                <a:off x="7067520" y="1846080"/>
                <a:ext cx="903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Source: S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720880" y="4957920"/>
              <a:ext cx="657000" cy="688320"/>
              <a:chOff x="2720880" y="4957920"/>
              <a:chExt cx="657000" cy="688320"/>
            </a:xfrm>
          </p:grpSpPr>
          <p:pic>
            <p:nvPicPr>
              <p:cNvPr id="235" name="Palm_VIIx_32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0880" y="4957920"/>
                <a:ext cx="311400" cy="43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7650_index_p1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5240" y="5138280"/>
                <a:ext cx="332640" cy="50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tranet portal: non solo l’Azi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6980760" y="2824920"/>
            <a:ext cx="603000" cy="700200"/>
          </a:xfrm>
          <a:prstGeom prst="parallelogram">
            <a:avLst>
              <a:gd name="adj" fmla="val 13231"/>
            </a:avLst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4162680" y="973800"/>
            <a:ext cx="603360" cy="700200"/>
          </a:xfrm>
          <a:prstGeom prst="parallelogram">
            <a:avLst>
              <a:gd name="adj" fmla="val 13231"/>
            </a:avLst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1740600" y="1859760"/>
            <a:ext cx="603000" cy="887400"/>
          </a:xfrm>
          <a:prstGeom prst="parallelogram">
            <a:avLst>
              <a:gd name="adj" fmla="val 17366"/>
            </a:avLst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HV2001" descr=""/>
          <p:cNvPicPr/>
          <p:nvPr/>
        </p:nvPicPr>
        <p:blipFill>
          <a:blip r:embed="rId1"/>
          <a:srcRect l="16510" t="1493" r="4639" b="18720"/>
          <a:stretch/>
        </p:blipFill>
        <p:spPr>
          <a:xfrm>
            <a:off x="1676520" y="961920"/>
            <a:ext cx="5835600" cy="4921200"/>
          </a:xfrm>
          <a:prstGeom prst="rect">
            <a:avLst/>
          </a:prstGeom>
          <a:ln w="0">
            <a:noFill/>
          </a:ln>
        </p:spPr>
      </p:pic>
      <p:pic>
        <p:nvPicPr>
          <p:cNvPr id="242" name="Palm_VIIx_32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419040" cy="592200"/>
          </a:xfrm>
          <a:prstGeom prst="rect">
            <a:avLst/>
          </a:prstGeom>
          <a:ln w="0">
            <a:noFill/>
          </a:ln>
        </p:spPr>
      </p:pic>
      <p:pic>
        <p:nvPicPr>
          <p:cNvPr id="243" name="7650_index_p1" descr=""/>
          <p:cNvPicPr/>
          <p:nvPr/>
        </p:nvPicPr>
        <p:blipFill>
          <a:blip r:embed="rId3"/>
          <a:stretch/>
        </p:blipFill>
        <p:spPr>
          <a:xfrm>
            <a:off x="1828800" y="5105520"/>
            <a:ext cx="447840" cy="684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ntranet portal: architettur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1178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Sistema informativo aziend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943600" y="3276720"/>
            <a:ext cx="3352680" cy="1874880"/>
            <a:chOff x="5943600" y="3276720"/>
            <a:chExt cx="3352680" cy="1874880"/>
          </a:xfrm>
        </p:grpSpPr>
        <p:sp>
          <p:nvSpPr>
            <p:cNvPr id="247" name=""/>
            <p:cNvSpPr/>
            <p:nvPr/>
          </p:nvSpPr>
          <p:spPr>
            <a:xfrm>
              <a:off x="5943600" y="327672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Componenti di infrastrut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3962520"/>
              <a:ext cx="28191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Document 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Work Flow 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Collabo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Enterprise Application Integ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Search Eng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 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0600" y="4724280"/>
            <a:ext cx="2732040" cy="1251360"/>
            <a:chOff x="4800600" y="4724280"/>
            <a:chExt cx="2732040" cy="1251360"/>
          </a:xfrm>
        </p:grpSpPr>
        <p:sp>
          <p:nvSpPr>
            <p:cNvPr id="250" name=""/>
            <p:cNvSpPr/>
            <p:nvPr/>
          </p:nvSpPr>
          <p:spPr>
            <a:xfrm>
              <a:off x="4800600" y="4724280"/>
              <a:ext cx="175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Interfaccia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Arial"/>
                </a:rPr>
                <a:t>uten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81480" y="5334120"/>
              <a:ext cx="2351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Controllo acces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Personalizza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Multicanalit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286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Source: S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l sistema informativo aziendale: pri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219320" y="1015920"/>
            <a:ext cx="670536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990720" y="914400"/>
            <a:ext cx="7009200" cy="5713560"/>
            <a:chOff x="990720" y="914400"/>
            <a:chExt cx="7009200" cy="5713560"/>
          </a:xfrm>
        </p:grpSpPr>
        <p:grpSp>
          <p:nvGrpSpPr>
            <p:cNvPr id="256" name=""/>
            <p:cNvGrpSpPr/>
            <p:nvPr/>
          </p:nvGrpSpPr>
          <p:grpSpPr>
            <a:xfrm>
              <a:off x="990720" y="914400"/>
              <a:ext cx="7009200" cy="5713560"/>
              <a:chOff x="990720" y="914400"/>
              <a:chExt cx="7009200" cy="571356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990720" y="914400"/>
                <a:ext cx="7009200" cy="5713560"/>
                <a:chOff x="990720" y="914400"/>
                <a:chExt cx="7009200" cy="5713560"/>
              </a:xfrm>
            </p:grpSpPr>
            <p:pic>
              <p:nvPicPr>
                <p:cNvPr id="25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90720" y="914400"/>
                  <a:ext cx="7009200" cy="571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" name=""/>
                <p:cNvSpPr/>
                <p:nvPr/>
              </p:nvSpPr>
              <p:spPr>
                <a:xfrm>
                  <a:off x="4228920" y="2823840"/>
                  <a:ext cx="649800" cy="826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60" name=""/>
              <p:cNvGraphicFramePr/>
              <p:nvPr/>
            </p:nvGraphicFramePr>
            <p:xfrm>
              <a:off x="3744720" y="2545920"/>
              <a:ext cx="1174680" cy="12567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6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744720" y="2545920"/>
                        <a:ext cx="1174680" cy="125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62" name=""/>
            <p:cNvSpPr/>
            <p:nvPr/>
          </p:nvSpPr>
          <p:spPr>
            <a:xfrm>
              <a:off x="4522320" y="3750120"/>
              <a:ext cx="73080" cy="34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l sistema informativo aziendale: dop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cww6" descr=""/>
          <p:cNvPicPr/>
          <p:nvPr/>
        </p:nvPicPr>
        <p:blipFill>
          <a:blip r:embed="rId1"/>
          <a:stretch/>
        </p:blipFill>
        <p:spPr>
          <a:xfrm>
            <a:off x="414360" y="914400"/>
            <a:ext cx="8381880" cy="4937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920" y="993600"/>
            <a:ext cx="1392120" cy="238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400" y="1260360"/>
            <a:ext cx="5592960" cy="1177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4120" y="1276200"/>
            <a:ext cx="1382760" cy="1114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5280" y="1574640"/>
            <a:ext cx="3343320" cy="703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o istituzionale Etno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nk al sito 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120" y="1246320"/>
            <a:ext cx="17136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76240" y="1231920"/>
            <a:ext cx="221328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on chi comunica l’impre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905120"/>
            <a:ext cx="1676520" cy="167616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2209680"/>
            <a:ext cx="2743200" cy="914400"/>
            <a:chOff x="914400" y="2209680"/>
            <a:chExt cx="2743200" cy="914400"/>
          </a:xfrm>
        </p:grpSpPr>
        <p:sp>
          <p:nvSpPr>
            <p:cNvPr id="56" name=""/>
            <p:cNvSpPr/>
            <p:nvPr/>
          </p:nvSpPr>
          <p:spPr>
            <a:xfrm>
              <a:off x="25909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In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334120" y="2209680"/>
            <a:ext cx="2743200" cy="914400"/>
            <a:chOff x="5334120" y="2209680"/>
            <a:chExt cx="2743200" cy="914400"/>
          </a:xfrm>
        </p:grpSpPr>
        <p:sp>
          <p:nvSpPr>
            <p:cNvPr id="59" name=""/>
            <p:cNvSpPr/>
            <p:nvPr/>
          </p:nvSpPr>
          <p:spPr>
            <a:xfrm>
              <a:off x="64008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Es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41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733920" y="3581280"/>
            <a:ext cx="1676160" cy="1981440"/>
            <a:chOff x="3733920" y="3581280"/>
            <a:chExt cx="1676160" cy="1981440"/>
          </a:xfrm>
        </p:grpSpPr>
        <p:sp>
          <p:nvSpPr>
            <p:cNvPr id="62" name=""/>
            <p:cNvSpPr/>
            <p:nvPr/>
          </p:nvSpPr>
          <p:spPr>
            <a:xfrm>
              <a:off x="3733920" y="4648320"/>
              <a:ext cx="167616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6200000">
              <a:off x="3999960" y="3772080"/>
              <a:ext cx="1067040" cy="685440"/>
            </a:xfrm>
            <a:prstGeom prst="leftRightArrow">
              <a:avLst>
                <a:gd name="adj1" fmla="val 50000"/>
                <a:gd name="adj2" fmla="val 30990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477120" y="2971800"/>
            <a:ext cx="266688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C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Invest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Altre organizz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Pubblico gene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895480"/>
            <a:ext cx="2666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Dipen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Consu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Org. Sindac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…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495680"/>
            <a:ext cx="266688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Forn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Distribu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Ban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62200" y="1351080"/>
            <a:ext cx="596880" cy="22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47800" y="2351160"/>
            <a:ext cx="598680" cy="20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346480" y="1574640"/>
          <a:ext cx="3336840" cy="279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6480" y="1574640"/>
                    <a:ext cx="3336840" cy="27990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8520" y="2386080"/>
            <a:ext cx="1377720" cy="102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9440" y="133992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346480" y="1574640"/>
          <a:ext cx="3311280" cy="24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6480" y="1574640"/>
                    <a:ext cx="3311280" cy="24958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1736640" y="3375000"/>
            <a:ext cx="609840" cy="71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776240" y="1574640"/>
            <a:ext cx="570240" cy="81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2397240"/>
            <a:ext cx="1382760" cy="968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346480" y="1574640"/>
          <a:ext cx="3336840" cy="33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6480" y="1574640"/>
                    <a:ext cx="3336840" cy="33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 flipV="1">
            <a:off x="1776240" y="1574280"/>
            <a:ext cx="570240" cy="183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76240" y="4809960"/>
            <a:ext cx="57024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787400" y="24130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7120" y="2425680"/>
            <a:ext cx="1392480" cy="75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54800" y="2425680"/>
            <a:ext cx="1378080" cy="75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46480" y="2844720"/>
            <a:ext cx="4456080" cy="409680"/>
          </a:xfrm>
          <a:prstGeom prst="rect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Arial"/>
              </a:rPr>
              <a:t>STRUMENTI DI DESK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93840" y="3201840"/>
          <a:ext cx="8342280" cy="15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3201840"/>
                    <a:ext cx="8342280" cy="15400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640" y="48211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4120" y="1312920"/>
            <a:ext cx="1378080" cy="10731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120" y="3411360"/>
            <a:ext cx="1382760" cy="14590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46480" y="1574640"/>
          <a:ext cx="2541600" cy="288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6480" y="1574640"/>
                    <a:ext cx="2541600" cy="288792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H="1">
            <a:off x="4928760" y="1258920"/>
            <a:ext cx="2398680" cy="31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863960" y="2901960"/>
            <a:ext cx="2463840" cy="160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74800" y="2400480"/>
            <a:ext cx="5607000" cy="156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24040" y="3295800"/>
            <a:ext cx="5675400" cy="19875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Comunicazioni aziend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riazioni organizz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unicazioni istituz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Comunicazioni di serv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unicazioni interne relative ai servizi aziend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22600" y="3935520"/>
            <a:ext cx="861840" cy="141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76240" y="2425680"/>
            <a:ext cx="8748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27320" y="2340000"/>
            <a:ext cx="4641840" cy="10695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Novità dal C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ggiornamenti effettuati alle singole sezioni del C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805040" y="3417840"/>
            <a:ext cx="434880" cy="52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78520" y="3432240"/>
            <a:ext cx="46368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7353360" y="2895480"/>
            <a:ext cx="1382760" cy="283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340760" y="5738760"/>
            <a:ext cx="1392120" cy="117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8840" y="2352600"/>
            <a:ext cx="4297320" cy="10695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SAI CHE ..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unicazioni relative ai progetti realizzati da Etno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31080" y="2371680"/>
            <a:ext cx="43668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91480" y="3459240"/>
            <a:ext cx="450720" cy="2252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4640" y="4808520"/>
            <a:ext cx="1382760" cy="942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4120" y="1300320"/>
            <a:ext cx="1378080" cy="10731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373480" y="3944880"/>
            <a:ext cx="4641840" cy="13744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SPAZIO INFOGRA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anner per le comunicazioni di novità relative a eventi, sponsorizzazioni, iniziative speci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776240" y="3936960"/>
            <a:ext cx="584280" cy="9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1789200" y="5287680"/>
            <a:ext cx="582480" cy="46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7353360" y="2895480"/>
            <a:ext cx="1382760" cy="2847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68320" y="3944880"/>
            <a:ext cx="5592960" cy="1785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4640" y="4808520"/>
            <a:ext cx="1382760" cy="93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720" y="5738760"/>
            <a:ext cx="8363160" cy="119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68560" y="3240000"/>
            <a:ext cx="4641840" cy="16794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Informazioni v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tis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mail di riferimento per segnal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84120" y="4930920"/>
            <a:ext cx="1684440" cy="79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6678360" y="4916520"/>
            <a:ext cx="2041560" cy="80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on chi comunica l’impre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1905120"/>
            <a:ext cx="1676520" cy="167616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14400" y="2209680"/>
            <a:ext cx="2743200" cy="914400"/>
            <a:chOff x="914400" y="2209680"/>
            <a:chExt cx="2743200" cy="914400"/>
          </a:xfrm>
        </p:grpSpPr>
        <p:sp>
          <p:nvSpPr>
            <p:cNvPr id="70" name=""/>
            <p:cNvSpPr/>
            <p:nvPr/>
          </p:nvSpPr>
          <p:spPr>
            <a:xfrm>
              <a:off x="25909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144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In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334120" y="2209680"/>
            <a:ext cx="2743200" cy="914400"/>
            <a:chOff x="5334120" y="2209680"/>
            <a:chExt cx="2743200" cy="914400"/>
          </a:xfrm>
        </p:grpSpPr>
        <p:sp>
          <p:nvSpPr>
            <p:cNvPr id="73" name=""/>
            <p:cNvSpPr/>
            <p:nvPr/>
          </p:nvSpPr>
          <p:spPr>
            <a:xfrm>
              <a:off x="64008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Es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733920" y="3581280"/>
            <a:ext cx="1676160" cy="1981440"/>
            <a:chOff x="3733920" y="3581280"/>
            <a:chExt cx="1676160" cy="1981440"/>
          </a:xfrm>
        </p:grpSpPr>
        <p:sp>
          <p:nvSpPr>
            <p:cNvPr id="76" name=""/>
            <p:cNvSpPr/>
            <p:nvPr/>
          </p:nvSpPr>
          <p:spPr>
            <a:xfrm>
              <a:off x="3733920" y="4648320"/>
              <a:ext cx="167616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3999960" y="3772080"/>
              <a:ext cx="1067040" cy="685440"/>
            </a:xfrm>
            <a:prstGeom prst="leftRightArrow">
              <a:avLst>
                <a:gd name="adj1" fmla="val 50000"/>
                <a:gd name="adj2" fmla="val 30990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477120" y="2971800"/>
            <a:ext cx="266688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C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Invest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Altre organizz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Pubblico gene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895480"/>
            <a:ext cx="2666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Dipen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Consu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Org. Sindac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…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495680"/>
            <a:ext cx="266688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Forn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Distribu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Ban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1523880"/>
            <a:ext cx="6400800" cy="4496040"/>
          </a:xfrm>
          <a:prstGeom prst="ellipse">
            <a:avLst/>
          </a:prstGeom>
          <a:solidFill>
            <a:srgbClr val="dddddd">
              <a:alpha val="50000"/>
            </a:srgbClr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a rete complessa di relazioni,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iascuna con specificità propri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(contenuti / accesso / cana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’evoluzio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914400" y="1371240"/>
            <a:ext cx="8229600" cy="4731480"/>
            <a:chOff x="914400" y="1371240"/>
            <a:chExt cx="8229600" cy="4731480"/>
          </a:xfrm>
        </p:grpSpPr>
        <p:sp>
          <p:nvSpPr>
            <p:cNvPr id="451" name=""/>
            <p:cNvSpPr/>
            <p:nvPr/>
          </p:nvSpPr>
          <p:spPr>
            <a:xfrm>
              <a:off x="3657600" y="1905120"/>
              <a:ext cx="1676520" cy="1676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Arial"/>
                </a:rPr>
                <a:t>Impr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914400" y="1371240"/>
              <a:ext cx="8229600" cy="4731480"/>
              <a:chOff x="914400" y="1371240"/>
              <a:chExt cx="8229600" cy="473148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914400" y="2209680"/>
                <a:ext cx="2743200" cy="914400"/>
                <a:chOff x="914400" y="2209680"/>
                <a:chExt cx="2743200" cy="9144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2590920" y="2362320"/>
                  <a:ext cx="1066680" cy="685800"/>
                </a:xfrm>
                <a:prstGeom prst="leftRightArrow">
                  <a:avLst>
                    <a:gd name="adj1" fmla="val 50000"/>
                    <a:gd name="adj2" fmla="val 30964"/>
                  </a:avLst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914400" y="2209680"/>
                  <a:ext cx="1676520" cy="914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ffffff"/>
                      </a:solidFill>
                      <a:latin typeface="Arial"/>
                    </a:rPr>
                    <a:t>Inter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5334120" y="2209680"/>
                <a:ext cx="2743200" cy="914400"/>
                <a:chOff x="5334120" y="2209680"/>
                <a:chExt cx="2743200" cy="9144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400800" y="2209680"/>
                  <a:ext cx="1676520" cy="914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ffffff"/>
                      </a:solidFill>
                      <a:latin typeface="Arial"/>
                    </a:rPr>
                    <a:t>Ester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334120" y="2362320"/>
                  <a:ext cx="1066680" cy="685800"/>
                </a:xfrm>
                <a:prstGeom prst="leftRightArrow">
                  <a:avLst>
                    <a:gd name="adj1" fmla="val 50000"/>
                    <a:gd name="adj2" fmla="val 30964"/>
                  </a:avLst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733920" y="3581280"/>
                <a:ext cx="1676160" cy="1981440"/>
                <a:chOff x="3733920" y="3581280"/>
                <a:chExt cx="1676160" cy="19814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733920" y="4648320"/>
                  <a:ext cx="1676160" cy="914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ffffff"/>
                      </a:solidFill>
                      <a:latin typeface="Arial"/>
                    </a:rPr>
                    <a:t>Part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16200000">
                  <a:off x="3999960" y="3772080"/>
                  <a:ext cx="1067040" cy="685440"/>
                </a:xfrm>
                <a:prstGeom prst="leftRightArrow">
                  <a:avLst>
                    <a:gd name="adj1" fmla="val 50000"/>
                    <a:gd name="adj2" fmla="val 30990"/>
                  </a:avLst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6477120" y="2971800"/>
                <a:ext cx="2666880" cy="183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4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spcBef>
                    <a:spcPts val="1500"/>
                  </a:spcBef>
                  <a:buClr>
                    <a:srgbClr val="3333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Client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spcBef>
                    <a:spcPts val="1500"/>
                  </a:spcBef>
                  <a:buClr>
                    <a:srgbClr val="3333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Investitor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spcBef>
                    <a:spcPts val="1500"/>
                  </a:spcBef>
                  <a:buClr>
                    <a:srgbClr val="3333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Altre organizzazion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spcBef>
                    <a:spcPts val="1500"/>
                  </a:spcBef>
                  <a:buClr>
                    <a:srgbClr val="3333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Pubblico generic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spcBef>
                    <a:spcPts val="1800"/>
                  </a:spcBef>
                  <a:buClr>
                    <a:srgbClr val="3333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…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.</a:t>
                </a:r>
                <a:r>
                  <a:rPr b="0" lang="it-IT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14400" y="2895480"/>
                <a:ext cx="2666880" cy="168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500"/>
                  </a:spcBef>
                  <a:buClr>
                    <a:srgbClr val="3333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Dipendent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500"/>
                  </a:spcBef>
                  <a:buClr>
                    <a:srgbClr val="3333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Consulent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500"/>
                  </a:spcBef>
                  <a:buClr>
                    <a:srgbClr val="3333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Org. Sindacal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3333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…</a:t>
                </a:r>
                <a:r>
                  <a:rPr b="0" lang="it-IT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486400" y="4495680"/>
                <a:ext cx="2666880" cy="16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4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500"/>
                  </a:spcBef>
                  <a:buClr>
                    <a:srgbClr val="3333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Fornitor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500"/>
                  </a:spcBef>
                  <a:buClr>
                    <a:srgbClr val="3333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Distributor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500"/>
                  </a:spcBef>
                  <a:buClr>
                    <a:srgbClr val="3333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Banc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800"/>
                  </a:spcBef>
                  <a:buClr>
                    <a:srgbClr val="3333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 …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Arial"/>
                  </a:rPr>
                  <a:t>.</a:t>
                </a:r>
                <a:r>
                  <a:rPr b="0" lang="it-IT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200400" y="388620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ff0000"/>
                    </a:solidFill>
                    <a:latin typeface="Arial"/>
                  </a:rPr>
                  <a:t>EXTRA</a:t>
                </a:r>
                <a:r>
                  <a:rPr b="1" lang="it-IT" sz="2400" spc="-1" strike="noStrike">
                    <a:solidFill>
                      <a:srgbClr val="3333cc"/>
                    </a:solidFill>
                    <a:latin typeface="Arial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6200000">
                <a:off x="4573080" y="243684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3333cc"/>
                    </a:solidFill>
                    <a:latin typeface="Arial"/>
                  </a:rPr>
                  <a:t>INTER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6200000">
                <a:off x="1829880" y="2513160"/>
                <a:ext cx="259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ff0000"/>
                    </a:solidFill>
                    <a:latin typeface="Arial"/>
                  </a:rPr>
                  <a:t>INTRA</a:t>
                </a:r>
                <a:r>
                  <a:rPr b="1" lang="it-IT" sz="2400" spc="-1" strike="noStrike">
                    <a:solidFill>
                      <a:srgbClr val="3333cc"/>
                    </a:solidFill>
                    <a:latin typeface="Arial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4495680" y="1600200"/>
            <a:ext cx="114300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Internet 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52680" y="1600200"/>
            <a:ext cx="114300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Intranet 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5400000">
            <a:off x="3962160" y="2285640"/>
            <a:ext cx="106704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Extranet 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1600200"/>
            <a:ext cx="2286000" cy="236232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ccff"/>
                </a:solidFill>
                <a:latin typeface="Arial"/>
              </a:rPr>
              <a:t>Enterprise </a:t>
            </a:r>
            <a:br>
              <a:rPr sz="2400"/>
            </a:br>
            <a:r>
              <a:rPr b="1" lang="it-IT" sz="2400" spc="-1" strike="noStrike">
                <a:solidFill>
                  <a:srgbClr val="ccccff"/>
                </a:solidFill>
                <a:latin typeface="Arial"/>
              </a:rPr>
              <a:t>Information </a:t>
            </a:r>
            <a:br>
              <a:rPr sz="2400"/>
            </a:br>
            <a:r>
              <a:rPr b="1" lang="it-IT" sz="2400" spc="-1" strike="noStrike">
                <a:solidFill>
                  <a:srgbClr val="ccccff"/>
                </a:solidFill>
                <a:latin typeface="Arial"/>
              </a:rPr>
              <a:t>Portal</a:t>
            </a:r>
            <a:br>
              <a:rPr sz="2400"/>
            </a:br>
            <a:r>
              <a:rPr b="1" lang="it-IT" sz="2400" spc="-1" strike="noStrike">
                <a:solidFill>
                  <a:srgbClr val="ccccff"/>
                </a:solidFill>
                <a:latin typeface="Arial"/>
              </a:rPr>
              <a:t>(E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41200" y="81000"/>
            <a:ext cx="66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 sintes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914400"/>
            <a:ext cx="853452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Un unico portale omogeneo ed integra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tranet /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xtranet /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dove tutti gli ute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fornitori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, partner,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dipendenti, clienti,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spect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, visitatori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ccedono, in forma personalizzata, agli assets aziend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ten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uti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, informa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zioni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, applica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e al patrimonio delle conoscenze dell’azie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capitale intelle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ttraverso diversi canali di acce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web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, mobile network, PDA,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on chi comunica l’impre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1905120"/>
            <a:ext cx="1676520" cy="167616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4400" y="2209680"/>
            <a:ext cx="2743200" cy="914400"/>
            <a:chOff x="914400" y="2209680"/>
            <a:chExt cx="2743200" cy="914400"/>
          </a:xfrm>
        </p:grpSpPr>
        <p:sp>
          <p:nvSpPr>
            <p:cNvPr id="85" name=""/>
            <p:cNvSpPr/>
            <p:nvPr/>
          </p:nvSpPr>
          <p:spPr>
            <a:xfrm>
              <a:off x="25909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144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In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334120" y="2209680"/>
            <a:ext cx="2743200" cy="914400"/>
            <a:chOff x="5334120" y="2209680"/>
            <a:chExt cx="2743200" cy="914400"/>
          </a:xfrm>
        </p:grpSpPr>
        <p:sp>
          <p:nvSpPr>
            <p:cNvPr id="88" name=""/>
            <p:cNvSpPr/>
            <p:nvPr/>
          </p:nvSpPr>
          <p:spPr>
            <a:xfrm>
              <a:off x="64008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Es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41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733920" y="3581280"/>
            <a:ext cx="1676160" cy="1981440"/>
            <a:chOff x="3733920" y="3581280"/>
            <a:chExt cx="1676160" cy="1981440"/>
          </a:xfrm>
        </p:grpSpPr>
        <p:sp>
          <p:nvSpPr>
            <p:cNvPr id="91" name=""/>
            <p:cNvSpPr/>
            <p:nvPr/>
          </p:nvSpPr>
          <p:spPr>
            <a:xfrm>
              <a:off x="3733920" y="4648320"/>
              <a:ext cx="167616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3999960" y="3772080"/>
              <a:ext cx="1067040" cy="685440"/>
            </a:xfrm>
            <a:prstGeom prst="leftRightArrow">
              <a:avLst>
                <a:gd name="adj1" fmla="val 50000"/>
                <a:gd name="adj2" fmla="val 30990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477120" y="2971800"/>
            <a:ext cx="266688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C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Invest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Altre organizz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Pubblico gene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895480"/>
            <a:ext cx="2666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Dipen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Consu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Org. Sindac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…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95680"/>
            <a:ext cx="266688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Forn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Distribu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Ban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XTRA</a:t>
            </a: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573080" y="24368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829880" y="25131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NTRA</a:t>
            </a: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1600200"/>
            <a:ext cx="114300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Internet 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1600200"/>
            <a:ext cx="114300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Intranet 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962160" y="2285640"/>
            <a:ext cx="106704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Extranet 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57600" y="1905120"/>
            <a:ext cx="1676520" cy="167616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14400" y="2209680"/>
            <a:ext cx="2743200" cy="914400"/>
            <a:chOff x="914400" y="2209680"/>
            <a:chExt cx="2743200" cy="914400"/>
          </a:xfrm>
        </p:grpSpPr>
        <p:sp>
          <p:nvSpPr>
            <p:cNvPr id="104" name=""/>
            <p:cNvSpPr/>
            <p:nvPr/>
          </p:nvSpPr>
          <p:spPr>
            <a:xfrm>
              <a:off x="25909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144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In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334120" y="2209680"/>
            <a:ext cx="2743200" cy="914400"/>
            <a:chOff x="5334120" y="2209680"/>
            <a:chExt cx="2743200" cy="914400"/>
          </a:xfrm>
        </p:grpSpPr>
        <p:sp>
          <p:nvSpPr>
            <p:cNvPr id="107" name=""/>
            <p:cNvSpPr/>
            <p:nvPr/>
          </p:nvSpPr>
          <p:spPr>
            <a:xfrm>
              <a:off x="64008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Es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41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733920" y="3581280"/>
            <a:ext cx="1676160" cy="1981440"/>
            <a:chOff x="3733920" y="3581280"/>
            <a:chExt cx="1676160" cy="1981440"/>
          </a:xfrm>
        </p:grpSpPr>
        <p:sp>
          <p:nvSpPr>
            <p:cNvPr id="110" name=""/>
            <p:cNvSpPr/>
            <p:nvPr/>
          </p:nvSpPr>
          <p:spPr>
            <a:xfrm>
              <a:off x="3733920" y="4648320"/>
              <a:ext cx="167616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3999960" y="3772080"/>
              <a:ext cx="1067040" cy="685440"/>
            </a:xfrm>
            <a:prstGeom prst="leftRightArrow">
              <a:avLst>
                <a:gd name="adj1" fmla="val 50000"/>
                <a:gd name="adj2" fmla="val 30990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477120" y="2971800"/>
            <a:ext cx="266688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C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Invest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Altre organizz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Pubblico gene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895480"/>
            <a:ext cx="2666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Dipen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Consu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Org. Sindac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…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495680"/>
            <a:ext cx="266688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Forn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Distribu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Ban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XTRA</a:t>
            </a: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4573080" y="24368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1829880" y="25131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NTRA</a:t>
            </a: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1600200"/>
            <a:ext cx="114300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Internet 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nternet port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523880"/>
            <a:ext cx="3353040" cy="3581640"/>
          </a:xfrm>
          <a:prstGeom prst="wedgeRectCallout">
            <a:avLst>
              <a:gd name="adj1" fmla="val 77509"/>
              <a:gd name="adj2" fmla="val -11393"/>
            </a:avLst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o istituz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o prodotti / servi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r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izi standard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(search, email, language,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sitemap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4572000"/>
            <a:ext cx="274320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e-comm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5934" r="14611" b="28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6251" r="16667" b="10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5934" r="14611" b="28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0" t="6251" r="16667" b="10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" y="1676520"/>
            <a:ext cx="2666880" cy="6094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a50021"/>
                </a:solidFill>
                <a:latin typeface="Arial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362320"/>
            <a:ext cx="2666880" cy="4190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Arial"/>
              </a:rPr>
              <a:t>N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457200"/>
            <a:ext cx="5410440" cy="1219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Arial"/>
              </a:rPr>
              <a:t>A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1676520"/>
            <a:ext cx="5410440" cy="6094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NFO ISTITUZIONA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343400"/>
            <a:ext cx="5410440" cy="14479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PRODOTTI/SERVIZ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5791320"/>
            <a:ext cx="3353040" cy="3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SERVIZI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04920"/>
            <a:ext cx="2666880" cy="3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LIN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095880"/>
            <a:ext cx="1600200" cy="3049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6095880"/>
            <a:ext cx="221004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Symbol"/>
                <a:ea typeface="Symbol"/>
              </a:rPr>
              <a:t></a:t>
            </a:r>
            <a:r>
              <a:rPr b="1" lang="it-IT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9900"/>
                </a:solidFill>
                <a:latin typeface="Arial"/>
              </a:rPr>
              <a:t>E </a:t>
            </a: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CRED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Uso dello spazio nella home p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20030210_homepage_realestate" descr="Pie chart of homepage screen space use, visualizing the percentages in the above list"/>
          <p:cNvPicPr/>
          <p:nvPr/>
        </p:nvPicPr>
        <p:blipFill>
          <a:blip r:embed="rId1"/>
          <a:stretch/>
        </p:blipFill>
        <p:spPr>
          <a:xfrm>
            <a:off x="2133720" y="13716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6248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akob Nielsen, 2001: Analisi di 50 siti aziend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5410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11:22:04Z</dcterms:created>
  <dc:creator>Roberto Polillo</dc:creator>
  <dc:description/>
  <dc:language>en-US</dc:language>
  <cp:lastModifiedBy>rpolillo</cp:lastModifiedBy>
  <dcterms:modified xsi:type="dcterms:W3CDTF">2003-04-25T20:56:04Z</dcterms:modified>
  <cp:revision>638</cp:revision>
  <dc:subject/>
  <dc:title>No Slide Title</dc:title>
</cp:coreProperties>
</file>