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F5F-05FD-4C5E-A472-B45B9BD1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5BC-101A-4BF3-8A64-7585B6E0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1F7-A4CD-4698-9E20-309D3917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767-0F70-439B-BBA1-A6F7F17A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458-E8A5-4BCE-8290-5F66881A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3E3-5E84-49D2-BB3A-CB6958DD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388-4729-443C-B74C-47437323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4FF-1C34-4CB9-ACDA-B9F95A4C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870-ECA4-4DD9-9605-ED4F9899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6AC-69A6-43F5-87CB-E35ACB3C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52A-4685-4F07-B508-5E005EA1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C75-89C7-4E78-A804-1389ADC5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90A5-C284-45A9-B281-E344CBD39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RODUZIONE AL WE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Domain Name System (DNS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 insieme di convenzioni per dare a ogni computer connesso a internet un nome mnemonico associato a un indirizzo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90720" y="4267080"/>
            <a:ext cx="74674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venus.disco.unimib.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514600" y="5302080"/>
            <a:ext cx="3809880" cy="674640"/>
            <a:chOff x="2514600" y="5302080"/>
            <a:chExt cx="3809880" cy="674640"/>
          </a:xfrm>
        </p:grpSpPr>
        <p:sp>
          <p:nvSpPr>
            <p:cNvPr id="334" name=""/>
            <p:cNvSpPr/>
            <p:nvPr/>
          </p:nvSpPr>
          <p:spPr>
            <a:xfrm>
              <a:off x="4114800" y="533412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ome del dominio</a:t>
              </a:r>
              <a:br>
                <a:rPr sz="1800"/>
              </a:b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a più livell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530208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ome del 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14800" y="5334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53341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pertest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362320" y="1447920"/>
          <a:ext cx="4478040" cy="406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447920"/>
                    <a:ext cx="44780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781680" y="457200"/>
            <a:ext cx="1676520" cy="685800"/>
          </a:xfrm>
          <a:prstGeom prst="wedgeRoundRectCallout">
            <a:avLst>
              <a:gd name="adj1" fmla="val -195833"/>
              <a:gd name="adj2" fmla="val 154398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g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1219320"/>
            <a:ext cx="1676520" cy="685800"/>
          </a:xfrm>
          <a:prstGeom prst="wedgeRoundRectCallout">
            <a:avLst>
              <a:gd name="adj1" fmla="val -214300"/>
              <a:gd name="adj2" fmla="val 163425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l world wide we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a particolare applicazione di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idea ba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chiviare pagine di ipertesto su computer in Interne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mettendo di linkarle fra loro, (indipendendente-mente dalla loro collocazione)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mettendone l’accesso da qualunque computer in Intern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ecificandone soltanto un nome simbolico, detto URL (Uniform Resource Loc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l world wide we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143000" y="2216160"/>
          <a:ext cx="7143840" cy="273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16160"/>
                    <a:ext cx="714384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8" name=""/>
          <p:cNvGrpSpPr/>
          <p:nvPr/>
        </p:nvGrpSpPr>
        <p:grpSpPr>
          <a:xfrm>
            <a:off x="6857640" y="2743200"/>
            <a:ext cx="1676880" cy="3516480"/>
            <a:chOff x="6857640" y="2743200"/>
            <a:chExt cx="1676880" cy="3516480"/>
          </a:xfrm>
        </p:grpSpPr>
        <p:pic>
          <p:nvPicPr>
            <p:cNvPr id="349" name="" descr=""/>
            <p:cNvPicPr/>
            <p:nvPr/>
          </p:nvPicPr>
          <p:blipFill>
            <a:blip r:embed="rId3"/>
            <a:srcRect l="805" t="16670" r="37288" b="3765"/>
            <a:stretch/>
          </p:blipFill>
          <p:spPr>
            <a:xfrm>
              <a:off x="6858000" y="4648320"/>
              <a:ext cx="1676520" cy="16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50" name=""/>
            <p:cNvSpPr/>
            <p:nvPr/>
          </p:nvSpPr>
          <p:spPr>
            <a:xfrm flipH="1">
              <a:off x="6857640" y="2819520"/>
              <a:ext cx="6094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6080" y="2743200"/>
              <a:ext cx="762120" cy="18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743200" y="2666880"/>
            <a:ext cx="2057400" cy="160020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14600" y="2971800"/>
            <a:ext cx="228600" cy="129528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3429000"/>
            <a:ext cx="1752480" cy="83808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95280" y="5715000"/>
            <a:ext cx="1676520" cy="457200"/>
          </a:xfrm>
          <a:prstGeom prst="wedgeRectCallout">
            <a:avLst>
              <a:gd name="adj1" fmla="val 59657"/>
              <a:gd name="adj2" fmla="val -30208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gina (f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29000" y="5486400"/>
            <a:ext cx="1676520" cy="457200"/>
          </a:xfrm>
          <a:prstGeom prst="wedgeRectCallout">
            <a:avLst>
              <a:gd name="adj1" fmla="val -29356"/>
              <a:gd name="adj2" fmla="val -292708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38240" y="123840"/>
            <a:ext cx="9005760" cy="67341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324480" y="4724280"/>
            <a:ext cx="2057400" cy="457200"/>
          </a:xfrm>
          <a:prstGeom prst="wedgeRectCallout">
            <a:avLst>
              <a:gd name="adj1" fmla="val -61263"/>
              <a:gd name="adj2" fmla="val 18576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o a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3276720"/>
            <a:ext cx="2362320" cy="457200"/>
          </a:xfrm>
          <a:prstGeom prst="wedgeRectCallout">
            <a:avLst>
              <a:gd name="adj1" fmla="val -93143"/>
              <a:gd name="adj2" fmla="val 208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agine  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2362320"/>
            <a:ext cx="1600200" cy="380880"/>
          </a:xfrm>
          <a:prstGeom prst="wedgeRectCallout">
            <a:avLst>
              <a:gd name="adj1" fmla="val 38592"/>
              <a:gd name="adj2" fmla="val -30875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9000" y="2362320"/>
            <a:ext cx="1600200" cy="380880"/>
          </a:xfrm>
          <a:prstGeom prst="wedgeRectCallout">
            <a:avLst>
              <a:gd name="adj1" fmla="val -87101"/>
              <a:gd name="adj2" fmla="val -20708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form Resource Locator (UR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i pagina web viene identificata specificandone il “contenitore”, cioè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l nome del computer che la contien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l nome del file all’interno di tal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emp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ttp://www.rpolillo.it/corso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286000" y="5683320"/>
            <a:ext cx="5562720" cy="490680"/>
            <a:chOff x="2286000" y="5683320"/>
            <a:chExt cx="5562720" cy="490680"/>
          </a:xfrm>
        </p:grpSpPr>
        <p:grpSp>
          <p:nvGrpSpPr>
            <p:cNvPr id="366" name=""/>
            <p:cNvGrpSpPr/>
            <p:nvPr/>
          </p:nvGrpSpPr>
          <p:grpSpPr>
            <a:xfrm>
              <a:off x="2286000" y="5699160"/>
              <a:ext cx="2362320" cy="474840"/>
              <a:chOff x="2286000" y="5699160"/>
              <a:chExt cx="2362320" cy="474840"/>
            </a:xfrm>
          </p:grpSpPr>
          <p:sp>
            <p:nvSpPr>
              <p:cNvPr id="367" name=""/>
              <p:cNvSpPr/>
              <p:nvPr/>
            </p:nvSpPr>
            <p:spPr>
              <a:xfrm>
                <a:off x="2286000" y="5699160"/>
                <a:ext cx="236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86000" y="5775120"/>
                <a:ext cx="23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Arial"/>
                  </a:rPr>
                  <a:t>nome del domini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4952880" y="5683320"/>
              <a:ext cx="2895840" cy="398880"/>
              <a:chOff x="4952880" y="5683320"/>
              <a:chExt cx="2895840" cy="398880"/>
            </a:xfrm>
          </p:grpSpPr>
          <p:sp>
            <p:nvSpPr>
              <p:cNvPr id="370" name=""/>
              <p:cNvSpPr/>
              <p:nvPr/>
            </p:nvSpPr>
            <p:spPr>
              <a:xfrm>
                <a:off x="4952880" y="5683320"/>
                <a:ext cx="281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Arial"/>
                  </a:rPr>
                  <a:t>nome del fi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952880" y="5699160"/>
                <a:ext cx="2895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l linguaggio HT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gni file (pagina web) contiene, oltre al suo contenuto informativo, anche delle “meta-informazioni” che specificano come visualizzare tali conten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este sono scritte in un linguaggio denominato “HyperText Markup Language” (HT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l protocollo HTT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HyperText Transfer Protocol”: le regole che governano il trasferimento di pagine web dal computer che le archivia (“server”) al computer che le richiede (“clien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programma che sta sul computer “client”, in grado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richiedere pagine HTML (via HT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formattarle come prescritto (via HT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browser più noti sono Netscape e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l world wide web: sintes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38080" y="1828800"/>
            <a:ext cx="7315200" cy="3810240"/>
            <a:chOff x="838080" y="1828800"/>
            <a:chExt cx="7315200" cy="3810240"/>
          </a:xfrm>
        </p:grpSpPr>
        <p:sp>
          <p:nvSpPr>
            <p:cNvPr id="380" name=""/>
            <p:cNvSpPr/>
            <p:nvPr/>
          </p:nvSpPr>
          <p:spPr>
            <a:xfrm>
              <a:off x="2362320" y="4095720"/>
              <a:ext cx="480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0400" y="3124080"/>
              <a:ext cx="3352680" cy="19814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Interne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5280" y="3778200"/>
              <a:ext cx="779400" cy="5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34320" y="4349880"/>
              <a:ext cx="12189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93880" y="4719600"/>
              <a:ext cx="820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86760" y="3911760"/>
              <a:ext cx="49680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838080" y="1828800"/>
              <a:ext cx="1599840" cy="3810240"/>
              <a:chOff x="838080" y="1828800"/>
              <a:chExt cx="1599840" cy="3810240"/>
            </a:xfrm>
          </p:grpSpPr>
          <p:sp>
            <p:nvSpPr>
              <p:cNvPr id="387" name=""/>
              <p:cNvSpPr/>
              <p:nvPr/>
            </p:nvSpPr>
            <p:spPr>
              <a:xfrm>
                <a:off x="1205640" y="5272200"/>
                <a:ext cx="893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838080" y="1828800"/>
                <a:ext cx="1599840" cy="3270240"/>
                <a:chOff x="838080" y="1828800"/>
                <a:chExt cx="1599840" cy="32702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838080" y="3111480"/>
                  <a:ext cx="1465560" cy="1987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1676520" y="1828800"/>
                  <a:ext cx="761400" cy="1066320"/>
                  <a:chOff x="1676520" y="1828800"/>
                  <a:chExt cx="761400" cy="106632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1684080" y="1828800"/>
                    <a:ext cx="746280" cy="317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684080" y="2576880"/>
                    <a:ext cx="746280" cy="31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676520" y="2026080"/>
                    <a:ext cx="0" cy="645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437920" y="2026080"/>
                    <a:ext cx="0" cy="671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5" name=""/>
                <p:cNvSpPr/>
                <p:nvPr/>
              </p:nvSpPr>
              <p:spPr>
                <a:xfrm>
                  <a:off x="1981080" y="28954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96" name=""/>
          <p:cNvGrpSpPr/>
          <p:nvPr/>
        </p:nvGrpSpPr>
        <p:grpSpPr>
          <a:xfrm>
            <a:off x="1763640" y="3429000"/>
            <a:ext cx="2808360" cy="2362320"/>
            <a:chOff x="1763640" y="3429000"/>
            <a:chExt cx="2808360" cy="2362320"/>
          </a:xfrm>
        </p:grpSpPr>
        <p:grpSp>
          <p:nvGrpSpPr>
            <p:cNvPr id="397" name=""/>
            <p:cNvGrpSpPr/>
            <p:nvPr/>
          </p:nvGrpSpPr>
          <p:grpSpPr>
            <a:xfrm>
              <a:off x="1763640" y="3429000"/>
              <a:ext cx="533520" cy="1143000"/>
              <a:chOff x="1763640" y="3429000"/>
              <a:chExt cx="533520" cy="1143000"/>
            </a:xfrm>
          </p:grpSpPr>
          <p:sp>
            <p:nvSpPr>
              <p:cNvPr id="398" name=""/>
              <p:cNvSpPr/>
              <p:nvPr/>
            </p:nvSpPr>
            <p:spPr>
              <a:xfrm>
                <a:off x="1763640" y="3429000"/>
                <a:ext cx="533520" cy="8380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763640" y="4191120"/>
                <a:ext cx="533520" cy="3808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2895480" y="5181480"/>
              <a:ext cx="1676520" cy="609840"/>
            </a:xfrm>
            <a:prstGeom prst="wedgeRoundRectCallout">
              <a:avLst>
                <a:gd name="adj1" fmla="val -95361"/>
                <a:gd name="adj2" fmla="val -223439"/>
                <a:gd name="adj3" fmla="val 16667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eb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133720" y="1600200"/>
            <a:ext cx="2570760" cy="1371600"/>
            <a:chOff x="2133720" y="1600200"/>
            <a:chExt cx="2570760" cy="1371600"/>
          </a:xfrm>
        </p:grpSpPr>
        <p:grpSp>
          <p:nvGrpSpPr>
            <p:cNvPr id="402" name=""/>
            <p:cNvGrpSpPr/>
            <p:nvPr/>
          </p:nvGrpSpPr>
          <p:grpSpPr>
            <a:xfrm>
              <a:off x="2133720" y="1676520"/>
              <a:ext cx="1295280" cy="1295280"/>
              <a:chOff x="2133720" y="1676520"/>
              <a:chExt cx="1295280" cy="1295280"/>
            </a:xfrm>
          </p:grpSpPr>
          <p:sp>
            <p:nvSpPr>
              <p:cNvPr id="403" name=""/>
              <p:cNvSpPr/>
              <p:nvPr/>
            </p:nvSpPr>
            <p:spPr>
              <a:xfrm>
                <a:off x="2133720" y="1676520"/>
                <a:ext cx="1295280" cy="129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2438280" y="1905120"/>
                <a:ext cx="761760" cy="914400"/>
                <a:chOff x="2438280" y="1905120"/>
                <a:chExt cx="761760" cy="9144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438280" y="19051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438280" y="205740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438280" y="220968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438280" y="23623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438280" y="251460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438280" y="266688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438280" y="28195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2" name=""/>
            <p:cNvSpPr/>
            <p:nvPr/>
          </p:nvSpPr>
          <p:spPr>
            <a:xfrm>
              <a:off x="3429360" y="1600200"/>
              <a:ext cx="127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File 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625760" y="2438280"/>
            <a:ext cx="7289640" cy="2273400"/>
            <a:chOff x="1625760" y="2438280"/>
            <a:chExt cx="7289640" cy="2273400"/>
          </a:xfrm>
        </p:grpSpPr>
        <p:pic>
          <p:nvPicPr>
            <p:cNvPr id="414" name="" descr=""/>
            <p:cNvPicPr/>
            <p:nvPr/>
          </p:nvPicPr>
          <p:blipFill>
            <a:blip r:embed="rId1"/>
            <a:srcRect l="805" t="16670" r="37288" b="3765"/>
            <a:stretch/>
          </p:blipFill>
          <p:spPr>
            <a:xfrm>
              <a:off x="7467480" y="2514600"/>
              <a:ext cx="1447920" cy="1392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15" name=""/>
            <p:cNvSpPr/>
            <p:nvPr/>
          </p:nvSpPr>
          <p:spPr>
            <a:xfrm>
              <a:off x="1625760" y="2438280"/>
              <a:ext cx="6756120" cy="2273400"/>
            </a:xfrm>
            <a:custGeom>
              <a:avLst/>
              <a:gdLst/>
              <a:ahLst/>
              <a:rect l="l" t="t" r="r" b="b"/>
              <a:pathLst>
                <a:path w="4256" h="1432">
                  <a:moveTo>
                    <a:pt x="608" y="0"/>
                  </a:moveTo>
                  <a:cubicBezTo>
                    <a:pt x="352" y="276"/>
                    <a:pt x="96" y="552"/>
                    <a:pt x="80" y="768"/>
                  </a:cubicBezTo>
                  <a:cubicBezTo>
                    <a:pt x="64" y="984"/>
                    <a:pt x="0" y="1200"/>
                    <a:pt x="512" y="1296"/>
                  </a:cubicBezTo>
                  <a:cubicBezTo>
                    <a:pt x="1024" y="1392"/>
                    <a:pt x="2528" y="1432"/>
                    <a:pt x="3152" y="1344"/>
                  </a:cubicBezTo>
                  <a:cubicBezTo>
                    <a:pt x="3776" y="1256"/>
                    <a:pt x="4016" y="1012"/>
                    <a:pt x="4256" y="768"/>
                  </a:cubicBezTo>
                </a:path>
              </a:pathLst>
            </a:custGeom>
            <a:noFill/>
            <a:ln w="7632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791320" y="2590920"/>
            <a:ext cx="1676160" cy="1676160"/>
            <a:chOff x="5791320" y="2590920"/>
            <a:chExt cx="1676160" cy="1676160"/>
          </a:xfrm>
        </p:grpSpPr>
        <p:sp>
          <p:nvSpPr>
            <p:cNvPr id="417" name=""/>
            <p:cNvSpPr/>
            <p:nvPr/>
          </p:nvSpPr>
          <p:spPr>
            <a:xfrm>
              <a:off x="7162920" y="3809880"/>
              <a:ext cx="152280" cy="4572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91320" y="2590920"/>
              <a:ext cx="1676160" cy="609480"/>
            </a:xfrm>
            <a:prstGeom prst="wedgeRoundRectCallout">
              <a:avLst>
                <a:gd name="adj1" fmla="val 35509"/>
                <a:gd name="adj2" fmla="val 174481"/>
                <a:gd name="adj3" fmla="val 16667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brow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6019920" y="5181480"/>
            <a:ext cx="2590560" cy="457200"/>
          </a:xfrm>
          <a:prstGeom prst="wedgeRoundRectCallout">
            <a:avLst>
              <a:gd name="adj1" fmla="val -52449"/>
              <a:gd name="adj2" fmla="val -186111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l protocollo: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968480" y="2743200"/>
            <a:ext cx="5270400" cy="1752480"/>
            <a:chOff x="1968480" y="2743200"/>
            <a:chExt cx="5270400" cy="1752480"/>
          </a:xfrm>
        </p:grpSpPr>
        <p:sp>
          <p:nvSpPr>
            <p:cNvPr id="421" name=""/>
            <p:cNvSpPr/>
            <p:nvPr/>
          </p:nvSpPr>
          <p:spPr>
            <a:xfrm>
              <a:off x="1968480" y="2743200"/>
              <a:ext cx="5270400" cy="1752480"/>
            </a:xfrm>
            <a:custGeom>
              <a:avLst/>
              <a:gdLst/>
              <a:ahLst/>
              <a:rect l="l" t="t" r="r" b="b"/>
              <a:pathLst>
                <a:path w="3320" h="1104">
                  <a:moveTo>
                    <a:pt x="3320" y="816"/>
                  </a:moveTo>
                  <a:cubicBezTo>
                    <a:pt x="3044" y="868"/>
                    <a:pt x="2768" y="920"/>
                    <a:pt x="2552" y="960"/>
                  </a:cubicBezTo>
                  <a:cubicBezTo>
                    <a:pt x="2336" y="1000"/>
                    <a:pt x="2264" y="1040"/>
                    <a:pt x="2024" y="1056"/>
                  </a:cubicBezTo>
                  <a:cubicBezTo>
                    <a:pt x="1784" y="1072"/>
                    <a:pt x="1424" y="1104"/>
                    <a:pt x="1112" y="1056"/>
                  </a:cubicBezTo>
                  <a:cubicBezTo>
                    <a:pt x="800" y="1008"/>
                    <a:pt x="304" y="888"/>
                    <a:pt x="152" y="768"/>
                  </a:cubicBezTo>
                  <a:cubicBezTo>
                    <a:pt x="0" y="648"/>
                    <a:pt x="128" y="464"/>
                    <a:pt x="200" y="336"/>
                  </a:cubicBezTo>
                  <a:cubicBezTo>
                    <a:pt x="272" y="208"/>
                    <a:pt x="428" y="104"/>
                    <a:pt x="584" y="0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24480" y="3733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cc0000"/>
                  </a:solidFill>
                  <a:latin typeface="Arial"/>
                </a:rPr>
                <a:t>U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A19-AB87-4D0E-BAF6-5B8BBB4883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m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880" y="1501560"/>
            <a:ext cx="79423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l web: nozioni tecniche di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iffusione del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ipologia dei siti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se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assunto sigle da ricord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Nam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xt Transfer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ML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xt Markup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c00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858000" cy="487656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ffusione del we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Nascita del we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rescita del we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Count_WWW" descr="WWW Growth Chart"/>
          <p:cNvPicPr/>
          <p:nvPr/>
        </p:nvPicPr>
        <p:blipFill>
          <a:blip r:embed="rId1"/>
          <a:stretch/>
        </p:blipFill>
        <p:spPr>
          <a:xfrm>
            <a:off x="380880" y="2197080"/>
            <a:ext cx="83059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Utenti Internet, ogg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219320" y="1828800"/>
          <a:ext cx="6858000" cy="364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685800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533520" y="58672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urce: www.nua.ie/surveys  - Sept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457200" y="958680"/>
          <a:ext cx="7697880" cy="49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769788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228600" y="380880"/>
            <a:ext cx="38098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Users (Mill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5562720"/>
            <a:ext cx="580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 IDC Internet Commerce Market Model, V7.3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914400" y="1219320"/>
            <a:ext cx="5410080" cy="3504960"/>
            <a:chOff x="914400" y="1219320"/>
            <a:chExt cx="5410080" cy="3504960"/>
          </a:xfrm>
        </p:grpSpPr>
        <p:sp>
          <p:nvSpPr>
            <p:cNvPr id="441" name=""/>
            <p:cNvSpPr/>
            <p:nvPr/>
          </p:nvSpPr>
          <p:spPr>
            <a:xfrm flipV="1">
              <a:off x="5562720" y="1219320"/>
              <a:ext cx="0" cy="3504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14400" y="2209680"/>
              <a:ext cx="54100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24520" y="213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rcRect l="36391" t="40326" r="14201" b="22046"/>
          <a:stretch/>
        </p:blipFill>
        <p:spPr>
          <a:xfrm>
            <a:off x="304920" y="1027080"/>
            <a:ext cx="8610480" cy="47642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c00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858000" cy="48765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pologia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i siti we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rigine / destinazione della cpmun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lassificazione dei siti we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219320" y="2438280"/>
            <a:ext cx="6858000" cy="3657600"/>
            <a:chOff x="1219320" y="2438280"/>
            <a:chExt cx="6858000" cy="3657600"/>
          </a:xfrm>
        </p:grpSpPr>
        <p:grpSp>
          <p:nvGrpSpPr>
            <p:cNvPr id="451" name=""/>
            <p:cNvGrpSpPr/>
            <p:nvPr/>
          </p:nvGrpSpPr>
          <p:grpSpPr>
            <a:xfrm>
              <a:off x="1219320" y="2438280"/>
              <a:ext cx="6858000" cy="3657600"/>
              <a:chOff x="1219320" y="2438280"/>
              <a:chExt cx="6858000" cy="365760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1905120" y="2438280"/>
                <a:ext cx="5486400" cy="3657600"/>
                <a:chOff x="1905120" y="2438280"/>
                <a:chExt cx="5486400" cy="36576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2743200" y="5333760"/>
                  <a:ext cx="762120" cy="762120"/>
                </a:xfrm>
                <a:prstGeom prst="ellipse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8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1905120" y="2438280"/>
                  <a:ext cx="5486400" cy="2590200"/>
                  <a:chOff x="1905120" y="2438280"/>
                  <a:chExt cx="5486400" cy="2590200"/>
                </a:xfrm>
              </p:grpSpPr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1905120" y="3809520"/>
                    <a:ext cx="1600200" cy="1218960"/>
                    <a:chOff x="1905120" y="3809520"/>
                    <a:chExt cx="1600200" cy="121896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1905120" y="3809520"/>
                      <a:ext cx="1218960" cy="1218960"/>
                    </a:xfrm>
                    <a:prstGeom prst="ellipse">
                      <a:avLst/>
                    </a:prstGeom>
                    <a:noFill/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2743200" y="4037760"/>
                      <a:ext cx="762120" cy="761760"/>
                    </a:xfrm>
                    <a:prstGeom prst="ellipse">
                      <a:avLst/>
                    </a:pr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5791320" y="3809520"/>
                    <a:ext cx="1600200" cy="1218960"/>
                    <a:chOff x="5791320" y="3809520"/>
                    <a:chExt cx="1600200" cy="1218960"/>
                  </a:xfrm>
                </p:grpSpPr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72200" y="3809520"/>
                      <a:ext cx="1219320" cy="1218960"/>
                    </a:xfrm>
                    <a:prstGeom prst="ellipse">
                      <a:avLst/>
                    </a:prstGeom>
                    <a:noFill/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5791320" y="4037760"/>
                      <a:ext cx="762120" cy="761760"/>
                    </a:xfrm>
                    <a:prstGeom prst="ellipse">
                      <a:avLst/>
                    </a:pr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1" name=""/>
                  <p:cNvSpPr/>
                  <p:nvPr/>
                </p:nvSpPr>
                <p:spPr>
                  <a:xfrm>
                    <a:off x="4267440" y="2438280"/>
                    <a:ext cx="762120" cy="7617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8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876920" y="3047400"/>
                    <a:ext cx="1067040" cy="10666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>
                    <a:off x="3276720" y="3047400"/>
                    <a:ext cx="1067040" cy="10666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4" name=""/>
                <p:cNvSpPr/>
                <p:nvPr/>
              </p:nvSpPr>
              <p:spPr>
                <a:xfrm>
                  <a:off x="3124080" y="4800240"/>
                  <a:ext cx="0" cy="533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1219320" y="3276360"/>
                <a:ext cx="6858000" cy="1999080"/>
                <a:chOff x="1219320" y="3276360"/>
                <a:chExt cx="6858000" cy="199908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3048120" y="487656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993300"/>
                      </a:solidFill>
                      <a:latin typeface="Arial"/>
                    </a:rPr>
                    <a:t>B2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219320" y="419076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993300"/>
                      </a:solidFill>
                      <a:latin typeface="Arial"/>
                    </a:rPr>
                    <a:t>B2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124080" y="3276360"/>
                  <a:ext cx="76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993300"/>
                      </a:solidFill>
                      <a:latin typeface="Arial"/>
                    </a:rPr>
                    <a:t>G2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334120" y="327636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993300"/>
                      </a:solidFill>
                      <a:latin typeface="Arial"/>
                    </a:rPr>
                    <a:t>G2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315200" y="4174920"/>
                  <a:ext cx="76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993300"/>
                      </a:solidFill>
                      <a:latin typeface="Arial"/>
                    </a:rPr>
                    <a:t>C2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1" name=""/>
            <p:cNvSpPr/>
            <p:nvPr/>
          </p:nvSpPr>
          <p:spPr>
            <a:xfrm>
              <a:off x="3505320" y="4419360"/>
              <a:ext cx="228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91120" y="44193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93300"/>
                  </a:solidFill>
                  <a:latin typeface="Arial"/>
                </a:rPr>
                <a:t>B2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4038480" y="3809880"/>
            <a:ext cx="1828800" cy="259092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ti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tituzional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rtal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-commer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w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3962520"/>
            <a:ext cx="1524240" cy="243828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rta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3733920"/>
            <a:ext cx="1523880" cy="205740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xtra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733920"/>
            <a:ext cx="1523880" cy="205740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ti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sonal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unità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514600" y="2209680"/>
            <a:ext cx="4267080" cy="160020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-govern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c00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858000" cy="48765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semp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c00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858000" cy="487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l web:   nozioni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 tecniche di ba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Esemp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 sito aziendale istitu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 Enterprise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 portale consu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empi di web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Reti di compu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669760" y="2225880"/>
            <a:ext cx="4960800" cy="2058840"/>
            <a:chOff x="2669760" y="2225880"/>
            <a:chExt cx="4960800" cy="2058840"/>
          </a:xfrm>
        </p:grpSpPr>
        <p:sp>
          <p:nvSpPr>
            <p:cNvPr id="51" name=""/>
            <p:cNvSpPr/>
            <p:nvPr/>
          </p:nvSpPr>
          <p:spPr>
            <a:xfrm rot="11154000">
              <a:off x="2711520" y="2970000"/>
              <a:ext cx="4876920" cy="106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789240" y="2849760"/>
              <a:ext cx="19080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811120" y="2656800"/>
              <a:ext cx="39240" cy="3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4865040" y="2554920"/>
              <a:ext cx="36720" cy="38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3955320" y="2460960"/>
              <a:ext cx="28800" cy="46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1154000">
              <a:off x="6906960" y="27018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1154000">
              <a:off x="5785560" y="243252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1154000">
              <a:off x="4724640" y="23230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1154000">
              <a:off x="3890880" y="223704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ollegamento di reti di compu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066680" y="4419720"/>
            <a:ext cx="4876920" cy="1676160"/>
            <a:chOff x="1066680" y="4419720"/>
            <a:chExt cx="4876920" cy="1676160"/>
          </a:xfrm>
        </p:grpSpPr>
        <p:sp>
          <p:nvSpPr>
            <p:cNvPr id="62" name=""/>
            <p:cNvSpPr/>
            <p:nvPr/>
          </p:nvSpPr>
          <p:spPr>
            <a:xfrm>
              <a:off x="1066680" y="4419720"/>
              <a:ext cx="4876920" cy="106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752120" y="5410080"/>
              <a:ext cx="15228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54864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5486400"/>
              <a:ext cx="76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541008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00200" y="57150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8672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9880" y="58672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7960" y="58672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669760" y="2225880"/>
            <a:ext cx="4960800" cy="2058840"/>
            <a:chOff x="2669760" y="2225880"/>
            <a:chExt cx="4960800" cy="2058840"/>
          </a:xfrm>
        </p:grpSpPr>
        <p:sp>
          <p:nvSpPr>
            <p:cNvPr id="72" name=""/>
            <p:cNvSpPr/>
            <p:nvPr/>
          </p:nvSpPr>
          <p:spPr>
            <a:xfrm rot="11154000">
              <a:off x="2711520" y="2970000"/>
              <a:ext cx="4876920" cy="106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789240" y="2849760"/>
              <a:ext cx="19080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811120" y="2656800"/>
              <a:ext cx="39240" cy="3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4865040" y="2554920"/>
              <a:ext cx="36720" cy="38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3955320" y="2460960"/>
              <a:ext cx="28800" cy="46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1154000">
              <a:off x="6906960" y="27018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1154000">
              <a:off x="5785560" y="243252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1154000">
              <a:off x="4724640" y="23230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1154000">
              <a:off x="3890880" y="223704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133720" y="3352680"/>
            <a:ext cx="1752480" cy="1219320"/>
            <a:chOff x="2133720" y="3352680"/>
            <a:chExt cx="1752480" cy="1219320"/>
          </a:xfrm>
        </p:grpSpPr>
        <p:sp>
          <p:nvSpPr>
            <p:cNvPr id="82" name=""/>
            <p:cNvSpPr/>
            <p:nvPr/>
          </p:nvSpPr>
          <p:spPr>
            <a:xfrm flipH="1">
              <a:off x="2285640" y="3505320"/>
              <a:ext cx="685800" cy="990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95480" y="3429000"/>
              <a:ext cx="228600" cy="2286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3720" y="4343400"/>
              <a:ext cx="228600" cy="2286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3526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3399"/>
                  </a:solidFill>
                  <a:latin typeface="Arial"/>
                </a:rPr>
                <a:t>Ro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: una rete di ret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80360" y="3573360"/>
            <a:ext cx="2617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42200" y="174780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1960" y="143496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29000" y="196056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29080" y="512280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54440" y="5197320"/>
            <a:ext cx="26208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29240" y="4935600"/>
            <a:ext cx="263520" cy="26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03600" y="3147840"/>
            <a:ext cx="1800" cy="11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41560" y="3009960"/>
            <a:ext cx="1538280" cy="388800"/>
            <a:chOff x="3841560" y="3009960"/>
            <a:chExt cx="1538280" cy="388800"/>
          </a:xfrm>
        </p:grpSpPr>
        <p:grpSp>
          <p:nvGrpSpPr>
            <p:cNvPr id="96" name=""/>
            <p:cNvGrpSpPr/>
            <p:nvPr/>
          </p:nvGrpSpPr>
          <p:grpSpPr>
            <a:xfrm>
              <a:off x="4503600" y="3009960"/>
              <a:ext cx="876240" cy="275400"/>
              <a:chOff x="4503600" y="3009960"/>
              <a:chExt cx="876240" cy="275400"/>
            </a:xfrm>
          </p:grpSpPr>
          <p:sp>
            <p:nvSpPr>
              <p:cNvPr id="97" name=""/>
              <p:cNvSpPr/>
              <p:nvPr/>
            </p:nvSpPr>
            <p:spPr>
              <a:xfrm flipH="1">
                <a:off x="4641480" y="3009960"/>
                <a:ext cx="738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505400" y="3009960"/>
                <a:ext cx="275040" cy="275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55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5593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03600" y="3160800"/>
                <a:ext cx="1800" cy="100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4367160" y="326088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0"/>
                  </a:moveTo>
                  <a:lnTo>
                    <a:pt x="86" y="8"/>
                  </a:lnTo>
                  <a:lnTo>
                    <a:pt x="86" y="15"/>
                  </a:lnTo>
                  <a:lnTo>
                    <a:pt x="79" y="31"/>
                  </a:lnTo>
                  <a:lnTo>
                    <a:pt x="71" y="47"/>
                  </a:lnTo>
                  <a:lnTo>
                    <a:pt x="63" y="55"/>
                  </a:lnTo>
                  <a:lnTo>
                    <a:pt x="55" y="63"/>
                  </a:lnTo>
                  <a:lnTo>
                    <a:pt x="39" y="78"/>
                  </a:lnTo>
                  <a:lnTo>
                    <a:pt x="23" y="86"/>
                  </a:lnTo>
                  <a:lnTo>
                    <a:pt x="8" y="86"/>
                  </a:lnTo>
                  <a:lnTo>
                    <a:pt x="0" y="8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841560" y="3397320"/>
              <a:ext cx="525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273640" y="2592360"/>
            <a:ext cx="100080" cy="9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48160" y="3141720"/>
            <a:ext cx="100080" cy="10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780080" y="3948120"/>
            <a:ext cx="1440" cy="249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1840" y="3809880"/>
            <a:ext cx="138240" cy="138240"/>
          </a:xfrm>
          <a:custGeom>
            <a:avLst/>
            <a:gdLst/>
            <a:ahLst/>
            <a:rect l="l" t="t" r="r" b="b"/>
            <a:pathLst>
              <a:path w="87" h="87">
                <a:moveTo>
                  <a:pt x="0" y="0"/>
                </a:moveTo>
                <a:lnTo>
                  <a:pt x="8" y="0"/>
                </a:lnTo>
                <a:lnTo>
                  <a:pt x="24" y="0"/>
                </a:lnTo>
                <a:lnTo>
                  <a:pt x="39" y="8"/>
                </a:lnTo>
                <a:lnTo>
                  <a:pt x="55" y="16"/>
                </a:lnTo>
                <a:lnTo>
                  <a:pt x="63" y="24"/>
                </a:lnTo>
                <a:lnTo>
                  <a:pt x="71" y="32"/>
                </a:lnTo>
                <a:lnTo>
                  <a:pt x="79" y="47"/>
                </a:lnTo>
                <a:lnTo>
                  <a:pt x="87" y="63"/>
                </a:lnTo>
                <a:lnTo>
                  <a:pt x="87" y="79"/>
                </a:lnTo>
                <a:lnTo>
                  <a:pt x="87" y="8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28960" y="3809880"/>
            <a:ext cx="812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66960" y="3484080"/>
            <a:ext cx="136800" cy="325800"/>
            <a:chOff x="3666960" y="3484080"/>
            <a:chExt cx="136800" cy="325800"/>
          </a:xfrm>
        </p:grpSpPr>
        <p:sp>
          <p:nvSpPr>
            <p:cNvPr id="108" name=""/>
            <p:cNvSpPr/>
            <p:nvPr/>
          </p:nvSpPr>
          <p:spPr>
            <a:xfrm>
              <a:off x="3666960" y="3673440"/>
              <a:ext cx="13680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86"/>
                  </a:moveTo>
                  <a:lnTo>
                    <a:pt x="79" y="86"/>
                  </a:lnTo>
                  <a:lnTo>
                    <a:pt x="63" y="86"/>
                  </a:lnTo>
                  <a:lnTo>
                    <a:pt x="47" y="78"/>
                  </a:lnTo>
                  <a:lnTo>
                    <a:pt x="31" y="70"/>
                  </a:lnTo>
                  <a:lnTo>
                    <a:pt x="23" y="63"/>
                  </a:lnTo>
                  <a:lnTo>
                    <a:pt x="16" y="55"/>
                  </a:lnTo>
                  <a:lnTo>
                    <a:pt x="8" y="39"/>
                  </a:lnTo>
                  <a:lnTo>
                    <a:pt x="0" y="23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666960" y="3484080"/>
              <a:ext cx="1800" cy="18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135320" y="3754440"/>
            <a:ext cx="100080" cy="10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28920" y="3505320"/>
            <a:ext cx="180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5320" y="2303640"/>
            <a:ext cx="4575240" cy="243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73680" y="2496960"/>
            <a:ext cx="961920" cy="274680"/>
            <a:chOff x="3973680" y="2496960"/>
            <a:chExt cx="961920" cy="274680"/>
          </a:xfrm>
        </p:grpSpPr>
        <p:sp>
          <p:nvSpPr>
            <p:cNvPr id="114" name=""/>
            <p:cNvSpPr/>
            <p:nvPr/>
          </p:nvSpPr>
          <p:spPr>
            <a:xfrm>
              <a:off x="3973680" y="2516040"/>
              <a:ext cx="961920" cy="250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90200" y="2496960"/>
              <a:ext cx="12888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373720" y="2892600"/>
            <a:ext cx="961920" cy="279360"/>
            <a:chOff x="5373720" y="2892600"/>
            <a:chExt cx="961920" cy="279360"/>
          </a:xfrm>
        </p:grpSpPr>
        <p:sp>
          <p:nvSpPr>
            <p:cNvPr id="117" name=""/>
            <p:cNvSpPr/>
            <p:nvPr/>
          </p:nvSpPr>
          <p:spPr>
            <a:xfrm>
              <a:off x="5373720" y="2892600"/>
              <a:ext cx="961920" cy="249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90600" y="2897280"/>
              <a:ext cx="14076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335560" y="3560760"/>
            <a:ext cx="961920" cy="274680"/>
            <a:chOff x="5335560" y="3560760"/>
            <a:chExt cx="961920" cy="274680"/>
          </a:xfrm>
        </p:grpSpPr>
        <p:sp>
          <p:nvSpPr>
            <p:cNvPr id="120" name=""/>
            <p:cNvSpPr/>
            <p:nvPr/>
          </p:nvSpPr>
          <p:spPr>
            <a:xfrm>
              <a:off x="5335560" y="3567240"/>
              <a:ext cx="961920" cy="249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63240" y="3560760"/>
              <a:ext cx="11052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299120" y="4203720"/>
            <a:ext cx="961920" cy="281160"/>
            <a:chOff x="4299120" y="4203720"/>
            <a:chExt cx="961920" cy="281160"/>
          </a:xfrm>
        </p:grpSpPr>
        <p:sp>
          <p:nvSpPr>
            <p:cNvPr id="123" name=""/>
            <p:cNvSpPr/>
            <p:nvPr/>
          </p:nvSpPr>
          <p:spPr>
            <a:xfrm>
              <a:off x="4299120" y="4203720"/>
              <a:ext cx="961920" cy="250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90800" y="4210200"/>
              <a:ext cx="14076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47960" y="3835440"/>
            <a:ext cx="961920" cy="274680"/>
            <a:chOff x="2847960" y="3835440"/>
            <a:chExt cx="961920" cy="274680"/>
          </a:xfrm>
        </p:grpSpPr>
        <p:sp>
          <p:nvSpPr>
            <p:cNvPr id="126" name=""/>
            <p:cNvSpPr/>
            <p:nvPr/>
          </p:nvSpPr>
          <p:spPr>
            <a:xfrm>
              <a:off x="2847960" y="3854520"/>
              <a:ext cx="961920" cy="249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78160" y="3835440"/>
              <a:ext cx="13032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860560" y="3254400"/>
            <a:ext cx="962280" cy="281160"/>
            <a:chOff x="2860560" y="3254400"/>
            <a:chExt cx="962280" cy="281160"/>
          </a:xfrm>
        </p:grpSpPr>
        <p:sp>
          <p:nvSpPr>
            <p:cNvPr id="129" name=""/>
            <p:cNvSpPr/>
            <p:nvPr/>
          </p:nvSpPr>
          <p:spPr>
            <a:xfrm>
              <a:off x="2860560" y="3254400"/>
              <a:ext cx="962280" cy="249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90760" y="3260880"/>
              <a:ext cx="7992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6316200" y="3697200"/>
            <a:ext cx="1063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54120" y="3260880"/>
            <a:ext cx="1312560" cy="261720"/>
            <a:chOff x="1554120" y="3260880"/>
            <a:chExt cx="1312560" cy="261720"/>
          </a:xfrm>
        </p:grpSpPr>
        <p:sp>
          <p:nvSpPr>
            <p:cNvPr id="133" name=""/>
            <p:cNvSpPr/>
            <p:nvPr/>
          </p:nvSpPr>
          <p:spPr>
            <a:xfrm flipH="1">
              <a:off x="1802880" y="3397320"/>
              <a:ext cx="1063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54120" y="3260880"/>
              <a:ext cx="2620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54120" y="3260880"/>
              <a:ext cx="262080" cy="261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380360" y="357336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42200" y="1747800"/>
            <a:ext cx="2617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1960" y="1434960"/>
            <a:ext cx="26172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29000" y="1960560"/>
            <a:ext cx="2635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29080" y="5122800"/>
            <a:ext cx="2635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54440" y="5197320"/>
            <a:ext cx="26208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9240" y="4935600"/>
            <a:ext cx="262080" cy="26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653920" y="2234880"/>
            <a:ext cx="687240" cy="10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467240" y="1709280"/>
            <a:ext cx="1440" cy="8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029280" y="2022120"/>
            <a:ext cx="55080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842080" y="3835440"/>
            <a:ext cx="71280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780080" y="4471920"/>
            <a:ext cx="1440" cy="71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754360" y="4110120"/>
            <a:ext cx="600120" cy="10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954680" y="2647800"/>
            <a:ext cx="863640" cy="276120"/>
            <a:chOff x="4954680" y="2647800"/>
            <a:chExt cx="863640" cy="276120"/>
          </a:xfrm>
        </p:grpSpPr>
        <p:sp>
          <p:nvSpPr>
            <p:cNvPr id="150" name=""/>
            <p:cNvSpPr/>
            <p:nvPr/>
          </p:nvSpPr>
          <p:spPr>
            <a:xfrm>
              <a:off x="4954680" y="2647800"/>
              <a:ext cx="725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42200" y="2647800"/>
              <a:ext cx="27576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6520" y="2786040"/>
              <a:ext cx="180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 flipV="1">
            <a:off x="3657600" y="274320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7432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403848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2743200"/>
            <a:ext cx="6094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105520" y="38098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790960" y="3124080"/>
            <a:ext cx="759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3352680"/>
            <a:ext cx="76212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rizzo 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80360" y="3573360"/>
            <a:ext cx="2617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2200" y="174780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1960" y="143496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9000" y="196056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29080" y="512280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54440" y="5197320"/>
            <a:ext cx="26208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29240" y="4935600"/>
            <a:ext cx="263520" cy="26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3600" y="3147840"/>
            <a:ext cx="1800" cy="11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41560" y="3009960"/>
            <a:ext cx="1538280" cy="388800"/>
            <a:chOff x="3841560" y="3009960"/>
            <a:chExt cx="1538280" cy="388800"/>
          </a:xfrm>
        </p:grpSpPr>
        <p:grpSp>
          <p:nvGrpSpPr>
            <p:cNvPr id="171" name=""/>
            <p:cNvGrpSpPr/>
            <p:nvPr/>
          </p:nvGrpSpPr>
          <p:grpSpPr>
            <a:xfrm>
              <a:off x="4503600" y="3009960"/>
              <a:ext cx="876240" cy="275400"/>
              <a:chOff x="4503600" y="3009960"/>
              <a:chExt cx="876240" cy="275400"/>
            </a:xfrm>
          </p:grpSpPr>
          <p:sp>
            <p:nvSpPr>
              <p:cNvPr id="172" name=""/>
              <p:cNvSpPr/>
              <p:nvPr/>
            </p:nvSpPr>
            <p:spPr>
              <a:xfrm flipH="1">
                <a:off x="4641480" y="3009960"/>
                <a:ext cx="738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05400" y="3009960"/>
                <a:ext cx="275040" cy="275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55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5593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03600" y="3160800"/>
                <a:ext cx="1800" cy="100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4367160" y="326088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0"/>
                  </a:moveTo>
                  <a:lnTo>
                    <a:pt x="86" y="8"/>
                  </a:lnTo>
                  <a:lnTo>
                    <a:pt x="86" y="15"/>
                  </a:lnTo>
                  <a:lnTo>
                    <a:pt x="79" y="31"/>
                  </a:lnTo>
                  <a:lnTo>
                    <a:pt x="71" y="47"/>
                  </a:lnTo>
                  <a:lnTo>
                    <a:pt x="63" y="55"/>
                  </a:lnTo>
                  <a:lnTo>
                    <a:pt x="55" y="63"/>
                  </a:lnTo>
                  <a:lnTo>
                    <a:pt x="39" y="78"/>
                  </a:lnTo>
                  <a:lnTo>
                    <a:pt x="23" y="86"/>
                  </a:lnTo>
                  <a:lnTo>
                    <a:pt x="8" y="86"/>
                  </a:lnTo>
                  <a:lnTo>
                    <a:pt x="0" y="8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841560" y="3397320"/>
              <a:ext cx="525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273640" y="2592360"/>
            <a:ext cx="100080" cy="9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48160" y="3141720"/>
            <a:ext cx="100080" cy="10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780080" y="3948120"/>
            <a:ext cx="1440" cy="249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1840" y="3809880"/>
            <a:ext cx="138240" cy="138240"/>
          </a:xfrm>
          <a:custGeom>
            <a:avLst/>
            <a:gdLst/>
            <a:ahLst/>
            <a:rect l="l" t="t" r="r" b="b"/>
            <a:pathLst>
              <a:path w="87" h="87">
                <a:moveTo>
                  <a:pt x="0" y="0"/>
                </a:moveTo>
                <a:lnTo>
                  <a:pt x="8" y="0"/>
                </a:lnTo>
                <a:lnTo>
                  <a:pt x="24" y="0"/>
                </a:lnTo>
                <a:lnTo>
                  <a:pt x="39" y="8"/>
                </a:lnTo>
                <a:lnTo>
                  <a:pt x="55" y="16"/>
                </a:lnTo>
                <a:lnTo>
                  <a:pt x="63" y="24"/>
                </a:lnTo>
                <a:lnTo>
                  <a:pt x="71" y="32"/>
                </a:lnTo>
                <a:lnTo>
                  <a:pt x="79" y="47"/>
                </a:lnTo>
                <a:lnTo>
                  <a:pt x="87" y="63"/>
                </a:lnTo>
                <a:lnTo>
                  <a:pt x="87" y="79"/>
                </a:lnTo>
                <a:lnTo>
                  <a:pt x="87" y="8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828960" y="3809880"/>
            <a:ext cx="812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666960" y="3484080"/>
            <a:ext cx="136800" cy="325800"/>
            <a:chOff x="3666960" y="3484080"/>
            <a:chExt cx="136800" cy="325800"/>
          </a:xfrm>
        </p:grpSpPr>
        <p:sp>
          <p:nvSpPr>
            <p:cNvPr id="183" name=""/>
            <p:cNvSpPr/>
            <p:nvPr/>
          </p:nvSpPr>
          <p:spPr>
            <a:xfrm>
              <a:off x="3666960" y="3673440"/>
              <a:ext cx="13680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86"/>
                  </a:moveTo>
                  <a:lnTo>
                    <a:pt x="79" y="86"/>
                  </a:lnTo>
                  <a:lnTo>
                    <a:pt x="63" y="86"/>
                  </a:lnTo>
                  <a:lnTo>
                    <a:pt x="47" y="78"/>
                  </a:lnTo>
                  <a:lnTo>
                    <a:pt x="31" y="70"/>
                  </a:lnTo>
                  <a:lnTo>
                    <a:pt x="23" y="63"/>
                  </a:lnTo>
                  <a:lnTo>
                    <a:pt x="16" y="55"/>
                  </a:lnTo>
                  <a:lnTo>
                    <a:pt x="8" y="39"/>
                  </a:lnTo>
                  <a:lnTo>
                    <a:pt x="0" y="23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666960" y="3484080"/>
              <a:ext cx="1800" cy="18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135320" y="3754440"/>
            <a:ext cx="100080" cy="10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28920" y="3505320"/>
            <a:ext cx="180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35320" y="2303640"/>
            <a:ext cx="4575240" cy="243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973680" y="2496960"/>
            <a:ext cx="961920" cy="274680"/>
            <a:chOff x="3973680" y="2496960"/>
            <a:chExt cx="961920" cy="274680"/>
          </a:xfrm>
        </p:grpSpPr>
        <p:sp>
          <p:nvSpPr>
            <p:cNvPr id="189" name=""/>
            <p:cNvSpPr/>
            <p:nvPr/>
          </p:nvSpPr>
          <p:spPr>
            <a:xfrm>
              <a:off x="3973680" y="2516040"/>
              <a:ext cx="961920" cy="250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90200" y="2496960"/>
              <a:ext cx="12888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73720" y="2892600"/>
            <a:ext cx="961920" cy="279360"/>
            <a:chOff x="5373720" y="2892600"/>
            <a:chExt cx="961920" cy="279360"/>
          </a:xfrm>
        </p:grpSpPr>
        <p:sp>
          <p:nvSpPr>
            <p:cNvPr id="192" name=""/>
            <p:cNvSpPr/>
            <p:nvPr/>
          </p:nvSpPr>
          <p:spPr>
            <a:xfrm>
              <a:off x="5373720" y="2892600"/>
              <a:ext cx="961920" cy="249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90600" y="2897280"/>
              <a:ext cx="14076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335560" y="3560760"/>
            <a:ext cx="961920" cy="274680"/>
            <a:chOff x="5335560" y="3560760"/>
            <a:chExt cx="961920" cy="274680"/>
          </a:xfrm>
        </p:grpSpPr>
        <p:sp>
          <p:nvSpPr>
            <p:cNvPr id="195" name=""/>
            <p:cNvSpPr/>
            <p:nvPr/>
          </p:nvSpPr>
          <p:spPr>
            <a:xfrm>
              <a:off x="5335560" y="3567240"/>
              <a:ext cx="961920" cy="249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63240" y="3560760"/>
              <a:ext cx="11052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299120" y="4203720"/>
            <a:ext cx="961920" cy="281160"/>
            <a:chOff x="4299120" y="4203720"/>
            <a:chExt cx="961920" cy="281160"/>
          </a:xfrm>
        </p:grpSpPr>
        <p:sp>
          <p:nvSpPr>
            <p:cNvPr id="198" name=""/>
            <p:cNvSpPr/>
            <p:nvPr/>
          </p:nvSpPr>
          <p:spPr>
            <a:xfrm>
              <a:off x="4299120" y="4203720"/>
              <a:ext cx="961920" cy="250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90800" y="4210200"/>
              <a:ext cx="14076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847960" y="3835440"/>
            <a:ext cx="961920" cy="274680"/>
            <a:chOff x="2847960" y="3835440"/>
            <a:chExt cx="961920" cy="274680"/>
          </a:xfrm>
        </p:grpSpPr>
        <p:sp>
          <p:nvSpPr>
            <p:cNvPr id="201" name=""/>
            <p:cNvSpPr/>
            <p:nvPr/>
          </p:nvSpPr>
          <p:spPr>
            <a:xfrm>
              <a:off x="2847960" y="3854520"/>
              <a:ext cx="961920" cy="249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78160" y="3835440"/>
              <a:ext cx="13032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860560" y="3254400"/>
            <a:ext cx="962280" cy="281160"/>
            <a:chOff x="2860560" y="3254400"/>
            <a:chExt cx="962280" cy="281160"/>
          </a:xfrm>
        </p:grpSpPr>
        <p:sp>
          <p:nvSpPr>
            <p:cNvPr id="204" name=""/>
            <p:cNvSpPr/>
            <p:nvPr/>
          </p:nvSpPr>
          <p:spPr>
            <a:xfrm>
              <a:off x="2860560" y="3254400"/>
              <a:ext cx="962280" cy="249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90760" y="3260880"/>
              <a:ext cx="7992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 flipH="1">
            <a:off x="6316200" y="3697200"/>
            <a:ext cx="1063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554120" y="3260880"/>
            <a:ext cx="1312560" cy="261720"/>
            <a:chOff x="1554120" y="3260880"/>
            <a:chExt cx="1312560" cy="261720"/>
          </a:xfrm>
        </p:grpSpPr>
        <p:sp>
          <p:nvSpPr>
            <p:cNvPr id="208" name=""/>
            <p:cNvSpPr/>
            <p:nvPr/>
          </p:nvSpPr>
          <p:spPr>
            <a:xfrm flipH="1">
              <a:off x="1802880" y="3397320"/>
              <a:ext cx="1063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54120" y="3260880"/>
              <a:ext cx="2620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54120" y="3260880"/>
              <a:ext cx="262080" cy="261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380360" y="357336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42200" y="1747800"/>
            <a:ext cx="2617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1960" y="1434960"/>
            <a:ext cx="26172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29000" y="1960560"/>
            <a:ext cx="2635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9080" y="5122800"/>
            <a:ext cx="2635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54440" y="5197320"/>
            <a:ext cx="26208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9240" y="4935600"/>
            <a:ext cx="262080" cy="26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2653920" y="2234880"/>
            <a:ext cx="687240" cy="10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467240" y="1709280"/>
            <a:ext cx="1440" cy="8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029280" y="2022120"/>
            <a:ext cx="55080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842080" y="3835440"/>
            <a:ext cx="71280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780080" y="4471920"/>
            <a:ext cx="1440" cy="71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54360" y="4110120"/>
            <a:ext cx="600120" cy="10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954680" y="2647800"/>
            <a:ext cx="863640" cy="276120"/>
            <a:chOff x="4954680" y="2647800"/>
            <a:chExt cx="863640" cy="276120"/>
          </a:xfrm>
        </p:grpSpPr>
        <p:sp>
          <p:nvSpPr>
            <p:cNvPr id="225" name=""/>
            <p:cNvSpPr/>
            <p:nvPr/>
          </p:nvSpPr>
          <p:spPr>
            <a:xfrm>
              <a:off x="4954680" y="2647800"/>
              <a:ext cx="725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42200" y="2647800"/>
              <a:ext cx="27576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16520" y="2786040"/>
              <a:ext cx="180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V="1">
            <a:off x="3657600" y="274320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27432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403848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2743200"/>
            <a:ext cx="6094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105520" y="38098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790960" y="3124080"/>
            <a:ext cx="759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3352680"/>
            <a:ext cx="76212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5715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5715000"/>
            <a:ext cx="76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gni elaboratore connesso a Internet è univocamente individuato da un numero unico, detto indirizzo IP (IP= Internet Protocol), fatto di 4 interi fra 0 e 255 (32 b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2209680"/>
            <a:ext cx="2361600" cy="1295280"/>
            <a:chOff x="533520" y="2209680"/>
            <a:chExt cx="2361600" cy="1295280"/>
          </a:xfrm>
        </p:grpSpPr>
        <p:grpSp>
          <p:nvGrpSpPr>
            <p:cNvPr id="239" name=""/>
            <p:cNvGrpSpPr/>
            <p:nvPr/>
          </p:nvGrpSpPr>
          <p:grpSpPr>
            <a:xfrm>
              <a:off x="1582560" y="3243240"/>
              <a:ext cx="1312560" cy="261720"/>
              <a:chOff x="1582560" y="3243240"/>
              <a:chExt cx="1312560" cy="26172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1831320" y="3379680"/>
                <a:ext cx="10638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82560" y="3243240"/>
                <a:ext cx="262080" cy="261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582560" y="3243240"/>
                <a:ext cx="262080" cy="261720"/>
              </a:xfrm>
              <a:prstGeom prst="rect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533520" y="2209680"/>
              <a:ext cx="19047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Arial"/>
                </a:rPr>
                <a:t>Esempi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Arial"/>
                </a:rPr>
                <a:t>123.55.12.2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tocollo 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1752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regole che governano la trasmissione di messaggi su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743200"/>
            <a:ext cx="74674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file viene spezzettato in pacchetti di inform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pacchetto viene corredato di informazioni per la sua trasmissione, fra cui indirizzo IP di mittente e destina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pacchetto viene inviato singolar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singolo pacchetto può seguire strade d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tocollo IP: instradament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80360" y="3573360"/>
            <a:ext cx="2617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42200" y="174780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1960" y="143496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29000" y="196056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29080" y="512280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54440" y="5197320"/>
            <a:ext cx="26208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29240" y="4935600"/>
            <a:ext cx="263520" cy="26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03600" y="3147840"/>
            <a:ext cx="1800" cy="11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41560" y="3009960"/>
            <a:ext cx="1538280" cy="388800"/>
            <a:chOff x="3841560" y="3009960"/>
            <a:chExt cx="1538280" cy="388800"/>
          </a:xfrm>
        </p:grpSpPr>
        <p:grpSp>
          <p:nvGrpSpPr>
            <p:cNvPr id="257" name=""/>
            <p:cNvGrpSpPr/>
            <p:nvPr/>
          </p:nvGrpSpPr>
          <p:grpSpPr>
            <a:xfrm>
              <a:off x="4503600" y="3009960"/>
              <a:ext cx="876240" cy="275400"/>
              <a:chOff x="4503600" y="3009960"/>
              <a:chExt cx="876240" cy="27540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4641480" y="3009960"/>
                <a:ext cx="738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505400" y="3009960"/>
                <a:ext cx="275040" cy="275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55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5593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03600" y="3160800"/>
                <a:ext cx="1800" cy="100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367160" y="326088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0"/>
                  </a:moveTo>
                  <a:lnTo>
                    <a:pt x="86" y="8"/>
                  </a:lnTo>
                  <a:lnTo>
                    <a:pt x="86" y="15"/>
                  </a:lnTo>
                  <a:lnTo>
                    <a:pt x="79" y="31"/>
                  </a:lnTo>
                  <a:lnTo>
                    <a:pt x="71" y="47"/>
                  </a:lnTo>
                  <a:lnTo>
                    <a:pt x="63" y="55"/>
                  </a:lnTo>
                  <a:lnTo>
                    <a:pt x="55" y="63"/>
                  </a:lnTo>
                  <a:lnTo>
                    <a:pt x="39" y="78"/>
                  </a:lnTo>
                  <a:lnTo>
                    <a:pt x="23" y="86"/>
                  </a:lnTo>
                  <a:lnTo>
                    <a:pt x="8" y="86"/>
                  </a:lnTo>
                  <a:lnTo>
                    <a:pt x="0" y="8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841560" y="3397320"/>
              <a:ext cx="525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273640" y="2592360"/>
            <a:ext cx="100080" cy="9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48160" y="3141720"/>
            <a:ext cx="100080" cy="10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780080" y="3948120"/>
            <a:ext cx="1440" cy="249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41840" y="3809880"/>
            <a:ext cx="138240" cy="138240"/>
          </a:xfrm>
          <a:custGeom>
            <a:avLst/>
            <a:gdLst/>
            <a:ahLst/>
            <a:rect l="l" t="t" r="r" b="b"/>
            <a:pathLst>
              <a:path w="87" h="87">
                <a:moveTo>
                  <a:pt x="0" y="0"/>
                </a:moveTo>
                <a:lnTo>
                  <a:pt x="8" y="0"/>
                </a:lnTo>
                <a:lnTo>
                  <a:pt x="24" y="0"/>
                </a:lnTo>
                <a:lnTo>
                  <a:pt x="39" y="8"/>
                </a:lnTo>
                <a:lnTo>
                  <a:pt x="55" y="16"/>
                </a:lnTo>
                <a:lnTo>
                  <a:pt x="63" y="24"/>
                </a:lnTo>
                <a:lnTo>
                  <a:pt x="71" y="32"/>
                </a:lnTo>
                <a:lnTo>
                  <a:pt x="79" y="47"/>
                </a:lnTo>
                <a:lnTo>
                  <a:pt x="87" y="63"/>
                </a:lnTo>
                <a:lnTo>
                  <a:pt x="87" y="79"/>
                </a:lnTo>
                <a:lnTo>
                  <a:pt x="87" y="8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828960" y="3809880"/>
            <a:ext cx="812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666960" y="3484080"/>
            <a:ext cx="136800" cy="325800"/>
            <a:chOff x="3666960" y="3484080"/>
            <a:chExt cx="136800" cy="325800"/>
          </a:xfrm>
        </p:grpSpPr>
        <p:sp>
          <p:nvSpPr>
            <p:cNvPr id="269" name=""/>
            <p:cNvSpPr/>
            <p:nvPr/>
          </p:nvSpPr>
          <p:spPr>
            <a:xfrm>
              <a:off x="3666960" y="3673440"/>
              <a:ext cx="13680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86"/>
                  </a:moveTo>
                  <a:lnTo>
                    <a:pt x="79" y="86"/>
                  </a:lnTo>
                  <a:lnTo>
                    <a:pt x="63" y="86"/>
                  </a:lnTo>
                  <a:lnTo>
                    <a:pt x="47" y="78"/>
                  </a:lnTo>
                  <a:lnTo>
                    <a:pt x="31" y="70"/>
                  </a:lnTo>
                  <a:lnTo>
                    <a:pt x="23" y="63"/>
                  </a:lnTo>
                  <a:lnTo>
                    <a:pt x="16" y="55"/>
                  </a:lnTo>
                  <a:lnTo>
                    <a:pt x="8" y="39"/>
                  </a:lnTo>
                  <a:lnTo>
                    <a:pt x="0" y="23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666960" y="3484080"/>
              <a:ext cx="1800" cy="18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4135320" y="3754440"/>
            <a:ext cx="100080" cy="10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328920" y="3505320"/>
            <a:ext cx="180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35320" y="2303640"/>
            <a:ext cx="4575240" cy="243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973680" y="2496960"/>
            <a:ext cx="961920" cy="274680"/>
            <a:chOff x="3973680" y="2496960"/>
            <a:chExt cx="961920" cy="274680"/>
          </a:xfrm>
        </p:grpSpPr>
        <p:sp>
          <p:nvSpPr>
            <p:cNvPr id="275" name=""/>
            <p:cNvSpPr/>
            <p:nvPr/>
          </p:nvSpPr>
          <p:spPr>
            <a:xfrm>
              <a:off x="3973680" y="2516040"/>
              <a:ext cx="961920" cy="250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90200" y="2496960"/>
              <a:ext cx="12888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373720" y="2892600"/>
            <a:ext cx="961920" cy="279360"/>
            <a:chOff x="5373720" y="2892600"/>
            <a:chExt cx="961920" cy="279360"/>
          </a:xfrm>
        </p:grpSpPr>
        <p:sp>
          <p:nvSpPr>
            <p:cNvPr id="278" name=""/>
            <p:cNvSpPr/>
            <p:nvPr/>
          </p:nvSpPr>
          <p:spPr>
            <a:xfrm>
              <a:off x="5373720" y="2892600"/>
              <a:ext cx="961920" cy="249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0600" y="2897280"/>
              <a:ext cx="14076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335560" y="3560760"/>
            <a:ext cx="961920" cy="274680"/>
            <a:chOff x="5335560" y="3560760"/>
            <a:chExt cx="961920" cy="274680"/>
          </a:xfrm>
        </p:grpSpPr>
        <p:sp>
          <p:nvSpPr>
            <p:cNvPr id="281" name=""/>
            <p:cNvSpPr/>
            <p:nvPr/>
          </p:nvSpPr>
          <p:spPr>
            <a:xfrm>
              <a:off x="5335560" y="3567240"/>
              <a:ext cx="961920" cy="249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63240" y="3560760"/>
              <a:ext cx="11052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299120" y="4203720"/>
            <a:ext cx="961920" cy="281160"/>
            <a:chOff x="4299120" y="4203720"/>
            <a:chExt cx="961920" cy="281160"/>
          </a:xfrm>
        </p:grpSpPr>
        <p:sp>
          <p:nvSpPr>
            <p:cNvPr id="284" name=""/>
            <p:cNvSpPr/>
            <p:nvPr/>
          </p:nvSpPr>
          <p:spPr>
            <a:xfrm>
              <a:off x="4299120" y="4203720"/>
              <a:ext cx="961920" cy="250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0800" y="4210200"/>
              <a:ext cx="14076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847960" y="3835440"/>
            <a:ext cx="961920" cy="274680"/>
            <a:chOff x="2847960" y="3835440"/>
            <a:chExt cx="961920" cy="274680"/>
          </a:xfrm>
        </p:grpSpPr>
        <p:sp>
          <p:nvSpPr>
            <p:cNvPr id="287" name=""/>
            <p:cNvSpPr/>
            <p:nvPr/>
          </p:nvSpPr>
          <p:spPr>
            <a:xfrm>
              <a:off x="2847960" y="3854520"/>
              <a:ext cx="961920" cy="249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78160" y="3835440"/>
              <a:ext cx="13032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860560" y="3254400"/>
            <a:ext cx="962280" cy="281160"/>
            <a:chOff x="2860560" y="3254400"/>
            <a:chExt cx="962280" cy="281160"/>
          </a:xfrm>
        </p:grpSpPr>
        <p:sp>
          <p:nvSpPr>
            <p:cNvPr id="290" name=""/>
            <p:cNvSpPr/>
            <p:nvPr/>
          </p:nvSpPr>
          <p:spPr>
            <a:xfrm>
              <a:off x="2860560" y="3254400"/>
              <a:ext cx="962280" cy="249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90760" y="3260880"/>
              <a:ext cx="79920" cy="274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 flipH="1">
            <a:off x="6316200" y="3697200"/>
            <a:ext cx="1063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554120" y="3260880"/>
            <a:ext cx="1312560" cy="261720"/>
            <a:chOff x="1554120" y="3260880"/>
            <a:chExt cx="1312560" cy="261720"/>
          </a:xfrm>
        </p:grpSpPr>
        <p:sp>
          <p:nvSpPr>
            <p:cNvPr id="294" name=""/>
            <p:cNvSpPr/>
            <p:nvPr/>
          </p:nvSpPr>
          <p:spPr>
            <a:xfrm flipH="1">
              <a:off x="1802880" y="3397320"/>
              <a:ext cx="1063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54120" y="3260880"/>
              <a:ext cx="2620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54120" y="3260880"/>
              <a:ext cx="262080" cy="261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7380360" y="357336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42200" y="1747800"/>
            <a:ext cx="2617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1960" y="1434960"/>
            <a:ext cx="26172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29000" y="1960560"/>
            <a:ext cx="2635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29080" y="5122800"/>
            <a:ext cx="2635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4440" y="5197320"/>
            <a:ext cx="26208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29240" y="4935600"/>
            <a:ext cx="262080" cy="26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653920" y="2234880"/>
            <a:ext cx="687240" cy="10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467240" y="1709280"/>
            <a:ext cx="1440" cy="8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6029280" y="2022120"/>
            <a:ext cx="55080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5842080" y="3835440"/>
            <a:ext cx="71280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780080" y="4471920"/>
            <a:ext cx="1440" cy="71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754360" y="4110120"/>
            <a:ext cx="600120" cy="10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954680" y="2647800"/>
            <a:ext cx="863640" cy="276120"/>
            <a:chOff x="4954680" y="2647800"/>
            <a:chExt cx="863640" cy="276120"/>
          </a:xfrm>
        </p:grpSpPr>
        <p:sp>
          <p:nvSpPr>
            <p:cNvPr id="311" name=""/>
            <p:cNvSpPr/>
            <p:nvPr/>
          </p:nvSpPr>
          <p:spPr>
            <a:xfrm>
              <a:off x="4954680" y="2647800"/>
              <a:ext cx="725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42200" y="2647800"/>
              <a:ext cx="27576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16520" y="2786040"/>
              <a:ext cx="180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 flipV="1">
            <a:off x="3657600" y="274320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5268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48320" y="27432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403848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76920" y="2743200"/>
            <a:ext cx="6094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5105520" y="38098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790960" y="3124080"/>
            <a:ext cx="759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3352680"/>
            <a:ext cx="76212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648320" y="4648320"/>
            <a:ext cx="152280" cy="457200"/>
            <a:chOff x="4648320" y="4648320"/>
            <a:chExt cx="152280" cy="457200"/>
          </a:xfrm>
        </p:grpSpPr>
        <p:sp>
          <p:nvSpPr>
            <p:cNvPr id="323" name=""/>
            <p:cNvSpPr/>
            <p:nvPr/>
          </p:nvSpPr>
          <p:spPr>
            <a:xfrm>
              <a:off x="4648320" y="4952880"/>
              <a:ext cx="152280" cy="152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48320" y="4800600"/>
              <a:ext cx="152280" cy="1522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48320" y="464832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419720" y="1600200"/>
            <a:ext cx="1130040" cy="3124080"/>
          </a:xfrm>
          <a:custGeom>
            <a:avLst/>
            <a:gdLst/>
            <a:ahLst/>
            <a:rect l="l" t="t" r="r" b="b"/>
            <a:pathLst>
              <a:path w="712" h="1968">
                <a:moveTo>
                  <a:pt x="240" y="1968"/>
                </a:moveTo>
                <a:cubicBezTo>
                  <a:pt x="300" y="1924"/>
                  <a:pt x="360" y="1880"/>
                  <a:pt x="432" y="1776"/>
                </a:cubicBezTo>
                <a:cubicBezTo>
                  <a:pt x="504" y="1672"/>
                  <a:pt x="712" y="1520"/>
                  <a:pt x="672" y="1344"/>
                </a:cubicBezTo>
                <a:cubicBezTo>
                  <a:pt x="632" y="1168"/>
                  <a:pt x="304" y="944"/>
                  <a:pt x="192" y="720"/>
                </a:cubicBezTo>
                <a:cubicBezTo>
                  <a:pt x="80" y="496"/>
                  <a:pt x="40" y="248"/>
                  <a:pt x="0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56080" y="1828800"/>
            <a:ext cx="1168200" cy="3048120"/>
          </a:xfrm>
          <a:custGeom>
            <a:avLst/>
            <a:gdLst/>
            <a:ahLst/>
            <a:rect l="l" t="t" r="r" b="b"/>
            <a:pathLst>
              <a:path w="736" h="1920">
                <a:moveTo>
                  <a:pt x="736" y="1920"/>
                </a:moveTo>
                <a:cubicBezTo>
                  <a:pt x="700" y="1756"/>
                  <a:pt x="664" y="1592"/>
                  <a:pt x="544" y="1440"/>
                </a:cubicBezTo>
                <a:cubicBezTo>
                  <a:pt x="424" y="1288"/>
                  <a:pt x="32" y="1168"/>
                  <a:pt x="16" y="1008"/>
                </a:cubicBezTo>
                <a:cubicBezTo>
                  <a:pt x="0" y="848"/>
                  <a:pt x="368" y="648"/>
                  <a:pt x="448" y="480"/>
                </a:cubicBezTo>
                <a:cubicBezTo>
                  <a:pt x="528" y="312"/>
                  <a:pt x="512" y="156"/>
                  <a:pt x="496" y="0"/>
                </a:cubicBezTo>
              </a:path>
            </a:pathLst>
          </a:custGeom>
          <a:noFill/>
          <a:ln w="38160">
            <a:solidFill>
              <a:srgbClr val="cc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63760" y="1981080"/>
            <a:ext cx="1384560" cy="3048120"/>
          </a:xfrm>
          <a:custGeom>
            <a:avLst/>
            <a:gdLst/>
            <a:ahLst/>
            <a:rect l="l" t="t" r="r" b="b"/>
            <a:pathLst>
              <a:path w="872" h="1920">
                <a:moveTo>
                  <a:pt x="872" y="1920"/>
                </a:moveTo>
                <a:cubicBezTo>
                  <a:pt x="864" y="1740"/>
                  <a:pt x="856" y="1560"/>
                  <a:pt x="728" y="1440"/>
                </a:cubicBezTo>
                <a:cubicBezTo>
                  <a:pt x="600" y="1320"/>
                  <a:pt x="208" y="1296"/>
                  <a:pt x="104" y="1200"/>
                </a:cubicBezTo>
                <a:cubicBezTo>
                  <a:pt x="0" y="1104"/>
                  <a:pt x="32" y="1000"/>
                  <a:pt x="104" y="864"/>
                </a:cubicBezTo>
                <a:cubicBezTo>
                  <a:pt x="176" y="728"/>
                  <a:pt x="448" y="528"/>
                  <a:pt x="536" y="384"/>
                </a:cubicBezTo>
                <a:cubicBezTo>
                  <a:pt x="624" y="240"/>
                  <a:pt x="616" y="64"/>
                  <a:pt x="632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2971800"/>
            <a:ext cx="1676520" cy="1447920"/>
          </a:xfrm>
          <a:prstGeom prst="irregularSeal1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11:22:04Z</dcterms:created>
  <dc:creator>Roberto Polillo</dc:creator>
  <dc:description/>
  <dc:language>en-US</dc:language>
  <cp:lastModifiedBy>System Manager</cp:lastModifiedBy>
  <dcterms:modified xsi:type="dcterms:W3CDTF">2003-04-29T08:48:01Z</dcterms:modified>
  <cp:revision>564</cp:revision>
  <dc:subject/>
  <dc:title>No Slide Title</dc:title>
</cp:coreProperties>
</file>